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900-8138-4A9C-8DA1-57DF3BE6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9E8-4427-43C9-9DBF-D9F0B628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FC4-F88A-4061-9569-433B2832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724-9AA8-4FD7-A6D9-D414B9A8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883-EE24-4503-82D8-6861B1CD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DB7-CC3C-45A4-ACF9-2D5511F1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C01-7ED1-4CF5-B65F-33139258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E81-8FF1-4C08-9F67-56884B26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A24-16F3-402F-8AF6-FEBD8D8C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13B-B4A6-4B6C-B34D-D17447A7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C15-6D84-4D10-A5F3-506EE1F8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7B0-BC56-4EED-BB92-C8BA219A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7779-A9D9-4B19-9AC8-4CFDE6604EFF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835280" y="2637000"/>
            <a:ext cx="4333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把耳朵叫醒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9200" y="1776240"/>
            <a:ext cx="47163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Calibri Light"/>
              </a:rPr>
              <a:t>沃尔特</a:t>
            </a:r>
            <a:r>
              <a:rPr b="1" lang="en-US" sz="4000" spc="-1" strike="noStrike">
                <a:solidFill>
                  <a:srgbClr val="c00000"/>
                </a:solidFill>
                <a:latin typeface="Calibri Light"/>
              </a:rPr>
              <a:t>.</a:t>
            </a:r>
            <a:r>
              <a:rPr b="1" lang="zh-CN" sz="4000" spc="-1" strike="noStrike">
                <a:solidFill>
                  <a:srgbClr val="c00000"/>
                </a:solidFill>
                <a:latin typeface="Calibri Light"/>
              </a:rPr>
              <a:t>迪斯尼的故事给你什么启示？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080" y="3213000"/>
            <a:ext cx="66200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只要我们用一颗热爱生活的心去感受，用眼睛细细观察，用耳朵静静倾听，就能发现在平凡甚至窘迫生活中的爱与美，获得成功的灵感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70578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c00000"/>
                </a:solidFill>
                <a:latin typeface="Calibri Light"/>
              </a:rPr>
              <a:t>作者为什么以“把耳朵叫醒”为题目？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3500280"/>
            <a:ext cx="6804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题目就是课文的主旨，该题目起到了提纲挈领，画龙点睛的作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539640" y="2514960"/>
            <a:ext cx="54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楷体_GB2312"/>
              </a:rPr>
              <a:t>结合自己对课文的理解，试着给课文另取个题目，并说说自己的理由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14280" y="458136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迪斯尼和米老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24000" y="3770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帝只给他一只米老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614520" y="1487520"/>
            <a:ext cx="8501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总结中心思想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"/>
          <p:cNvSpPr/>
          <p:nvPr/>
        </p:nvSpPr>
        <p:spPr>
          <a:xfrm>
            <a:off x="396720" y="2349360"/>
            <a:ext cx="63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只要我们用一颗热爱生活的心去感受，用眼睛细细观察，用耳朵静静倾听，就能发现在平凡甚至窘迫生活中的爱与美，就能找到获得成功的灵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5"/>
          <p:cNvSpPr txBox="1"/>
          <p:nvPr/>
        </p:nvSpPr>
        <p:spPr>
          <a:xfrm>
            <a:off x="2340000" y="3068640"/>
            <a:ext cx="374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24000" y="2565360"/>
            <a:ext cx="6696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词典读课文，理解词语在文中的意义和感情色彩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老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动画形象的创作过程，并从中受到启发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0000" y="2637000"/>
            <a:ext cx="792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朗读课文并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课文主要讲了一件什么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042920" y="17002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课文朗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 Light"/>
              </a:rPr>
              <a:t>课文主要讲了一件什么事情？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7640" y="2786040"/>
            <a:ext cx="6840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轻画家沃尔特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迪斯尼在贫困潦倒的生活境况中，善于倾听而获得艺术灵感，创作出米老鼠动画形象从而名噪全球，成为美国动画艺术片先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15640" y="1125360"/>
            <a:ext cx="8209080" cy="64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8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找出文中成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贫困潦倒  全力以赴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不敷出  听之任之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摇大摆  得意忘形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依为命  心安理得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以言传  举步维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光乍现  蜚声世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负盛名  名噪全球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50920" y="155736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贫困潦倒：因生活贫穷，经济困难而颓丧、失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赏识：认识到别人的才能或作品的价值而予以重视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扬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不敷出：收入不够开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颓然：形容败兴的样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感：突然产生的富有创造性的思路、想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68360" y="549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词语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50920" y="1700280"/>
            <a:ext cx="81374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依为命：互相依靠着生活，谁也离不开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安理得：自信事情做得合理，心里很坦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以言传：无法用言语表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举步维艰：迈步艰难，比喻事情每向前进行一步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分不容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蜚声世界：在世界上扬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55640" y="90792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词语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79280" y="320760"/>
            <a:ext cx="669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家知道这篇课文讲的是沃尔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迪斯尼创作“米老鼠”因而成名的故事，也知道“米老鼠”的创作经历了一个非常艰难的过程。请你再用心读读课文，用课文中的几个词语来概括这个艰难的过程。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427040" y="3589920"/>
            <a:ext cx="20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贫困潦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266920" y="40021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依为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297240" y="45385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举步维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268880" y="507348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灵光乍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246640" y="55879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蜚声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836640"/>
            <a:ext cx="6228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 Light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 Light"/>
              </a:rPr>
              <a:t>讨论：</a:t>
            </a: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黑体"/>
              </a:rPr>
              <a:t>为什么年轻画家沃尔特在贫困潦倒的生活境况中，还能创作出米老鼠动画形象？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1440" y="2491920"/>
            <a:ext cx="66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沃尔特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迪斯尼虽然贫困潦倒，但是他用心观察，用耳倾听，小老鼠的形象深深地印在了他的脑海里，一下灵光乍现，获得了创作的灵感，从而创作出米老鼠这一名噪全球的动画形象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03:21:02Z</dcterms:created>
  <dc:creator/>
  <dc:description/>
  <dc:language>en-US</dc:language>
  <cp:lastModifiedBy>微软用户</cp:lastModifiedBy>
  <dcterms:modified xsi:type="dcterms:W3CDTF">2016-12-12T15:27:55Z</dcterms:modified>
  <cp:revision>2</cp:revision>
  <dc:subject/>
  <dc:title/>
</cp:coreProperties>
</file>