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AC04-855F-4FB7-B409-CBC365A7E5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4A3-03A9-4EC0-AA41-225AEA9070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4F1-2747-4CA0-B37D-C74506F4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B3C-74F2-4551-B840-A2F4726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6CB-167E-4532-B8DD-52C1C0B0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96E3-B431-494B-91FD-D01C9F7D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5C2-CC4A-4EDD-85F5-9F630372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43CB-7DB6-4C89-AF25-76611CDA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317-091C-4193-8B67-9281AB2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F95-FCFD-418E-B645-4446CB24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5D8-BA73-4CCA-8E09-C05FB08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491E-4CCA-40EA-BE4E-3FB2889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1F2-744E-4E2E-82EB-3C51F5F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3D8-D97B-4444-A00A-D88ECF73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A7D7-D9A9-4608-A637-F488428AF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1203"/>
          <p:cNvSpPr txBox="1"/>
          <p:nvPr/>
        </p:nvSpPr>
        <p:spPr>
          <a:xfrm>
            <a:off x="1496880" y="2421000"/>
            <a:ext cx="640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三位数除以两位数的笔算</a:t>
            </a:r>
            <a:endParaRPr b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77827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2276640"/>
            <a:ext cx="85770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一套校服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68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元，</a:t>
            </a: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560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元最多可以订做多少套这样的校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67587"/>
          <p:cNvSpPr/>
          <p:nvPr/>
        </p:nvSpPr>
        <p:spPr>
          <a:xfrm>
            <a:off x="934200" y="1996920"/>
            <a:ext cx="789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了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8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件，平均每分钟做了多少个零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587160"/>
            <a:ext cx="209412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口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20520" y="2139480"/>
            <a:ext cx="77770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320÷80     66÷3      60×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78÷6       91÷7      13×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23×4       12×4      24×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360" y="787320"/>
            <a:ext cx="35208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竖式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560" y="2071440"/>
            <a:ext cx="748800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÷50           540÷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72707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73731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文本占位符 74755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75779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36520" y="2204640"/>
            <a:ext cx="80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小组里说一说，除数是两位数的除法可以怎样试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76803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08:46Z</dcterms:created>
  <dc:creator/>
  <dc:description/>
  <cp:keywords/>
  <dc:language>en-US</dc:language>
  <cp:lastModifiedBy>dell</cp:lastModifiedBy>
  <dcterms:modified xsi:type="dcterms:W3CDTF">2016-03-18T02:43:1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  <property fmtid="{D5CDD505-2E9C-101B-9397-08002B2CF9AE}" pid="3" name="_TemplateID">
    <vt:lpwstr>TC010721252052</vt:lpwstr>
  </property>
</Properties>
</file>