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B7A1-0F91-4CD5-A898-AC079BDE59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461D-5ECE-400C-99AB-8474F20423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4A1B-82E3-4280-BF8E-8DC8E130249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CED8-6B4F-49AA-92E3-F733A9CF23C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8F6E-CE22-4F09-BF16-1983FA8C85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2A52-60A9-4FAB-9AE9-9334598398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FFF2-23C8-4DBA-880B-169AE8FAE7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F361-D653-4C7D-9E06-D0799F7DF1F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5DF5-68AB-45F5-88F5-1AE6764C0F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5D12-9341-4DCD-B791-EC401AC504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F209-6BCB-4350-BBC7-E828DEC60C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BF51-02BE-4F59-8892-C4D4E48B6A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AE36-0647-4A0A-9BAC-FBC0323C568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9225-F844-446C-97D9-4D50632567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945-B6DC-4F49-9AD8-1F36B4A5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95B-4AAE-4DC3-B743-93AB0485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67335-AF70-4E31-B3EB-E0AFF108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325BF-FF1D-4979-BA79-96D4CCA2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8E3DD-DEEB-4BC6-84D1-34349312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5C70C-7AD5-40C2-80AA-8E26431B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7BD1F-6BED-468F-83D9-FF97072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B6118-C8AF-4E80-AC64-CD0D3F9A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AEE83-45D5-4758-A175-3834E399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81E1F-BC2C-48F2-BBDB-7F50CBDB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91C2C-478E-43B7-A8F5-5348A8A8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52DEB-0941-4E1D-82BC-DF7CF48D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AC1-B7FD-49A2-89A0-A193F84E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C35C2-754B-4005-A50E-97AE573E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23743-F37B-4DAF-8A22-D3997BC6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D3BA2-0F38-42F7-B5F3-00F0C265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40BBA-769B-4427-ABA6-AC4C7A43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4C102-0C39-43F0-871C-9E40F2E3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19AA4-638C-4DE5-9885-25F7DB67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D11F1-1A26-46DF-AF8B-BB07B666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9FDDC-63AA-4EE3-97E0-659151ED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B53EE-46A1-4702-821C-C639BF36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3EF02-3980-4136-BA30-76B3B6AC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994-5808-4DBA-AF16-799A8924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146B9-CE9A-4ED4-BB29-25FB0BAD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D21B6-8263-4F54-90D1-C702020C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3500A-A997-41C4-8660-74E20164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BA5D6-B60E-40B7-A6C1-D2D80FF2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7C123-5924-4667-A267-DF709BD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9A223-325A-41A4-A97D-219B2B6F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89CBA-5D49-4620-B282-685E1F5B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B4BB7-CF05-4C6B-B6A0-25A5CF81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73A44-F745-4EA6-B5CF-6FEDC31D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30677-A8A2-467E-9656-B5AF7AC1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0C85-7BA4-41E8-BD3D-F6813AFA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7EC4B-25AE-4D1B-8349-668B94C0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47F3D-C591-4F57-A09C-2F0FAC28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65332-A513-4166-A863-51546EDF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3D7A3-EE3C-4830-A968-4C768952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C49E1-EBE6-4985-B35A-EB1134B9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346BE-7A1D-4C39-ABD0-54BF0506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57115-AB6A-43B0-AED3-46167A2F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24BF5-6154-4159-9712-68655AC6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44475-99F4-428D-A8C0-5D8C3E6F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61EF1-B885-4548-8235-82AB1522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688A-BB7E-4344-974C-CF77787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C8522-5560-4E56-AFB4-AADC3ABC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E2D24-6243-4091-85A9-63315D2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D1A38-F370-4B1F-8CFC-1D08E7D3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45B78-A617-4B1E-A51D-78D5AFAD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4C0A0-7ADB-4017-AA01-8B629575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C7AC-5728-49FB-9589-AA1E4426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501E-F8BE-4EEA-AA42-FA5DBA9C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5B93-5647-4AC2-BF2F-9A8C1169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9104-9454-4FC8-979B-1E27DAAA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E3B7-D472-4669-A405-7FC9EEC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239-7032-45AB-95FE-94F791AC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7BA6-FE20-4570-9575-D3A4814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B4E6-4FF9-469D-8D43-790DCC72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3A20-AF64-4881-8B91-3BA63FE7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2848-9F93-4F7F-952B-42EA6385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8393-DDFC-4772-B848-412FFC77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21F0-3DA9-477D-B187-CF547ABE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A5FAF-647F-499F-903D-9E8F6841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551C-ADBD-4FC5-93D6-6B4173DD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8E368-14B7-4B86-9069-A952E5A1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96A0-3D76-4266-AA8A-09D00B8E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74B-4973-4BA8-B6B4-5F0FED45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6D9E-6EE7-447C-81BF-EC7570C0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02C5-4B76-4676-8CDC-C7213546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8877-D3A7-48BD-B5D6-66A79BF2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3C41-99DC-4A10-9589-588CFD2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B9EA9-D501-448B-871B-F3875C55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CB97-6DA3-4E8F-A14B-FAE5BAB6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BCC0-77AC-440E-8B49-5E439385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72F7-CB3C-4B23-BF5E-7C70924A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980D9-736D-406D-9F0D-221F72CC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5A15D-B620-4144-AE9F-F4DC45A7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AF0-924D-43B7-BE13-F19DC1FC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AA7A-FB90-448D-B508-EDFA158C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5017-7E30-4544-8AAA-F38404F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2E6E7-1361-4B2D-A03D-6E357D75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B77B-FD5F-4FD4-8A39-59B801A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26306-8E09-4045-9E34-1A4931BA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96B98-8317-4EC4-93A4-D27F450D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39AB-51E0-4211-B145-EE120655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9BB5E-CFE4-4DB0-8E0C-E09E72C4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6F92B-43FA-4914-B1DF-216AE702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E42FB-AE65-4661-9012-38ACC02A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9DC-3536-4BDF-AD29-9E624CBF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102EC-E83C-4A7C-BF9F-A7E5BF27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47A9B-655F-475D-BC6B-A0EECA7A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AE487-FD52-4BDA-97DB-9FE2A9D2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15B5C-AACB-4292-AD38-57742981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87D37-E6DA-4CF3-9152-326F7C1B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D4DF-BF84-4A7A-9C48-5D9A0030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64E76-4165-4AE0-BDE1-B7FEADF5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7BFC-3888-419F-888B-216A0C15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D6451-02EB-42E7-8578-B340460F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A2C4C-01AE-4557-84D4-AA6BE221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91C-5E96-4DF5-B71F-52A2EDB3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9F15D-3EC5-4F46-93C8-98265864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36842-6A75-44B2-B3E1-2B43C5EF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F47DC-FC63-47F9-A120-E670EB43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CCFBB-777B-4721-BD9C-876B7BFE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92DA9-13F4-48FF-A6F6-922C9144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C04E7-9C94-422D-976A-6CD09674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EC747-8E2A-4CF1-96F9-B28A671F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54AD0-08D8-4EC4-BD01-C14E29A8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02E1C-3887-43B8-B9E8-E1AADF3E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31E11-F6CB-4D87-9FFB-EB34BAC0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985-0688-4507-884B-AD46455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4FD03-E9B5-45F5-AE47-B2B68E84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51A12-087F-4724-A4A2-502BEBF4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CEE1B-B204-49FA-8188-B5C81362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82F96-092A-4D1E-803D-2187EBA3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E4969-33AE-4739-978D-F9583C7D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30E9A-6023-4C0A-BCA3-5DA839A1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C8C80-DA02-4F7B-AD85-F247B860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FE43E-E3BC-4590-B271-A9C8DA5D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613A5-5D85-4B43-903F-036333C4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73518-EF9C-4FAA-9507-5E4C216F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4DD-7D80-4CD2-B84D-80336EA2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5D5E9-D0E9-4C07-BBE1-1626FADE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E4BEB-516A-4BD3-81E1-77A34044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06B42-1B38-47E1-98CD-982307A1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A70B-873C-4E29-A6EB-5E225D73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F4F7B-564B-41BD-9AD6-43DEE77B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2250E-150C-4865-A2D8-5DBD40A0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253C2-6BA3-41DE-8ECD-80758972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EF8AB-5245-47C1-99E2-D4C20FC3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F9ADA-64A2-4F85-951C-46B2A6D4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CB6A1-398E-44F8-8F68-AB1E231C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F65-CD75-4F30-B01D-CB39FD5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CA65D-28EF-4022-9417-5523D02B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E076F-5E3C-4B9D-8DF3-42B6B24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FA79C-88B6-4794-9B65-654E1FF4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B1033-EF23-402A-BE17-E191754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C90D3-B411-4536-8546-312B9FA9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A22E-4727-4901-9580-3D7C11F4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72D0E-92DD-4A91-8C3B-79F21EA1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0C0DB-B227-42FC-9E13-C50B3AEC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11D2D-63DC-4615-A7CA-68D80415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CBD81-69A0-4702-8D72-9BAB312D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95FC-1594-49DA-B696-15739ADB9B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D4AE-66A0-4321-A7A0-D96FC48494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4D71-E541-46DA-9F4B-947BD84980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7CAC-DD8E-470C-80CE-26EAC36A7B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004C-C02B-4306-9EC3-75E30D589E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25F8-7240-4017-8FD3-ACD7B63BB0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46C5-FE12-403E-A4F8-2E12E2196C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6951-BD62-4AEA-BC91-0E23589169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D8FC-C94D-4AF7-AE8B-B1CE25C219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BF43-4B8E-4E9A-A983-3E298325B9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FB94-7E72-416C-81D4-50B0FEE10E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B99E-41A8-4FAA-B777-E8371E8C8E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642960" y="262584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近似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4"/>
          <p:cNvSpPr/>
          <p:nvPr/>
        </p:nvSpPr>
        <p:spPr>
          <a:xfrm>
            <a:off x="285840" y="77940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判断下面哪个数是近似数，哪个数是精确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57120" y="2082960"/>
            <a:ext cx="842976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14"/>
          <p:cNvSpPr/>
          <p:nvPr/>
        </p:nvSpPr>
        <p:spPr>
          <a:xfrm>
            <a:off x="285840" y="77940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上面的数改写成以“万”为单位的近似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0040" y="1928880"/>
            <a:ext cx="8072640" cy="3611520"/>
          </a:xfrm>
          <a:prstGeom prst="rect">
            <a:avLst/>
          </a:prstGeom>
          <a:ln w="0">
            <a:noFill/>
          </a:ln>
        </p:spPr>
      </p:pic>
      <p:sp>
        <p:nvSpPr>
          <p:cNvPr id="570" name="TextBox 6"/>
          <p:cNvSpPr/>
          <p:nvPr/>
        </p:nvSpPr>
        <p:spPr>
          <a:xfrm>
            <a:off x="642960" y="548784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679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7"/>
          <p:cNvSpPr/>
          <p:nvPr/>
        </p:nvSpPr>
        <p:spPr>
          <a:xfrm>
            <a:off x="5072040" y="5500800"/>
            <a:ext cx="328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6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14"/>
          <p:cNvSpPr/>
          <p:nvPr/>
        </p:nvSpPr>
        <p:spPr>
          <a:xfrm>
            <a:off x="285840" y="77940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上面的数改写成以“万”为单位的近似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6"/>
          <p:cNvSpPr/>
          <p:nvPr/>
        </p:nvSpPr>
        <p:spPr>
          <a:xfrm>
            <a:off x="642960" y="548784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7"/>
          <p:cNvSpPr/>
          <p:nvPr/>
        </p:nvSpPr>
        <p:spPr>
          <a:xfrm>
            <a:off x="5072040" y="55008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57120" y="2082960"/>
            <a:ext cx="842976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14"/>
          <p:cNvSpPr/>
          <p:nvPr/>
        </p:nvSpPr>
        <p:spPr>
          <a:xfrm>
            <a:off x="285840" y="77940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香港、澳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第六次全国人口普查的结果改写以“万”为单位的近似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428760" y="1828800"/>
            <a:ext cx="8501040" cy="27734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6"/>
          <p:cNvSpPr/>
          <p:nvPr/>
        </p:nvSpPr>
        <p:spPr>
          <a:xfrm>
            <a:off x="642960" y="514368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976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7"/>
          <p:cNvSpPr/>
          <p:nvPr/>
        </p:nvSpPr>
        <p:spPr>
          <a:xfrm>
            <a:off x="5072040" y="515628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523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285840" y="2790360"/>
            <a:ext cx="85532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利用我国部分少数民族人口的统计数据，经历把较大数改写成以“万”为单位的近似数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理解“四舍五入法”的意义，会用“四舍五入法”把一个精确数改写成以“万”为单位的近似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解近似数在现实生活中的广泛应用，感受数学与生活的密切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"/>
          <p:cNvSpPr/>
          <p:nvPr/>
        </p:nvSpPr>
        <p:spPr>
          <a:xfrm>
            <a:off x="2971800" y="717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创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圆角矩形 4"/>
          <p:cNvSpPr/>
          <p:nvPr/>
        </p:nvSpPr>
        <p:spPr>
          <a:xfrm>
            <a:off x="357120" y="1285920"/>
            <a:ext cx="764388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知道我国有多少个民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圆角矩形 5"/>
          <p:cNvSpPr/>
          <p:nvPr/>
        </p:nvSpPr>
        <p:spPr>
          <a:xfrm>
            <a:off x="357120" y="4000680"/>
            <a:ext cx="7643880" cy="64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民族的认数是最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圆角矩形 6"/>
          <p:cNvSpPr/>
          <p:nvPr/>
        </p:nvSpPr>
        <p:spPr>
          <a:xfrm>
            <a:off x="357120" y="2643120"/>
            <a:ext cx="83581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汉族外，你知道其他民族称为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圆角矩形 7"/>
          <p:cNvSpPr/>
          <p:nvPr/>
        </p:nvSpPr>
        <p:spPr>
          <a:xfrm>
            <a:off x="357120" y="5357880"/>
            <a:ext cx="83581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为什么这些民族称为少数民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组合 8"/>
          <p:cNvGrpSpPr/>
          <p:nvPr/>
        </p:nvGrpSpPr>
        <p:grpSpPr>
          <a:xfrm>
            <a:off x="571680" y="1785960"/>
            <a:ext cx="4786200" cy="4861080"/>
            <a:chOff x="571680" y="1785960"/>
            <a:chExt cx="4786200" cy="4861080"/>
          </a:xfrm>
        </p:grpSpPr>
        <p:pic>
          <p:nvPicPr>
            <p:cNvPr id="533" name="Picture 2" descr=""/>
            <p:cNvPicPr/>
            <p:nvPr/>
          </p:nvPicPr>
          <p:blipFill>
            <a:blip r:embed="rId1">
              <a:lum contrast="20000"/>
            </a:blip>
            <a:stretch/>
          </p:blipFill>
          <p:spPr>
            <a:xfrm>
              <a:off x="571680" y="1785960"/>
              <a:ext cx="4786200" cy="24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3" descr=""/>
            <p:cNvPicPr/>
            <p:nvPr/>
          </p:nvPicPr>
          <p:blipFill>
            <a:blip r:embed="rId2">
              <a:lum contrast="20000"/>
            </a:blip>
            <a:stretch/>
          </p:blipFill>
          <p:spPr>
            <a:xfrm>
              <a:off x="571680" y="4286160"/>
              <a:ext cx="4786200" cy="236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3"/>
          <p:cNvSpPr/>
          <p:nvPr/>
        </p:nvSpPr>
        <p:spPr>
          <a:xfrm>
            <a:off x="785880" y="7142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我国第六次全国人口普查公布的部分少数民族的人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7" descr="绿枫叶1.png"/>
          <p:cNvPicPr/>
          <p:nvPr/>
        </p:nvPicPr>
        <p:blipFill>
          <a:blip r:embed="rId3"/>
          <a:stretch/>
        </p:blipFill>
        <p:spPr>
          <a:xfrm>
            <a:off x="87480" y="793800"/>
            <a:ext cx="672840" cy="736560"/>
          </a:xfrm>
          <a:prstGeom prst="rect">
            <a:avLst/>
          </a:prstGeom>
          <a:ln w="0">
            <a:noFill/>
          </a:ln>
        </p:spPr>
      </p:pic>
      <p:sp>
        <p:nvSpPr>
          <p:cNvPr id="538" name="TextBox 3"/>
          <p:cNvSpPr/>
          <p:nvPr/>
        </p:nvSpPr>
        <p:spPr>
          <a:xfrm>
            <a:off x="5357880" y="3357720"/>
            <a:ext cx="36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图中有几个少数民族？分别是哪几个民族？各有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组合 3"/>
          <p:cNvGrpSpPr/>
          <p:nvPr/>
        </p:nvGrpSpPr>
        <p:grpSpPr>
          <a:xfrm>
            <a:off x="571680" y="1785960"/>
            <a:ext cx="4786200" cy="4861080"/>
            <a:chOff x="571680" y="1785960"/>
            <a:chExt cx="4786200" cy="4861080"/>
          </a:xfrm>
        </p:grpSpPr>
        <p:pic>
          <p:nvPicPr>
            <p:cNvPr id="540" name="Picture 2" descr=""/>
            <p:cNvPicPr/>
            <p:nvPr/>
          </p:nvPicPr>
          <p:blipFill>
            <a:blip r:embed="rId1">
              <a:lum contrast="20000"/>
            </a:blip>
            <a:stretch/>
          </p:blipFill>
          <p:spPr>
            <a:xfrm>
              <a:off x="571680" y="1785960"/>
              <a:ext cx="4786200" cy="24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3" descr=""/>
            <p:cNvPicPr/>
            <p:nvPr/>
          </p:nvPicPr>
          <p:blipFill>
            <a:blip r:embed="rId2">
              <a:lum contrast="20000"/>
            </a:blip>
            <a:stretch/>
          </p:blipFill>
          <p:spPr>
            <a:xfrm>
              <a:off x="571680" y="4286160"/>
              <a:ext cx="4786200" cy="236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TextBox 6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785880" y="7142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我国第六次全国人口普查公布的部分少数民族的人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图片 7" descr="绿枫叶1.png"/>
          <p:cNvPicPr/>
          <p:nvPr/>
        </p:nvPicPr>
        <p:blipFill>
          <a:blip r:embed="rId3"/>
          <a:stretch/>
        </p:blipFill>
        <p:spPr>
          <a:xfrm>
            <a:off x="87480" y="793800"/>
            <a:ext cx="672840" cy="736560"/>
          </a:xfrm>
          <a:prstGeom prst="rect">
            <a:avLst/>
          </a:prstGeom>
          <a:ln w="0">
            <a:noFill/>
          </a:ln>
        </p:spPr>
      </p:pic>
      <p:sp>
        <p:nvSpPr>
          <p:cNvPr id="545" name="TextBox 3"/>
          <p:cNvSpPr/>
          <p:nvPr/>
        </p:nvSpPr>
        <p:spPr>
          <a:xfrm>
            <a:off x="5357880" y="3357720"/>
            <a:ext cx="36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能把它们改写成以“万”为单位的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00120" y="873000"/>
            <a:ext cx="5929560" cy="3078360"/>
          </a:xfrm>
          <a:prstGeom prst="rect">
            <a:avLst/>
          </a:prstGeom>
          <a:ln w="0">
            <a:noFill/>
          </a:ln>
        </p:spPr>
      </p:pic>
      <p:sp>
        <p:nvSpPr>
          <p:cNvPr id="547" name="TextBox 6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928800" y="428616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629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9"/>
          <p:cNvSpPr/>
          <p:nvPr/>
        </p:nvSpPr>
        <p:spPr>
          <a:xfrm>
            <a:off x="71280" y="499752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西族人口大约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0"/>
          <p:cNvSpPr/>
          <p:nvPr/>
        </p:nvSpPr>
        <p:spPr>
          <a:xfrm>
            <a:off x="5286240" y="4276800"/>
            <a:ext cx="32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98184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9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1"/>
          <p:cNvSpPr/>
          <p:nvPr/>
        </p:nvSpPr>
        <p:spPr>
          <a:xfrm>
            <a:off x="4429080" y="498780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蒙古族人口大约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9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2"/>
          <p:cNvSpPr/>
          <p:nvPr/>
        </p:nvSpPr>
        <p:spPr>
          <a:xfrm>
            <a:off x="684360" y="5373720"/>
            <a:ext cx="76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把一个精确书改写成近似数，一般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舍五入法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图片 2" descr="抠图、议一议.png"/>
          <p:cNvPicPr/>
          <p:nvPr/>
        </p:nvPicPr>
        <p:blipFill>
          <a:blip r:embed="rId1"/>
          <a:stretch/>
        </p:blipFill>
        <p:spPr>
          <a:xfrm>
            <a:off x="142920" y="1189080"/>
            <a:ext cx="2571840" cy="15336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5"/>
          <p:cNvSpPr/>
          <p:nvPr/>
        </p:nvSpPr>
        <p:spPr>
          <a:xfrm>
            <a:off x="285840" y="29750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整万的数怎样改写成以“万”为单位的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71760" y="1071720"/>
            <a:ext cx="5715000" cy="28191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2" descr="抠图、议一议.png"/>
          <p:cNvPicPr/>
          <p:nvPr/>
        </p:nvPicPr>
        <p:blipFill>
          <a:blip r:embed="rId2"/>
          <a:stretch/>
        </p:blipFill>
        <p:spPr>
          <a:xfrm>
            <a:off x="142920" y="3476520"/>
            <a:ext cx="2571840" cy="15303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6"/>
          <p:cNvSpPr/>
          <p:nvPr/>
        </p:nvSpPr>
        <p:spPr>
          <a:xfrm>
            <a:off x="324000" y="494172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回族和壮族的人口改写成以“万”为单位的近似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图片 1" descr="3练一练.png"/>
          <p:cNvPicPr/>
          <p:nvPr/>
        </p:nvPicPr>
        <p:blipFill>
          <a:blip r:embed="rId1"/>
          <a:stretch/>
        </p:blipFill>
        <p:spPr>
          <a:xfrm>
            <a:off x="60480" y="800280"/>
            <a:ext cx="2260440" cy="136656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4"/>
          <p:cNvSpPr/>
          <p:nvPr/>
        </p:nvSpPr>
        <p:spPr>
          <a:xfrm>
            <a:off x="285840" y="214308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判断下面哪个数是近似数，哪个数是精确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55640" y="3375000"/>
            <a:ext cx="77868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7:53:44Z</dcterms:created>
  <dc:creator/>
  <dc:description/>
  <cp:keywords/>
  <dc:language>en-US</dc:language>
  <cp:lastModifiedBy/>
  <dcterms:modified xsi:type="dcterms:W3CDTF">2016-12-02T16:17:56Z</dcterms:modified>
  <cp:revision>5</cp:revision>
  <dc:subject/>
  <dc:title/>
</cp:coreProperties>
</file>