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7053-2506-4188-8B58-AD0103A69C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0C3B-FD45-455F-A746-1D4D12EF4A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4257-1834-4746-A59A-0CDEF3BD0B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851B-04FD-4F84-8DCF-E353C9672A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B33B-87F7-4911-8C31-99C340DC58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DB95-C5CC-4D85-AF31-E77513F687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076F-D013-4ADA-A6D3-8CECDC711C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17F5-1C19-4A45-A863-B55D375AB3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E157-95C6-43D8-8ADF-C6C6801264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19A9-E914-49A6-AB14-3AFB4B3587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D9E9-EAF4-41D0-B768-58BFF20725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6087-0F7D-48FF-84CF-3A4A8115F0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0F16-7503-4835-AC34-5C9EE210AE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7373-8A7E-47EB-A259-4514C5D44F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FD0C-B1A8-42B6-834A-CB64C80F81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0AF5-A0B0-4BEF-A9BB-4D593BFA70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033-E1D1-4FDA-ABF9-0C350787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CCD-C2D2-418D-88CE-0F791B9B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F1F-E9D2-41C4-9528-6286C70C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849-2BF1-4935-AF30-2B11A35B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C8A-39EE-402E-BA50-4F46B619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E3B-2BD4-4E9D-8E3B-96A9C216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67C-41F1-4AE1-8FD7-9AC79774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42B-27B1-4C8D-9241-B47711BA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E36-15CD-4EB8-8DDA-139814FB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26A-F83D-4428-B7E9-D520E545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824-A1BF-42EF-84A7-58422174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6D7-6E5B-42B5-B5B7-2CE20B61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8A6F-5368-487C-9198-94B1EC4C22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890640" y="119556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2960" y="2625840"/>
            <a:ext cx="77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万数的改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785880" y="7858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验一百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7" descr="绿枫叶1.png"/>
          <p:cNvPicPr/>
          <p:nvPr/>
        </p:nvPicPr>
        <p:blipFill>
          <a:blip r:embed="rId1"/>
          <a:stretch/>
        </p:blipFill>
        <p:spPr>
          <a:xfrm>
            <a:off x="84240" y="793800"/>
            <a:ext cx="679320" cy="7365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428760" y="1500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测一测自己的心跳，估算一下心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次大约需要多长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428760" y="441648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估算一下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小时相当于多少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3练一练.png"/>
          <p:cNvPicPr/>
          <p:nvPr/>
        </p:nvPicPr>
        <p:blipFill>
          <a:blip r:embed="rId1"/>
          <a:stretch/>
        </p:blipFill>
        <p:spPr>
          <a:xfrm>
            <a:off x="60480" y="800280"/>
            <a:ext cx="2260440" cy="1366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285840" y="214308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下面横线上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57120" y="2714760"/>
            <a:ext cx="4114800" cy="3895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4648320" y="2670120"/>
            <a:ext cx="44956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4"/>
          <p:cNvSpPr/>
          <p:nvPr/>
        </p:nvSpPr>
        <p:spPr>
          <a:xfrm>
            <a:off x="285840" y="78588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的数改写成以“万”为单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2974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642960" y="5214960"/>
            <a:ext cx="314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0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6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5000760" y="521496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2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4"/>
          <p:cNvSpPr/>
          <p:nvPr/>
        </p:nvSpPr>
        <p:spPr>
          <a:xfrm>
            <a:off x="285840" y="78588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的数改写成以“万”为单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214200" y="5214960"/>
            <a:ext cx="357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53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5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5000760" y="521496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3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9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4"/>
          <p:cNvSpPr/>
          <p:nvPr/>
        </p:nvSpPr>
        <p:spPr>
          <a:xfrm>
            <a:off x="285840" y="78588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的数改写成以“万”为单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214200" y="5214960"/>
            <a:ext cx="357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25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02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5000760" y="5214960"/>
            <a:ext cx="350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600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1685880"/>
            <a:ext cx="91440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4"/>
          <p:cNvSpPr/>
          <p:nvPr/>
        </p:nvSpPr>
        <p:spPr>
          <a:xfrm>
            <a:off x="285840" y="78588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学生组成一个教学班，算一算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名学生可组成多少个教学班？按你们班的学生人数计算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1500120" y="3571920"/>
            <a:ext cx="57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000÷8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0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785880" y="44164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名学生可组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教学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24000" y="282888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结合具体事例，经历把整万的数改写成以“万”为单位的数和体验一百万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掌握把整万的数改写成以“万”为单位的数的方法，会用“万”为单位表示大数。认识并感受一百万的实际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体会用“万”为单位表示大数的作用，感受数学与生活的密切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971800" y="7174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785880" y="7858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并写出横线上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7" descr="绿枫叶1.png"/>
          <p:cNvPicPr/>
          <p:nvPr/>
        </p:nvPicPr>
        <p:blipFill>
          <a:blip r:embed="rId1"/>
          <a:stretch/>
        </p:blipFill>
        <p:spPr>
          <a:xfrm>
            <a:off x="84240" y="793800"/>
            <a:ext cx="679320" cy="73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237960" y="1593720"/>
            <a:ext cx="4305600" cy="286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4667400" y="1593720"/>
            <a:ext cx="4276440" cy="2867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214200" y="442908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故宫的占地面积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七十二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643280" y="4429080"/>
            <a:ext cx="44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圆明园的占地面积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三百四十六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2500200" y="578628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想一想该怎样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37960" y="803160"/>
            <a:ext cx="4305600" cy="2867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4667400" y="803160"/>
            <a:ext cx="4276440" cy="28670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214200" y="363708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故宫的占地面积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七十二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4643280" y="3637080"/>
            <a:ext cx="44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圆明园的占地面积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三百四十六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357120" y="48322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数位顺序表中写数，要从高位写起，先写万级，再写个级，哪一位上一个计数单位也没有就写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占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214200" y="584532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：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2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4572000" y="584532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：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6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8"/>
          <p:cNvGrpSpPr/>
          <p:nvPr/>
        </p:nvGrpSpPr>
        <p:grpSpPr>
          <a:xfrm>
            <a:off x="237960" y="803160"/>
            <a:ext cx="8705880" cy="2867040"/>
            <a:chOff x="237960" y="803160"/>
            <a:chExt cx="8705880" cy="2867040"/>
          </a:xfrm>
        </p:grpSpPr>
        <p:pic>
          <p:nvPicPr>
            <p:cNvPr id="71" name="Picture 1" descr=""/>
            <p:cNvPicPr/>
            <p:nvPr/>
          </p:nvPicPr>
          <p:blipFill>
            <a:blip r:embed="rId1"/>
            <a:stretch/>
          </p:blipFill>
          <p:spPr>
            <a:xfrm>
              <a:off x="237960" y="803160"/>
              <a:ext cx="4305240" cy="28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" descr=""/>
            <p:cNvPicPr/>
            <p:nvPr/>
          </p:nvPicPr>
          <p:blipFill>
            <a:blip r:embed="rId2"/>
            <a:stretch/>
          </p:blipFill>
          <p:spPr>
            <a:xfrm>
              <a:off x="4667040" y="803160"/>
              <a:ext cx="4276800" cy="286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4"/>
          <p:cNvGrpSpPr/>
          <p:nvPr/>
        </p:nvGrpSpPr>
        <p:grpSpPr>
          <a:xfrm>
            <a:off x="285840" y="3643200"/>
            <a:ext cx="8786880" cy="1068840"/>
            <a:chOff x="285840" y="3643200"/>
            <a:chExt cx="8786880" cy="1068840"/>
          </a:xfrm>
        </p:grpSpPr>
        <p:sp>
          <p:nvSpPr>
            <p:cNvPr id="75" name="TextBox 2"/>
            <p:cNvSpPr/>
            <p:nvPr/>
          </p:nvSpPr>
          <p:spPr>
            <a:xfrm>
              <a:off x="285840" y="3643200"/>
              <a:ext cx="4214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北京故宫的占地面积是</a:t>
              </a: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720000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平方米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3"/>
            <p:cNvSpPr/>
            <p:nvPr/>
          </p:nvSpPr>
          <p:spPr>
            <a:xfrm>
              <a:off x="4714920" y="3643200"/>
              <a:ext cx="4357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北京圆明园的占地面积</a:t>
              </a: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460000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平方米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3"/>
          <p:cNvSpPr/>
          <p:nvPr/>
        </p:nvSpPr>
        <p:spPr>
          <a:xfrm>
            <a:off x="1714680" y="497664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一说这两个数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214200" y="4987800"/>
            <a:ext cx="92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把这两个数改写成以“万”为单位的数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642960" y="584532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4857840" y="584532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6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2" descr="抠图、议一议.png"/>
          <p:cNvPicPr/>
          <p:nvPr/>
        </p:nvPicPr>
        <p:blipFill>
          <a:blip r:embed="rId1"/>
          <a:stretch/>
        </p:blipFill>
        <p:spPr>
          <a:xfrm>
            <a:off x="142920" y="857160"/>
            <a:ext cx="2571840" cy="15336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285840" y="448776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把整万的数改写成以“万”为单位的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285840" y="264312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有两级的数怎么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214200" y="325440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写万级，再写个级；②哪一位上一个计数单位也没有，就在那一位上写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占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214200" y="514368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把整万的数改写成以“万”为单位的数，去掉万位后面的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同时加上“万”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5" descr="2试一试.png"/>
          <p:cNvPicPr/>
          <p:nvPr/>
        </p:nvPicPr>
        <p:blipFill>
          <a:blip r:embed="rId1"/>
          <a:stretch/>
        </p:blipFill>
        <p:spPr>
          <a:xfrm>
            <a:off x="142920" y="857160"/>
            <a:ext cx="2247840" cy="1338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785880" y="2416320"/>
            <a:ext cx="742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写出一个整万的数，并把它改写成以“万”为单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785880" y="7858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验一百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7" descr="绿枫叶1.png"/>
          <p:cNvPicPr/>
          <p:nvPr/>
        </p:nvPicPr>
        <p:blipFill>
          <a:blip r:embed="rId1"/>
          <a:stretch/>
        </p:blipFill>
        <p:spPr>
          <a:xfrm>
            <a:off x="84240" y="793800"/>
            <a:ext cx="679320" cy="7365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" descr="QQ截图20141121112328.jpg"/>
          <p:cNvPicPr/>
          <p:nvPr/>
        </p:nvPicPr>
        <p:blipFill>
          <a:blip r:embed="rId2"/>
          <a:stretch/>
        </p:blipFill>
        <p:spPr>
          <a:xfrm>
            <a:off x="714240" y="1643040"/>
            <a:ext cx="5029200" cy="229572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785880" y="392904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面值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人民币有多少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14240" y="48448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面值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人民币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785880" y="7858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验一百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7" descr="绿枫叶1.png"/>
          <p:cNvPicPr/>
          <p:nvPr/>
        </p:nvPicPr>
        <p:blipFill>
          <a:blip r:embed="rId1"/>
          <a:stretch/>
        </p:blipFill>
        <p:spPr>
          <a:xfrm>
            <a:off x="84240" y="793800"/>
            <a:ext cx="679320" cy="736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428760" y="1500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估算一下，银行工作人员用手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面值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人民币，需要多长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2"/>
          <a:stretch/>
        </p:blipFill>
        <p:spPr>
          <a:xfrm>
            <a:off x="4429080" y="3211560"/>
            <a:ext cx="4429080" cy="1503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785880" y="26431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万元面值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元的人民币有多少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214720" y="3416400"/>
            <a:ext cx="192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857160" y="457200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0×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4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857160" y="5345280"/>
            <a:ext cx="57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00÷84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小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7:24:51Z</dcterms:created>
  <dc:creator/>
  <dc:description/>
  <cp:keywords/>
  <dc:language>en-US</dc:language>
  <cp:lastModifiedBy/>
  <dcterms:modified xsi:type="dcterms:W3CDTF">2016-12-02T16:22:45Z</dcterms:modified>
  <cp:revision>5</cp:revision>
  <dc:subject/>
  <dc:title/>
</cp:coreProperties>
</file>