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5.png" ContentType="image/png"/>
  <Override PartName="/ppt/media/image12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hyperlink" Target="256,18,&#24187;&#28783;&#29255; 18" TargetMode="External"/><Relationship Id="rId4" Type="http://schemas.openxmlformats.org/officeDocument/2006/relationships/hyperlink" Target="256,18,&#24187;&#28783;&#29255; 18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256,12,&#24187;&#28783;&#29255; 12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547640" y="981000"/>
            <a:ext cx="4125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花    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848200" y="134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188480" y="580536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  冯骥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rcRect l="1055" t="4647" r="1465" b="2690"/>
          <a:stretch/>
        </p:blipFill>
        <p:spPr>
          <a:xfrm>
            <a:off x="6318360" y="127080"/>
            <a:ext cx="2109600" cy="2508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-89" b="11361"/>
          <a:stretch/>
        </p:blipFill>
        <p:spPr>
          <a:xfrm>
            <a:off x="0" y="3860640"/>
            <a:ext cx="2441520" cy="2657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0" r="-1930" b="5065"/>
          <a:stretch/>
        </p:blipFill>
        <p:spPr>
          <a:xfrm>
            <a:off x="3276720" y="1773360"/>
            <a:ext cx="2738160" cy="316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3756" t="8813" r="1640" b="6236"/>
          <a:stretch/>
        </p:blipFill>
        <p:spPr>
          <a:xfrm>
            <a:off x="6168960" y="3316320"/>
            <a:ext cx="2394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22800" y="260280"/>
            <a:ext cx="1521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手持大刀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44320" y="2708280"/>
            <a:ext cx="10947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关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151" r="43051" b="2873"/>
          <a:stretch/>
        </p:blipFill>
        <p:spPr>
          <a:xfrm>
            <a:off x="1476360" y="117360"/>
            <a:ext cx="3108240" cy="66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06800" y="1719360"/>
            <a:ext cx="356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羽一生追随刘备南征北战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忠心耿耿，以忠贞、守义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勇猛和武艺高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称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三国志》称赞关羽“威震华夏”、“不避艰险，随其周旋”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善待士卒”、“为万人敌、当世虎臣”；但也批评他“刚而自矜”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骄于士大夫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640" y="692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关羽故事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3548880" y="3932280"/>
            <a:ext cx="271908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历史小说《三国演义》描写了关羽的许多英雄事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桃园三结义、 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、温酒斩华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劈颜良诛文丑 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4、过五关斩六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千里走单骑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单刀赴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刮骨疗毒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、败走麦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11280" y="549360"/>
            <a:ext cx="254952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关公脸谱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333600" cy="373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86320" y="0"/>
            <a:ext cx="36687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读一读，说一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是按什么顺序来写的？结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789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时间发展的先后顺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总分总结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可以分为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买花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表演花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因花脸惹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节后受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交流学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小组交流学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故事发展的各个阶段对“我”的</a:t>
            </a:r>
            <a:r>
              <a:rPr b="1" lang="zh-CN" sz="4400" spc="-1" strike="noStrike">
                <a:solidFill>
                  <a:srgbClr val="00cc00"/>
                </a:solidFill>
                <a:latin typeface="Arial"/>
              </a:rPr>
              <a:t>各种描写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59760" y="1711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买刀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62080" y="1628640"/>
            <a:ext cx="182664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神态：只是笑，话都说不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动作：执刀而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理：快活之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75400" y="29354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听舅舅讲完故事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52280" y="2786040"/>
            <a:ext cx="20458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理：好像在说我的光荣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觉得自己力大无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40680" y="3805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家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33640" y="4997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年初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86040" y="3794040"/>
            <a:ext cx="234324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动作：推开、跑、横刀立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肯摘      睡觉也戴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理：我是大关公哪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77920" y="4879800"/>
            <a:ext cx="182664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动作：手握大刀、摇晃肩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憋足嗓门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神态：威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1800" y="1417680"/>
            <a:ext cx="115524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手执关公刀  心情自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19600" y="692280"/>
            <a:ext cx="729360" cy="36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故事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07120" y="765000"/>
            <a:ext cx="9489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”的反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85840" y="1142640"/>
            <a:ext cx="5257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好大  好特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色彩鲜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俊的外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凛然不可侵犯的庄重之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咄咄逼人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43720" y="914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54100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关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8710" t="15383" r="10031" b="7696"/>
          <a:stretch/>
        </p:blipFill>
        <p:spPr>
          <a:xfrm>
            <a:off x="0" y="762120"/>
            <a:ext cx="3817800" cy="4724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6019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之所以喜欢这个大红花脸，是因为————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1428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3123720"/>
            <a:ext cx="830592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比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精致无比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刀！这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栩栩如生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花脸！没想到一下子得到两件宝贝，我高兴得只是笑，话都说不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143000"/>
            <a:ext cx="784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刀！这花脸！没想到一下子得到两件宝贝，我高兴得只是笑，话都说不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说“我”在故事发展的各个阶段的心情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7920" y="2276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买刀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1640" y="2200320"/>
            <a:ext cx="1826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神态：只是笑，话都说不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动作：执刀而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理：快活之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43920" y="3500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听舅舅讲完故事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1840" y="3351240"/>
            <a:ext cx="2045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理：好像在说我的光荣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觉得自己力大无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8840" y="4370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家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01800" y="5562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年初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55960" y="4359240"/>
            <a:ext cx="23432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动作：推开、跑、横刀立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肯摘      睡觉也戴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理：我是大关公哪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47480" y="5445000"/>
            <a:ext cx="1826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动作：手握大刀、摇晃肩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憋足嗓门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神态：威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29240" y="218592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    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43640" y="391320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    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16880" y="3495600"/>
            <a:ext cx="504720" cy="1584360"/>
          </a:xfrm>
          <a:custGeom>
            <a:avLst/>
            <a:gdLst>
              <a:gd name="textAreaLeft" fmla="*/ 0 w 504720"/>
              <a:gd name="textAreaRight" fmla="*/ 182160 w 504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3560" y="1117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见关公花脸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72360" y="89388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喜    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26800" y="5427720"/>
            <a:ext cx="10706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1"/>
              </a:rPr>
              <a:t>崇敬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148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12000" y="3068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12000" y="4797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1268280"/>
            <a:ext cx="216000" cy="460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0920" y="32846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花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7953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冯骥才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5680" y="1773360"/>
            <a:ext cx="5079960" cy="45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冯骥才 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～）当代作家。原籍浙江慈溪，生于天津。从小喜爱美术、文学、音乐和球类活动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高中毕业后到天津市书画社从事绘画工作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对民间艺术、地方风俗等有浓厚兴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任天津市文联主席、国笔会中国中心会员、《文学自由谈》和《艺术家》主编等职。著有长篇小说《神灯前传》，中篇小说集《铺花的歧路》、《啊！》，短篇说集《雕花烟斗》等。短篇小《雕花烟斗》，中篇小说《啊！》、《神鞭》，分获全国优秀短篇、优秀中篇小说。部分作品已被译成英、法、德、日、俄等文字在国外出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8560" y="256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1600" y="2212920"/>
            <a:ext cx="2895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360" y="620280"/>
            <a:ext cx="8972640" cy="53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开头：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 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对孩子们来说过年的魅力还有更深一层的缘故，便是我要写在这张纸上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372600" y="7315200"/>
            <a:ext cx="1893960" cy="2209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2708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这事，我悟到一个祖传的经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36450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年之中唯有过年这几天是孩子们的自由日，在这几天里无论怎样放胆去闹，也不会立刻得到惩罚。这便是所有孩子都盼望过年的更深一层的缘故。当然那被撕碎的花脸也提醒我，在这有限的自由里可得勒着点自己，当心事后加倍算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记载着作者童年的欢乐，表现了我对英雄的仰慕和崇拜，抒发了渴望成为英雄的少年豪情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893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05120" y="1268280"/>
            <a:ext cx="41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脸谱是一种中国戏曲内独有的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在舞台演出中使用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化妆造型艺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0"/>
            <a:ext cx="223200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何谓脸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7559" r="-4629" b="5291"/>
          <a:stretch/>
        </p:blipFill>
        <p:spPr>
          <a:xfrm>
            <a:off x="0" y="3684600"/>
            <a:ext cx="1924200" cy="210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0" r="-1447" b="13618"/>
          <a:stretch/>
        </p:blipFill>
        <p:spPr>
          <a:xfrm>
            <a:off x="2340000" y="4172040"/>
            <a:ext cx="1994040" cy="2320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-261" t="9414" r="-2234" b="7679"/>
          <a:stretch/>
        </p:blipFill>
        <p:spPr>
          <a:xfrm>
            <a:off x="7186680" y="3805200"/>
            <a:ext cx="1820880" cy="203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0" t="0" r="-362" b="5907"/>
          <a:stretch/>
        </p:blipFill>
        <p:spPr>
          <a:xfrm>
            <a:off x="4502160" y="2637000"/>
            <a:ext cx="269568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8000" y="620640"/>
            <a:ext cx="90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净”，俗称花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以各种色彩勾勒的图案化的脸谱化妆为突出标志，表现的是在性格气质上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粗犷、奇伟、豪迈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人物。这类人物在表演上要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音色宽阔宏亮，演唱粗壮浑厚动作造型线条粗而顿挫鲜明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“色块”大，大开大合，气度恢宏。如关羽、张飞、曹操、包拯、廉颇等即是净扮。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83640" y="1557360"/>
            <a:ext cx="39099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表示   赤胆忠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表示   智勇刚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表示   武将骁勇善战、残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士内有心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表示   侠骨义肠、性格暴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表示   刚直勇猛、桀骜不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表示   忠耿正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彩云"/>
              </a:rPr>
              <a:t>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表示   阴险奸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627280" y="54936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花脸颜色的象征意义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19640" y="5178600"/>
            <a:ext cx="3745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4280" y="692280"/>
            <a:ext cx="1287720" cy="158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67320" y="12589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蓝脸的窦尔敦盗御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3600" y="3087720"/>
            <a:ext cx="26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红脸的关公战长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41760" y="474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黄脸的典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0200" y="4438800"/>
            <a:ext cx="1225800" cy="1511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87280" y="2349360"/>
            <a:ext cx="150660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23888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33760" y="836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白脸的曹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83040" y="2781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黑脸的张飞叫喳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401840" cy="172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163836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900000" y="4581360"/>
            <a:ext cx="1211400" cy="150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94200" y="508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黑脸的包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83664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忆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，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429264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主要写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儿时买花脸戴花脸的快乐回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213372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本文主要写了什么内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说说你对关公的了解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提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貌特点。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事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性格特征。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处朝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07:53:31Z</dcterms:created>
  <dc:creator>Administrator</dc:creator>
  <dc:description/>
  <dc:language>en-US</dc:language>
  <cp:lastModifiedBy/>
  <dcterms:modified xsi:type="dcterms:W3CDTF">2015-07-23T08:45:58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