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D46-EFC6-4561-868D-E79F3D57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20C-B552-424B-BCEB-B18D33DF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96A-8579-47DA-8FBF-2266E077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C6B-D84A-40F9-BAEB-3857DEEC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544-9A8B-422A-B18D-1F14517B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947-D0F6-477D-90E4-FAC43E82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9F0-FC6C-488A-946D-3435637C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24A-2FC0-489B-8069-633C7EA9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135-A6DA-4C3D-89CB-C87779B6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50B-1A15-43B5-AA43-0E6ED036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B4E-80F9-4DA6-B8B8-07251F29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36E-1B38-40E5-AD35-AF012485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B2AD-78CD-4FBB-AEAB-70832F88FA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pace.sina.com.cn/118829787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84720" y="549360"/>
            <a:ext cx="2676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口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7211880" y="2421000"/>
            <a:ext cx="19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张海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2133720"/>
            <a:ext cx="705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风儿可以吹飞一张大纸，却无法吹跑一只弱小的蝴蝶，因为生命的力量是不顺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冯骥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304920"/>
            <a:ext cx="464832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体验感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989000"/>
            <a:ext cx="889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华文新魏"/>
              </a:rPr>
              <a:t>文中多处写到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华文新魏"/>
              </a:rPr>
              <a:t>小鸟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华文新魏"/>
              </a:rPr>
              <a:t>，请把这些文字找出来。你能说说这是为什么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292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希望自己能像小鸟一样自由，这是“我”内心的渴望，它激发起“我”对美好生活的向往 、对生命的热爱，促使“我”能坚强起来勇敢地面对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564000" y="1125360"/>
            <a:ext cx="57909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836640"/>
            <a:ext cx="676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华文新魏"/>
              </a:rPr>
              <a:t>我”的渴望</a:t>
            </a:r>
            <a:r>
              <a:rPr b="1" lang="zh-CN" sz="4800" spc="-1" strike="noStrike">
                <a:solidFill>
                  <a:srgbClr val="000099"/>
                </a:solidFill>
                <a:latin typeface="宋体"/>
                <a:ea typeface="华文新魏"/>
              </a:rPr>
              <a:t>实现了吗？　　　　从文中找出依据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350028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品味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476280"/>
            <a:ext cx="82821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章最后说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我很想吹口哨，吹那支悠长缥缈的歌……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年过去了为什么当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我又一次躺在病床上时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又忽然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很想吹口哨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364500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20000"/>
                </a:solidFill>
                <a:latin typeface="Times New Roman"/>
                <a:ea typeface="华文新魏"/>
              </a:rPr>
              <a:t>学会坚强，表明“我”决不放弃生活，决心与病魔不断抗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404640"/>
            <a:ext cx="590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2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口哨从最初的状态走来，直至今日，不管如何，总是在显示着生命的力量，生命里有不屈服的种子，生命里有永远抗争的张力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2205000"/>
            <a:ext cx="784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张海迪的故事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曾经激励了你们父辈一代的成长，今天，你们能从她身上感受到什么呢？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80880"/>
            <a:ext cx="5181480" cy="1535400"/>
          </a:xfrm>
          <a:prstGeom prst="cloudCallout">
            <a:avLst>
              <a:gd name="adj1" fmla="val -59254"/>
              <a:gd name="adj2" fmla="val 72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3808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564000" y="549360"/>
            <a:ext cx="32414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各抒己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213372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0000"/>
                </a:solidFill>
                <a:latin typeface="华文新魏"/>
                <a:ea typeface="华文新魏"/>
              </a:rPr>
              <a:t>请以“我感受到，生命因为 ……而美丽开头写一句话，并联系课文或自己的生活实际，说说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260280"/>
            <a:ext cx="5181840" cy="1535040"/>
          </a:xfrm>
          <a:prstGeom prst="cloudCallout">
            <a:avLst>
              <a:gd name="adj1" fmla="val -59254"/>
              <a:gd name="adj2" fmla="val 72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549360"/>
            <a:ext cx="32414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作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840" y="0"/>
            <a:ext cx="20091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张海迪的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62080" y="333360"/>
            <a:ext cx="1033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活着就要做个对社会有益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505944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学习张海迪，做有理想、有道德、有文化、守纪律的共产主义新人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邓小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48400" y="620640"/>
            <a:ext cx="12776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八十年代新雷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8680" y="907920"/>
            <a:ext cx="789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当代保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69228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0"/>
            <a:ext cx="845820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张海迪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55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生于济南，汉族，哲学硕士，中共党员，山东省创作协会一级作家，九届、十届全国政协委员，中国残疾人联合会副主席，中国作家协会全国委员会委员，山东省作家协会副主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5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岁时因患脊髓血管瘤，高位截瘫，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她因此没有进过学校，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童年时就开始以顽强的毅力自学知识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她先后自学了小学、中学、大学的专业课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83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，海迪走上了文学创作的道路，她以顽强的毅力克服疾病和困难，精益求精地进行创作，至今已出版的作品有：长篇小说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轮椅上的梦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《绝顶》。散文集《鸿雁快快飞》、《向天空敞开的窗口》、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生命的追问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翻译作品《海边诊所》、《丽贝卡在新学校》、《小米勒旅行记》、《莫多克——一头大象的真实故事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936360" cy="549360"/>
          </a:xfrm>
          <a:custGeom>
            <a:avLst/>
            <a:gdLst>
              <a:gd name="textAreaLeft" fmla="*/ 35280 w 936360"/>
              <a:gd name="textAreaRight" fmla="*/ 901080 w 93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6806" h="21600">
                <a:moveTo>
                  <a:pt x="0" y="0"/>
                </a:moveTo>
                <a:lnTo>
                  <a:pt x="36806" y="0"/>
                </a:lnTo>
                <a:lnTo>
                  <a:pt x="36806" y="21600"/>
                </a:lnTo>
                <a:lnTo>
                  <a:pt x="0" y="21600"/>
                </a:lnTo>
                <a:close/>
              </a:path>
              <a:path fill="lightenLess" w="36806" h="21600">
                <a:moveTo>
                  <a:pt x="0" y="0"/>
                </a:moveTo>
                <a:lnTo>
                  <a:pt x="36806" y="0"/>
                </a:lnTo>
                <a:lnTo>
                  <a:pt x="35406" y="1400"/>
                </a:lnTo>
                <a:lnTo>
                  <a:pt x="1400" y="1400"/>
                </a:lnTo>
                <a:close/>
              </a:path>
              <a:path fill="darken" w="36806" h="21600">
                <a:moveTo>
                  <a:pt x="36806" y="0"/>
                </a:moveTo>
                <a:lnTo>
                  <a:pt x="36806" y="21600"/>
                </a:lnTo>
                <a:lnTo>
                  <a:pt x="35406" y="20200"/>
                </a:lnTo>
                <a:lnTo>
                  <a:pt x="35406" y="1400"/>
                </a:lnTo>
                <a:close/>
              </a:path>
              <a:path fill="darkenLess" w="36806" h="21600">
                <a:moveTo>
                  <a:pt x="36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06" y="20200"/>
                </a:lnTo>
                <a:close/>
              </a:path>
              <a:path fill="lighten" w="36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06" h="21600">
                <a:moveTo>
                  <a:pt x="11397" y="10800"/>
                </a:moveTo>
                <a:lnTo>
                  <a:pt x="25410" y="3794"/>
                </a:lnTo>
                <a:lnTo>
                  <a:pt x="254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26028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读一读  </a:t>
            </a:r>
            <a:r>
              <a:rPr b="1" lang="zh-CN" sz="6000" spc="-1" strike="noStrike">
                <a:solidFill>
                  <a:srgbClr val="333399"/>
                </a:solidFill>
                <a:latin typeface="华文新魏"/>
                <a:ea typeface="华文新魏"/>
              </a:rPr>
              <a:t>写一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193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胳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96252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无可奈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400536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叽叽啾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1337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缥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124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油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1295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钦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134136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怅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209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06864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泥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40053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坎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28600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流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30481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迷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1413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ē  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349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iā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iǎ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141300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qīn  pè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12000" y="148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ǎ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67640" y="2421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niǎ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4221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ji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iú  li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328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yóu  r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96360" y="41497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kǎn  k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80360" y="321300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ní nì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395280" y="0"/>
            <a:ext cx="11160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14400" y="762120"/>
            <a:ext cx="7696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散读课文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2781360"/>
            <a:ext cx="54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概括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全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1640" y="1628640"/>
            <a:ext cx="738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” 为什么选择“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吹口哨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404640"/>
            <a:ext cx="30272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思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2193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吹口哨后，“我”有哪些变化？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743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从文中哪些地方可以看出“我”的变化的？</a:t>
            </a:r>
            <a:r>
              <a:rPr b="1" lang="zh-CN" sz="4400" spc="-1" strike="noStrike">
                <a:solidFill>
                  <a:srgbClr val="9900cc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>
            <a:lum contrast="30000"/>
          </a:blip>
          <a:stretch/>
        </p:blipFill>
        <p:spPr>
          <a:xfrm flipH="1">
            <a:off x="1619280" y="4869000"/>
            <a:ext cx="5562720" cy="1218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685800" y="0"/>
            <a:ext cx="1676520" cy="127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32000" y="189000"/>
            <a:ext cx="440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思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63640" y="112536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品味第</a:t>
            </a: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971800"/>
            <a:ext cx="62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圈划出感动你的词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396252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76520" y="2286000"/>
            <a:ext cx="5562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朗读品味第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7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/>
  <dc:language>en-US</dc:language>
  <cp:lastModifiedBy>USER</cp:lastModifiedBy>
  <dcterms:modified xsi:type="dcterms:W3CDTF">2015-08-04T23:05:41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