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D84-A315-4A25-9CA1-2107D700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1AB-02B0-43DC-96AB-14D12402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41B11-F273-46CE-B1A1-CEB93CA4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E6491-79E7-4CFC-9601-08AE7D05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D1027-D950-44A8-979D-7126B848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FA14E-1AB7-4EE1-983D-C966AF15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FA4B6-BFD8-4806-89B2-F2FFD694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80D64-9F7B-4006-AF9C-F325816E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1D9EC-E046-42A1-B3C2-4EC3DFDB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1AF81-8803-41FD-A85E-6B7357E5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3EFFC-8C3B-4743-A402-4C9F285F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62CF7-1C03-46B4-BAFF-F149FD6F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C88-180A-4D19-8354-641F133D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0F411-A080-465E-AEC6-73CC0B13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88FBC-64B5-4F2C-9A05-E5167D89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7A751-EDEA-4705-B910-0B35E774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7B93E-636E-493D-8E94-322F9C03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4410B-0DCC-4D5D-A906-48F35C5F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5A1B0-8733-4419-AC8F-037371A3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A80EB-609D-4EF7-B443-260A4FBA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754D0-A737-4395-8965-7D93B6EA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E425B-A9A9-45A9-8F70-EE20F05C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B6291-82A7-45C5-B26E-1C3FDF53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B6C-413D-4E17-B9BE-F5947B54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717B6-59D2-4AA5-A947-99B20E30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EB691-6655-49AA-B3E1-9798EEAB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0C578-4B29-4FD8-AD9D-6DFB23EB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A896E-D713-4DFA-BCCD-01B2C4AA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8A214-3BBF-4ACA-92EE-4EE5E5E4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FEDA1-7598-4CF7-A55C-99AE29DA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2FDC5-E202-4478-8A4C-7CD7EDD6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1FD63-1D81-4B36-90D6-89CA9D50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DD338-89A5-4CFF-89D9-AFA21601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FEDE6-9B89-45CE-B91F-741DE9B9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1CB9-0434-4D5E-9EA7-9ECDBA29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904FB-CF33-4412-B88B-AD6153C4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9DCFE-8848-480A-B1B2-5F8923F6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D7BBA-4E69-4D3F-A369-BAB73479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DC56F-BFF4-425B-9800-2B75BF08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DF0EB-96B0-41B0-BD61-9D887405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86FF7-36CD-4F20-8353-D05D21B4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B50AD-D93D-45F2-BB67-29F1EECE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F9BDA-D396-4231-B1CA-BE877D7E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8C40B-93DB-4175-929E-1FF98477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82EA9-BD50-4345-B4A1-D65B7DE5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A15F-46DB-4A72-BAFB-CACDAB1C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78A11-773E-44C2-8860-737BCF7F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75E6C-DF56-4958-96DE-6BC45F4F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8D23D-DBCB-4514-9832-C5CD1CE3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50C3F-2090-4D2D-860E-AF032CF8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43F9A-E1EE-40BF-9C31-05B3F859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20574-6BEC-400A-AB12-3C422FE1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5FCAD-C0D5-4B21-B53E-12267535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4CF17-CDE8-431E-971A-5BEC150E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D5EA0-C3EF-4637-ACE0-2116A218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674A8-8755-44A1-8AD7-07756DCD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24CF-18D5-49BB-B770-525DF67C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90EA8-A71F-46E0-83F2-68BA7543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1F413-3DAE-4902-8562-6BAA5C6A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A655B-2E92-4035-BFF1-D98DDD89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B6154-B8C5-4602-843B-ABF8159B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DEE84-62E0-45D0-A7E9-DCC451CB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C7267-419B-415D-ADAD-87965D12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448A3-C10F-49CB-B877-5074D684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C69AB-0F8E-44A5-BEBF-2502D20B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51BBAC-F6C3-481A-882B-E04D042D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C6A792-869D-4EA8-9411-805DC432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1284-E14F-4689-9C88-890262F9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6175E-5796-4765-86CA-DF42B064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A04A88-51AC-4F02-A91E-35F9F8BA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09B77-30B5-4750-842A-966C4CE2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0BB4E6-D3E3-4F5A-908F-B9291BD7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9BDD8-59CC-45A3-AA85-724464AC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43E66D-0B1F-4883-B813-A961371F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B387B-B2EA-4D0D-BD6A-72E2BF73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79A46-4632-46BC-BE56-F280E695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3A16C-FF7D-4464-9650-F7EFBA50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DE6DDE-3236-4DBE-9F37-B4607D9E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B119-83B3-487F-982E-9602953B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9EA4C-A883-4D78-8262-6ECA44DB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7163A-B23C-4E3D-A3F0-270814D5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0D1CF-4E25-4F4F-8B64-0CA2A338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86F36B-F3B0-460B-847E-72D5E36A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21A91-1A7F-4AF3-BB2F-95AD5A97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6BFC19-63D3-4C5E-B621-9DA4A64B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7A3664-25F0-4DCE-8532-D290FAF5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FCAAE-44B4-4071-A588-825987B6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A7365E-BEE8-4B60-A87E-D9463109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A9411D-5624-4683-98A8-69E28815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44B8-F5CB-4EFA-813F-EF5D4889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BC7622-9D7D-49F3-BF55-AA370490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23D6A5-2918-4507-BC02-F313A476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056BE-DEDC-4D42-ACE9-B2714ABE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93015-A250-4EA5-8EAC-362C48C7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0A37B-FC73-4E10-B6D1-B9D73D8C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30E65C-2D8B-47D0-AE91-E5DB2E52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3F40B-70A6-402B-BC22-2370AECA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B522AE-1D2A-4D82-918F-74FD6972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7E3B3-0C6B-4030-BA77-C2F8C112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33B4A5-335C-4E8B-8455-02DCABC5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C522-5ED0-41CB-9499-369998B6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9CFA2B-5425-41EF-96AC-C1A27E87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24CEB-626F-4FAD-82B4-E20A1ED4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3C3C9-0368-4AD5-8AF4-75183183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B29188-1D0B-41A0-8C50-C2AAFD25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07D74-8AE7-46BB-930B-4638C887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67280-6BEB-40A6-A9E3-1ABA7F4E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54F6CA-AA6A-48B1-B132-476F138A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5247A-540B-428B-A404-0BA65F7A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94F752-811C-40B9-9440-77A62EB2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355ADA-A095-42AB-B7E2-E16744A3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CE2-53E6-4343-9A22-7A51156C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E047-A4B9-4B5B-AC98-639196F5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A2869-B750-4CE0-A7E8-86EC38A2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9E6213-CFF1-4AE0-ABC2-1711828D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93D6E-9FE4-42D5-A3AD-86C1D639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440ADB-39D8-4051-A6FE-A366C5ED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6F9A24-2BEA-448D-B099-98FCD469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2A9666-37D3-4E35-8BD9-706AEF0D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942E1A-A0E3-4F48-8729-697D57C8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1A6838-386C-44FD-BE4F-5ED4FEC6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B213D1-4307-46C6-B0C3-DBCCB1F6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0CB885-09E2-408A-A355-5C45F5F6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2B2C-DEEA-4E52-8DAA-20D16DF8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AA6907-EEF2-4331-8574-A0E35230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E9D0F4-604A-47DE-80C0-8E86F3D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4646FB-702A-467A-ACC6-EA575EF6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09986E-BCD0-439D-8178-C164BF49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270C4E-2B58-48F0-B498-D65A6CD6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FCF6F4-A8E8-4070-AA2E-A541CDBE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4FD497-3CC6-4E43-BB2D-C923E4EF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1093C6-E615-427B-869F-BB0F3D07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CC4ABA-35C1-4BAC-B18F-E2332F05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2E9884-E43E-4AAD-81D3-D6B54664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8623-E8C8-4F51-AC0F-9EBD8FB5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117C7C-932D-43D2-B11F-6B7737AD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E033DB-095C-4880-A1B6-3A27148A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3D200F-6FB7-4B41-BCF8-08AA3F51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DB419F-92E9-4FC1-921D-F06F8AA7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11F92-968C-46A3-BA05-610383A5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70B4CA-4405-4C67-BE2B-1F86ADA7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0676B2-9760-4ED8-9CE7-7F8DF21A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83280E-E35F-4580-B9AD-045F6202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A86E98-5912-4069-A796-B16EE605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7A33EC-DAA3-4FAD-B6E5-1BD064AE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4871-872B-4DDB-B97B-CFF7B524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00C366-D835-49DD-ADC1-C50B7BDD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931305-A6E3-4064-AB20-818FE980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E9A1C0-4043-41A1-975A-A449E423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3A1832-65B2-4FE6-8F91-AEAE7B06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C6279D-4E4C-4DE7-934B-34107243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024DF2-90F0-408F-B64E-83F91717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92C8D2-5ADB-443A-8AB8-FFE44CAA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5F7208-7FD4-4D3A-BC1D-75096CAA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702DBF-D6DF-4DC1-8CBD-3127083C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F8271C-9D73-4307-B5A0-DA8042C3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86BB-B20E-46F3-AF96-4D0039F0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D5D363-6D50-4F0D-8045-23AE6677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22C1EB-F3F8-4982-A7AE-07DCFD85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E4F8A0-8FF8-4481-87E7-FA082EDE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734637-A5B0-4D6F-8FBC-B089763F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14B1CA-F546-46FA-8896-5171D5AF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BEBCEA-468D-43F5-827B-1EF9AD01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11DDA3-2C06-4079-9B91-CEB3AEC8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8A6B7-DF65-4235-A657-639A28B2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618394-57FC-4813-A373-6627E082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28A272-8572-4A57-8AB6-EA9F557D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2070A-3ABC-4613-AE0E-5C474952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E7CE3C-4C5A-439E-82D2-30681776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B46482-A5DE-4853-BD32-9C53B1B3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E1F39D-E1E0-4E87-9177-56312DFE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1B8772-AEB8-489D-859C-D0BF38D1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6F503E-B068-4C19-BA5D-1FC08577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ADD152-6A43-4715-84BD-E88BCB36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502038-F891-42BE-B99F-35137FBC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333E03-B957-4DCB-BBDB-920D781E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C924A9-C568-4175-B6B8-755F6B82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7CB315-A033-44D1-AD35-B73B4231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FEC9D-5533-4629-8C8E-1D7FC7DA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506355-3E57-4F39-9AB1-A589EAB3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5D53E0-3583-4FAF-A7A9-077144E4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918A8E-7439-4576-BEF2-6565BDEF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A88C61-FDE0-421E-9115-A6B5A8B5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417583-10A8-45D0-BA54-1D0B270A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DD114-1F9B-484D-BAAB-C0AD48B8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620A1-6CFE-4FDC-B785-AFE9ADFF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F3BF-3AC3-48F7-809B-5094ED77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8EF-3C1D-424B-B09D-3447F475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0A719-2CC6-431C-92B3-63879662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56FD9-6615-494E-8279-3134FC74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AFE59-8B73-4D4F-B751-925A6D5B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1558C-BAD5-45C4-9FCD-3BDC830B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F5349-5B4F-478A-ABBF-62ECFFFB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B851D-9220-4A7B-9E9B-10B126B1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0503-1DF2-431C-8335-E1911184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5FB87-B40C-48CD-AA9F-EEC902C2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3B78E-FC40-4883-AEF8-19AC88BF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50EB-215C-4374-8728-4DFB112C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7F9-897A-4EF9-814C-F2FF1C95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3F046-ABE7-4179-A4C9-62214DC6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A4416-AD87-4C4C-86EC-CD3A1279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76581-1CD1-4482-AA4A-197F4929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4E82F-D3E9-4D50-8229-1EF5FDCD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AB25B-277E-4291-94D0-DEDEC662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20272-2DD2-48AC-A9FE-40FA7CB2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D75C2-AD57-4A59-8B58-CC970AE6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018C8-F4BD-4A55-9F58-32F6C1F8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09976-6CE2-438E-AE9E-8C2006FB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42A8F-35B5-4E1A-93D8-EE4BE5E1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4A8-6451-4927-A680-AE9BC8E6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36C1D-A186-4059-AC3C-2D515AE1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DAEF9-AFF2-4CD8-B3D0-486FD892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302B4-C647-4895-999D-DDFA1114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5899C-1743-4B11-B54D-49B3200D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A1A68-69B3-400B-A2BF-1DD0F87A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347D5-E5AF-44DD-8395-8A9D67D9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A81DC-D76F-42D2-93D2-BDB36D40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68E8F-320C-4E4F-816C-A56DF884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C597B-2799-44EB-885F-41D56B7B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7C293-AB66-4023-889D-B67FCEB1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FE8-7937-44C6-86B9-689FAA80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3D83E-C941-4078-B594-5825719C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F6707-7197-4A68-9835-A0C17A8F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B82B5-56E9-46AA-AF40-7FE1FA6F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FD872-D61F-49FD-9785-B02B56CF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28703-14B0-456D-9E7A-CCFC986F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1EE64-E94B-4EF4-8F17-8D416CCD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C276C-7B68-4D65-92E0-2F332FCE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68C87-9791-448B-B517-56DF0A0C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1EAD3-126A-4D16-B0BB-B2683BEE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A2CE0-DB57-4D5D-9F2C-7EF950B2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26C-8BAC-4F8F-ADC9-D187946A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81F9E-E041-4E07-B260-BE7C2CE5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E3AE8-FC12-4468-8D3E-34605A6E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D2518-5397-41F9-833C-3E8BB8A4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C1F01-F4D8-43E1-9983-1A6DC00E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E427C-FF70-4C6A-BCD8-BD850D37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B3F54-E07D-401B-BCF2-AE019F21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A12EF-79A8-4665-B4F2-86E7BE1C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6C5CC-3999-4C07-983E-E8F9099B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B20A5-38E0-48CE-BF6A-72E0D507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1324D-8413-4CB7-88FB-56A8F4ED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DE5-C443-4673-AB36-4031B1C7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87E20-A04B-4E8E-B080-E2D2C37F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8D778-4FDD-416C-9517-CF158A58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FDE41-4CB8-4536-B294-7E6B06E7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5329A-DB89-4618-936F-46D0005B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6B476-4117-4868-89EF-E595C7F3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E1CD1-5F1E-48B5-9FC3-4F1048E5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B244C-A045-4320-A900-104137E2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AF64E-9890-4E42-8895-119CACE9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1A0AA-F7DC-437C-BB8E-2A22C324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770CB-D385-4F69-B686-4CE3FA96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3CB-3B9C-4145-A6E5-843F7C4A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B0322-CD29-40F8-998C-24DFC891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98E97-DA7B-4E0F-A49A-17F5838A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F427B-C6EB-428A-84E0-C80DA98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F410D-529C-458F-8B6D-EFB0CFD4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13A72-1964-4679-9D38-D7FA782D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17439-D3F0-4521-A012-C6DA24F2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88618-E1F0-4F32-AD37-7683461F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360FD-1DDA-4F05-A9CC-9894AF11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0A6DC-DF6A-4CFD-B8DE-E139B370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0144C-4CA7-4082-AA59-E9E974E9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3DDE-EE81-4053-94CD-51B604EF73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8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9d9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4EB7-3931-4018-962C-6F7A5AA066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7D37-8D33-4ED8-A586-F72E5F65D8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4A46-67D7-4985-8EF9-AF1110293C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2648-5219-4725-9166-BCCC3B687B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FED1-3D8C-4FCC-B6D1-0F4777C4C7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5BD5-C7B7-4859-A537-DE9A04EA64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966B-0CB8-4711-B786-C9E94DC814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44AE-2095-42D0-B67B-A026880ADE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7118-D740-4BBB-9887-DB1D38951B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5FC9-8DBD-4646-A23C-967B176A5A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1331-4928-40B6-AA81-8FDCA3678D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D174-7FA3-4634-8CC1-D7F1219D63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0891-BF84-4F87-A7F4-7D4E73480D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64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65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66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4132-D7D0-4A7B-AE4F-90A836020A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B959-A96B-415C-ACB5-814AE0C1A0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8757-903B-499B-9D30-4B02227EA3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3F9F-01CA-4F29-81CD-E88B0655CD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3A84-2466-4DE8-86BF-4656D2761C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936C-59FF-4711-B811-346E2B6D77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2CE3-9E2B-41AD-B9AF-0EF9DC3A41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7297-3368-4F09-8DA8-47E0ABADD2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WordArt 3" descr="白色大理石"/>
          <p:cNvPicPr/>
          <p:nvPr/>
        </p:nvPicPr>
        <p:blipFill>
          <a:blip r:embed="rId1"/>
          <a:stretch/>
        </p:blipFill>
        <p:spPr>
          <a:xfrm>
            <a:off x="1809720" y="1504800"/>
            <a:ext cx="58705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2" descr="wight017"/>
          <p:cNvPicPr/>
          <p:nvPr/>
        </p:nvPicPr>
        <p:blipFill>
          <a:blip r:embed="rId1"/>
          <a:stretch/>
        </p:blipFill>
        <p:spPr>
          <a:xfrm>
            <a:off x="0" y="0"/>
            <a:ext cx="8915400" cy="68594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3" descr="wight017"/>
          <p:cNvPicPr/>
          <p:nvPr/>
        </p:nvPicPr>
        <p:blipFill>
          <a:blip r:embed="rId2"/>
          <a:stretch/>
        </p:blipFill>
        <p:spPr>
          <a:xfrm>
            <a:off x="0" y="0"/>
            <a:ext cx="8915400" cy="1905120"/>
          </a:xfrm>
          <a:prstGeom prst="rect">
            <a:avLst/>
          </a:prstGeom>
          <a:ln w="0">
            <a:noFill/>
          </a:ln>
        </p:spPr>
      </p:pic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课后拓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1066680" y="1143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瑞恩的执着感动了妈妈的一位朋友。她决定帮帮这个富有同情心的孩子。她把瑞恩的事写成了文章。如果你就是妈妈的朋友，你会在文章中写些什么呢？请结合上下文，结合自己的感受，写一段话。参考题目：《执着的瑞恩》、《瑞恩的梦想》、《瑞恩的井》……也可以自己命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Picture 6" descr="wight017"/>
          <p:cNvPicPr/>
          <p:nvPr/>
        </p:nvPicPr>
        <p:blipFill>
          <a:blip r:embed="rId3"/>
          <a:stretch/>
        </p:blipFill>
        <p:spPr>
          <a:xfrm>
            <a:off x="0" y="-1440"/>
            <a:ext cx="8915400" cy="6859440"/>
          </a:xfrm>
          <a:prstGeom prst="rect">
            <a:avLst/>
          </a:prstGeom>
          <a:ln w="0">
            <a:noFill/>
          </a:ln>
        </p:spPr>
      </p:pic>
      <p:sp>
        <p:nvSpPr>
          <p:cNvPr id="951" name="Text Box 7"/>
          <p:cNvSpPr/>
          <p:nvPr/>
        </p:nvSpPr>
        <p:spPr>
          <a:xfrm>
            <a:off x="838080" y="12193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8"/>
          <p:cNvSpPr/>
          <p:nvPr/>
        </p:nvSpPr>
        <p:spPr>
          <a:xfrm>
            <a:off x="1295280" y="19810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中哪些地方出乎你的意料？在这出乎意料的地方你想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Picture 2" descr="BAS003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4" name="Text Box 3"/>
          <p:cNvSpPr/>
          <p:nvPr/>
        </p:nvSpPr>
        <p:spPr>
          <a:xfrm>
            <a:off x="0" y="60948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瑞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希里杰克  被人称为“加拿大的灵魂”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，在加拿大国际发展协会的帮助下，成立了“瑞恩的井”基金会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，他接受了加拿大总督克拉克森颁发的国家荣誉勋章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，他作为唯一的加拿大人，被评选为“北美洲十大少年英雄”。这一切来自于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岁时的一个小小的愿望──为非洲儿童挖一口井！起初，挖井的钱是靠他一个人做家务赚来的。然后亲戚、朋友、邻居也加入进来……随着时间的推移，他的心愿鼓舞了全世界六十多个国家的成年人，帮助瑞恩的队伍越来越庞大，人们纷纷解囊相助。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初，“瑞恩的井”基金会有七十多万加元，已经在非洲挖了七十多口水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，瑞恩去日本参加“第三届世界水资源论坛”，中央电视台《实话实说》栏目组邀请瑞恩和他的妈妈到中国做客。瑞恩和他的妈妈通过《实话实说》节目与中国广大观众见面。在这次节目即将结束时，瑞恩说：“我要为取得干净的水源而努力工作，直到我爸爸那个年纪。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2" descr="FR4021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6" name="Text Box 3"/>
          <p:cNvSpPr/>
          <p:nvPr/>
        </p:nvSpPr>
        <p:spPr>
          <a:xfrm>
            <a:off x="1523880" y="1981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正是因为瑞恩对梦想的坚持，唤醒了众人的爱心，才让这个梦想产生了如此巨大的力量。一个孩子的梦，影响越来越多的人去关爱和帮助别人，并且给非洲人民带来生存的希望，这就是──梦想的力量。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Picture 2" descr="BAS00226"/>
          <p:cNvPicPr/>
          <p:nvPr/>
        </p:nvPicPr>
        <p:blipFill>
          <a:blip r:embed="rId1"/>
          <a:stretch/>
        </p:blipFill>
        <p:spPr>
          <a:xfrm>
            <a:off x="-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09120" y="18288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随着时间的推移，他的心愿鼓舞了全世界六十多个国家的成年人，帮助瑞恩的队伍越来越庞大，人们纷纷解囊相助。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00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初，“瑞恩的井”基金会有七十多万加元，已经在非洲挖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7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多口水井…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4"/>
          <p:cNvSpPr/>
          <p:nvPr/>
        </p:nvSpPr>
        <p:spPr>
          <a:xfrm>
            <a:off x="685800" y="12193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延续梦想的力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4" descr="wight017"/>
          <p:cNvPicPr/>
          <p:nvPr/>
        </p:nvPicPr>
        <p:blipFill>
          <a:blip r:embed="rId1"/>
          <a:stretch/>
        </p:blipFill>
        <p:spPr>
          <a:xfrm>
            <a:off x="0" y="0"/>
            <a:ext cx="8915400" cy="6859440"/>
          </a:xfrm>
          <a:prstGeom prst="rect">
            <a:avLst/>
          </a:prstGeom>
          <a:ln w="0">
            <a:noFill/>
          </a:ln>
        </p:spPr>
      </p:pic>
      <p:sp>
        <p:nvSpPr>
          <p:cNvPr id="963" name="Text Box 5"/>
          <p:cNvSpPr/>
          <p:nvPr/>
        </p:nvSpPr>
        <p:spPr>
          <a:xfrm>
            <a:off x="1447920" y="1828800"/>
            <a:ext cx="670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阅读江菲发表在《中国青年报》的原文《梦想的力量》。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写一篇读后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2" descr="1"/>
          <p:cNvPicPr/>
          <p:nvPr/>
        </p:nvPicPr>
        <p:blipFill>
          <a:blip r:embed="rId1"/>
          <a:srcRect l="17551" t="24380" r="35721" b="24360"/>
          <a:stretch/>
        </p:blipFill>
        <p:spPr>
          <a:xfrm>
            <a:off x="914400" y="2057400"/>
            <a:ext cx="6172200" cy="3754440"/>
          </a:xfrm>
          <a:prstGeom prst="rect">
            <a:avLst/>
          </a:prstGeom>
          <a:ln w="0">
            <a:noFill/>
          </a:ln>
        </p:spPr>
      </p:pic>
      <p:pic>
        <p:nvPicPr>
          <p:cNvPr id="924" name="WordArt 3" descr="白色大理石"/>
          <p:cNvPicPr/>
          <p:nvPr/>
        </p:nvPicPr>
        <p:blipFill>
          <a:blip r:embed="rId2"/>
          <a:stretch/>
        </p:blipFill>
        <p:spPr>
          <a:xfrm>
            <a:off x="1352520" y="438120"/>
            <a:ext cx="44020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2" descr="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Picture 2" descr="wight017"/>
          <p:cNvPicPr/>
          <p:nvPr/>
        </p:nvPicPr>
        <p:blipFill>
          <a:blip r:embed="rId1"/>
          <a:stretch/>
        </p:blipFill>
        <p:spPr>
          <a:xfrm>
            <a:off x="-152280" y="-1440"/>
            <a:ext cx="8915400" cy="6859440"/>
          </a:xfrm>
          <a:prstGeom prst="rect">
            <a:avLst/>
          </a:prstGeom>
          <a:ln w="0">
            <a:noFill/>
          </a:ln>
        </p:spPr>
      </p:pic>
      <p:sp>
        <p:nvSpPr>
          <p:cNvPr id="927" name="Rectangle 3"/>
          <p:cNvSpPr/>
          <p:nvPr/>
        </p:nvSpPr>
        <p:spPr>
          <a:xfrm>
            <a:off x="380880" y="2197080"/>
            <a:ext cx="754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非洲的安格鲁地区长年干旱。最近的水源是５公里外的一处池塘。这里常年有１／４学生患有霍乱、伤寒和其他严重的水生寄生虫疾病。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万多居民，却没有一名医生，１／５的孩子在５岁前就死掉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据统计，目前全世界共有１１亿人口缺水，而南非洲就有２／３的农村和１／４的城镇近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亿人口缺水，整个非洲缺水人口达４亿，占非洲总人口的６６％。近年来，非洲旱灾频发，因饮用不清洁水引发的各种疾病，每年都要夺走数以百万计非洲人的生命。有关专家估计，非洲缺水问题还有可能继续恶化和蔓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2" descr="BAS00226"/>
          <p:cNvPicPr/>
          <p:nvPr/>
        </p:nvPicPr>
        <p:blipFill>
          <a:blip r:embed="rId1"/>
          <a:stretch/>
        </p:blipFill>
        <p:spPr>
          <a:xfrm>
            <a:off x="-30492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读要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瑞恩的梦想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是怎样一步步实现自己梦想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2" descr="wight017"/>
          <p:cNvPicPr/>
          <p:nvPr/>
        </p:nvPicPr>
        <p:blipFill>
          <a:blip r:embed="rId1"/>
          <a:stretch/>
        </p:blipFill>
        <p:spPr>
          <a:xfrm>
            <a:off x="0" y="0"/>
            <a:ext cx="8915400" cy="6859440"/>
          </a:xfrm>
          <a:prstGeom prst="rect">
            <a:avLst/>
          </a:prstGeom>
          <a:ln w="0">
            <a:noFill/>
          </a:ln>
        </p:spPr>
      </p:pic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课后拓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1066680" y="1143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瑞恩的执着感动了妈妈的一位朋友。她决定帮帮这个富有同情心的孩子。她把瑞恩的事写成了文章。如果你就是妈妈的朋友，你会在文章中写些什么呢？请结合上下文，结合自己的感受，写一段话。参考题目：《执着的瑞恩》、《瑞恩的梦想》、《瑞恩的井》……也可以自己命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Picture 5" descr="wight017"/>
          <p:cNvPicPr/>
          <p:nvPr/>
        </p:nvPicPr>
        <p:blipFill>
          <a:blip r:embed="rId2"/>
          <a:stretch/>
        </p:blipFill>
        <p:spPr>
          <a:xfrm>
            <a:off x="0" y="0"/>
            <a:ext cx="8915400" cy="6859440"/>
          </a:xfrm>
          <a:prstGeom prst="rect">
            <a:avLst/>
          </a:prstGeom>
          <a:ln w="0">
            <a:noFill/>
          </a:ln>
        </p:spPr>
      </p:pic>
      <p:sp>
        <p:nvSpPr>
          <p:cNvPr id="935" name="Text Box 6"/>
          <p:cNvSpPr/>
          <p:nvPr/>
        </p:nvSpPr>
        <p:spPr>
          <a:xfrm>
            <a:off x="838080" y="12193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7"/>
          <p:cNvSpPr/>
          <p:nvPr/>
        </p:nvSpPr>
        <p:spPr>
          <a:xfrm flipV="1" rot="10800000">
            <a:off x="1217520" y="1218240"/>
            <a:ext cx="66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声不吭的瑞恩突然说：“那我来攒钱买钻井机吧。”他的声音很小，但很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坚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“我想让非洲的每一个人都能喝上洁净的水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8"/>
          <p:cNvSpPr/>
          <p:nvPr/>
        </p:nvSpPr>
        <p:spPr>
          <a:xfrm>
            <a:off x="1371600" y="342900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瑞恩还小，他不知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是个多么大的数目，他只是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兴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说：“那我再多干些活挣更多的钱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2" descr="BAS002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3520" y="-129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57200" y="2133360"/>
            <a:ext cx="72388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瑞恩实现梦想大体经历了三个骤：      一、筹集７０块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筹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０块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筹集买钻井机的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2" descr="wight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42" name="Rectangle 3"/>
          <p:cNvSpPr/>
          <p:nvPr/>
        </p:nvSpPr>
        <p:spPr>
          <a:xfrm>
            <a:off x="838080" y="295524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文是按什么顺序来写这一过程的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2" descr="2006753417682"/>
          <p:cNvPicPr/>
          <p:nvPr/>
        </p:nvPicPr>
        <p:blipFill>
          <a:blip r:embed="rId1">
            <a:lum bright="30000"/>
          </a:blip>
          <a:srcRect l="0" t="0" r="1270" b="14562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 txBox="1"/>
          <p:nvPr/>
        </p:nvSpPr>
        <p:spPr>
          <a:xfrm>
            <a:off x="380880" y="24382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啊，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一个梦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如此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力量，在此时有谁不流泪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4" descr="thumb_8c4afbbff8da6593623afcfab5638474"/>
          <p:cNvPicPr/>
          <p:nvPr/>
        </p:nvPicPr>
        <p:blipFill>
          <a:blip r:embed="rId2"/>
          <a:stretch/>
        </p:blipFill>
        <p:spPr>
          <a:xfrm>
            <a:off x="6781680" y="4846680"/>
            <a:ext cx="2362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05:50:15Z</dcterms:created>
  <dc:creator/>
  <dc:description/>
  <cp:keywords/>
  <dc:language>en-US</dc:language>
  <cp:lastModifiedBy>Administrator</cp:lastModifiedBy>
  <dcterms:modified xsi:type="dcterms:W3CDTF">2016-06-06T02:52:55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  <property fmtid="{D5CDD505-2E9C-101B-9397-08002B2CF9AE}" pid="3" name="Version">
    <vt:r8>1</vt:r8>
  </property>
</Properties>
</file>