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46A9-78C0-4247-A75E-60FCBC30F9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0086-B3BE-4403-9D6B-0CDE53466176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61A-B1FF-4AB9-A1D9-5C930AC0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F5C-4558-4D67-B543-6C13063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25B-894D-4DA2-BEFB-AA3E22F7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AC8-434B-420E-ADB0-BD8DF058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A67D-F056-409D-BB67-CB95B123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EAC8-143F-4B83-BB3D-4AE6B59F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E201-843D-4B77-AC03-F7181454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478D-91A8-4B10-8665-27794483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D309-0BF5-4ED2-B148-57DE8BCE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7370-D521-4790-A5DC-919ECBFE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BE6B-AACB-4C37-87B0-F46E1E40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1D7-7BF0-4DC3-83C1-ABD608B0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66B3-2956-494D-8609-881CD608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230F-CD38-4714-920F-B1F65438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6F63-8A83-4C60-A54B-4C636ED0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60F3-DAD2-44B5-8BEA-8484B96C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6C28-E6D3-4DCF-8CAC-2F633566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49AC-6D7A-4C38-A5B3-15F3705D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4A638-42D3-4AC3-A514-9894B2D5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C34D-9069-48D1-B0B8-57171CC0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5F676-6698-488F-9FDA-10446FBC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32D1-3343-4AFF-B844-D182A1BA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A73-AEB7-4A68-A5C7-CC8A1BB6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FA78-39DF-4D86-8CE1-EE8DDF46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9BBA-CB4F-499B-A589-BC1A24D8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5B6D-78BA-4092-9C83-8EC9FDF6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5C3CF-08F5-4210-AD89-F1A9E33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EC5C-E29E-4099-80EA-032954FC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38E71-6898-4A5A-9517-07C97F31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6660-BE69-44F5-A042-12739CD7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65F9-9FC1-4015-BE01-3CD69CB5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26F6-9C48-4C98-A80F-1F8EB740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73593-6B95-4471-A00A-DBC7664D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123-72BA-4E14-8B8B-E1848B97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3C45B-5229-4E4E-8240-F81A458D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63217-5931-4401-B1E5-5898C677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D888-D76A-485B-AABB-D0B54618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7FA7C-564B-461B-9151-13D725BF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7B60-9E38-404A-8938-4955014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96B6-5295-498C-9A9B-BB31C5ED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AEBC-13E0-411B-877D-73215CBC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2D3FA-EE40-4C83-9A9D-E0957692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F995-F191-421B-A7D3-699ABA63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50F4F-5935-43E3-A96B-D448C003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386-245F-41E3-B90B-98616FA6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58245-F021-4A8A-B333-F8D17D8B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119A-669E-41BF-8FEC-4C935A6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63B0F-D2FA-45EC-9DC6-2E4A0A49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E979E-7C74-46C8-9B6C-82452690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1C4F5-534F-4178-8256-A127C0BB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570E-AC87-4D23-922E-D852B32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85B2-CF81-4B5E-B879-75BF31E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3AC90-C716-47FD-A3EA-7EB2FFD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5E9C-038A-49BC-9B69-06988697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ABE1-3653-4F6A-9543-AC3F084A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483-5C02-4F15-A08E-C2F772FF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1F543-5300-4E7C-9C82-56D4655F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29131-B6F4-4BE4-9DE7-2B8987C6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65DD0-4FAE-4B3B-BEC0-3D5F3616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4F4C5-8677-40C9-AE3C-3CF9E588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E4355-569F-4361-B1A0-E064D5C7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EA390-19F0-4B3E-82A4-34393B54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B4212-5157-48F4-B726-343E4274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D3CA4-CD3D-4F70-8ED3-95179C55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75BE-1FFA-455C-AC5E-B8950207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41220-3A6C-4848-BBA0-0C4D2FB2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131-0FFE-4F36-A296-B012C18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3A6DB-61F1-4155-B90F-6DA571FD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5DECE-AD34-4CC9-BBBB-A3B8DB69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7379-A8AB-4477-8C4A-E3A5A423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4EE-CB0A-4F49-ACA1-727381B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FF9-9CD9-4D15-BBB0-2E08EEC7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FC54-132E-4E44-A982-C09CE7F5544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8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C320-B22D-4A11-AE8E-B185BB2DD62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5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7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9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6C4A-6EF6-4B9E-B8A8-77E7EB1C3045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4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47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8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0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1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C353-5C9D-499E-ACE1-36F5862DF74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96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7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8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01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02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4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5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7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45F-B8A5-4454-9F08-AB86887D92D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50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2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3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55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56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8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EC69-6DA4-4D27-970E-AD186ED6D312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626920" y="4941720"/>
            <a:ext cx="38163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微软雅黑"/>
              </a:rPr>
              <a:t>语文</a:t>
            </a:r>
            <a:r>
              <a:rPr b="1" lang="en-US" sz="1500" spc="-1" strike="noStrike">
                <a:solidFill>
                  <a:srgbClr val="000000"/>
                </a:solidFill>
                <a:latin typeface="微软雅黑"/>
              </a:rPr>
              <a:t>S</a:t>
            </a:r>
            <a:r>
              <a:rPr b="1" lang="zh-CN" sz="1500" spc="-1" strike="noStrike">
                <a:solidFill>
                  <a:srgbClr val="000000"/>
                </a:solidFill>
                <a:latin typeface="微软雅黑"/>
              </a:rPr>
              <a:t>版 六年级下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916360" y="4223880"/>
            <a:ext cx="4248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课 编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8897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Arial"/>
                <a:ea typeface="楷体_GB2312"/>
              </a:rPr>
              <a:t>朗读第 </a:t>
            </a:r>
            <a:r>
              <a:rPr b="1" lang="en-US" sz="3000" spc="-1" strike="noStrike">
                <a:solidFill>
                  <a:srgbClr val="008000"/>
                </a:solidFill>
                <a:latin typeface="Arial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8000"/>
                </a:solidFill>
                <a:latin typeface="Arial"/>
                <a:ea typeface="楷体_GB2312"/>
              </a:rPr>
              <a:t>自然段，体会曾侯乙编钟的重要的价值。（</a:t>
            </a:r>
            <a:r>
              <a:rPr b="1" lang="zh-CN" sz="2100" spc="-1" strike="noStrike">
                <a:solidFill>
                  <a:srgbClr val="ff0000"/>
                </a:solidFill>
                <a:latin typeface="Arial"/>
                <a:ea typeface="楷体_GB2312"/>
              </a:rPr>
              <a:t>用横线画出文中原句</a:t>
            </a:r>
            <a:r>
              <a:rPr b="1" lang="zh-CN" sz="3000" spc="-1" strike="noStrike">
                <a:solidFill>
                  <a:srgbClr val="008000"/>
                </a:solidFill>
                <a:latin typeface="Arial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8360" y="2781360"/>
            <a:ext cx="8345520" cy="11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楷体_GB2312"/>
              </a:rPr>
              <a:t>“曾侯乙编钟是我国目前出土数量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最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楷体_GB2312"/>
              </a:rPr>
              <a:t>多、保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最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楷体_GB2312"/>
              </a:rPr>
              <a:t>全、音律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最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楷体_GB2312"/>
              </a:rPr>
              <a:t>全、气势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最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楷体_GB2312"/>
              </a:rPr>
              <a:t>宏伟的一套编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468360" y="40766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、这套编钟以恢弘的气势、精湛的铸造工艺、非凡的音乐效果以及内容丰富的乐律铭文震惊了世界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楷体_GB2312"/>
              </a:rPr>
              <a:t>学习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楷体_GB2312"/>
              </a:rPr>
              <a:t>、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楷体_GB2312"/>
              </a:rPr>
              <a:t>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8360" y="2637000"/>
            <a:ext cx="8424720" cy="11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同桌讨论：</a:t>
            </a:r>
            <a:r>
              <a:rPr b="1" lang="zh-CN" sz="4000" spc="-1" strike="noStrike">
                <a:solidFill>
                  <a:srgbClr val="0070c0"/>
                </a:solidFill>
                <a:latin typeface="Arial"/>
                <a:ea typeface="楷体_GB2312"/>
              </a:rPr>
              <a:t>曾侯乙编钟有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000802e406ec0bbe571945"/>
          <p:cNvPicPr/>
          <p:nvPr/>
        </p:nvPicPr>
        <p:blipFill>
          <a:blip r:embed="rId1"/>
          <a:stretch/>
        </p:blipFill>
        <p:spPr>
          <a:xfrm>
            <a:off x="2340000" y="3645000"/>
            <a:ext cx="5257800" cy="25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11280" y="2638080"/>
            <a:ext cx="7704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回忆：曾侯乙编钟的价值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、数量最多，保存最好，音律最全，气势最宏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、恢宏的气势，精湛的铸造工艺，非凡的音乐效果，内容丰富的乐律铭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324000" y="620640"/>
            <a:ext cx="807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曾侯乙编钟的特点：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造型设计精巧   音乐性能良好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拓展练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68360" y="227628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用一句话赞美编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有感情的朗读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编钟赋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5"/>
          <p:cNvSpPr/>
          <p:nvPr/>
        </p:nvSpPr>
        <p:spPr>
          <a:xfrm>
            <a:off x="250920" y="189000"/>
            <a:ext cx="2209680" cy="76176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1760"/>
              <a:gd name="textAreaBottom" fmla="*/ 672120 h 761760"/>
            </a:gdLst>
            <a:ahLst/>
            <a:rect l="textAreaLeft" t="textAreaTop" r="textAreaRight" b="textAreaBottom"/>
            <a:pathLst>
              <a:path w="6263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37" y="21600"/>
                </a:lnTo>
                <a:arcTo wR="3600" hR="3600" stAng="10800000" swAng="5400000"/>
                <a:lnTo>
                  <a:pt x="6263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拓展延伸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43" name="Picture 7" descr="20202ce89edc9cac5c3fbdbfc4dc0788"/>
          <p:cNvPicPr/>
          <p:nvPr/>
        </p:nvPicPr>
        <p:blipFill>
          <a:blip r:embed="rId1"/>
          <a:stretch/>
        </p:blipFill>
        <p:spPr>
          <a:xfrm>
            <a:off x="4284720" y="3789360"/>
            <a:ext cx="4248000" cy="26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隶书"/>
              </a:rPr>
              <a:t>编钟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79280" y="1500120"/>
            <a:ext cx="4316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历史的浓烟淡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淡化为氤 氲的白烟袅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有雷霆从地平线滚过华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一缕民族的精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从土地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掘起永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47960" y="1484280"/>
            <a:ext cx="42447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时光静默流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流逝成震动着的编钟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敲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响了龙的信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直了龙的脊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有思绪从亘古反馈而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古城踏歌起舞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9280" y="1052640"/>
            <a:ext cx="8686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b0f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曾侯乙编钟是我国目前出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数量最多、保存最好、音律最全、气势最宏伟的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一套编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它创造了中国古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钟双音的神奇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；它有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好的音乐性能和非凡的音乐效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；它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华名族的又一瑰宝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；它是中国古代劳动人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智慧与才能的结晶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5"/>
          <p:cNvSpPr/>
          <p:nvPr/>
        </p:nvSpPr>
        <p:spPr>
          <a:xfrm>
            <a:off x="179280" y="115920"/>
            <a:ext cx="2210040" cy="762120"/>
          </a:xfrm>
          <a:custGeom>
            <a:avLst/>
            <a:gdLst>
              <a:gd name="textAreaLeft" fmla="*/ 89640 w 2210040"/>
              <a:gd name="textAreaRight" fmla="*/ 2120400 w 22100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18" y="21600"/>
                </a:lnTo>
                <a:arcTo wR="3600" hR="3600" stAng="10800000" swAng="5400000"/>
                <a:lnTo>
                  <a:pt x="62618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堂小结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684000" y="155736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编钟是我国古代的一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打击乐器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，用青铜铸成。是古人把不同的钟按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音调高低的次序排列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起来，悬挂在钟架上面而制成的。通过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木槌敲击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演奏乐曲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。既可以用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奏、合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也可以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歌舞伴奏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5"/>
          <p:cNvSpPr/>
          <p:nvPr/>
        </p:nvSpPr>
        <p:spPr>
          <a:xfrm>
            <a:off x="324000" y="189000"/>
            <a:ext cx="2209680" cy="76176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1760"/>
              <a:gd name="textAreaBottom" fmla="*/ 672120 h 761760"/>
            </a:gdLst>
            <a:ahLst/>
            <a:rect l="textAreaLeft" t="textAreaTop" r="textAreaRight" b="textAreaBottom"/>
            <a:pathLst>
              <a:path w="6263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37" y="21600"/>
                </a:lnTo>
                <a:arcTo wR="3600" hR="3600" stAng="10800000" swAng="5400000"/>
                <a:lnTo>
                  <a:pt x="6263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新课导入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0"/>
          <p:cNvSpPr/>
          <p:nvPr/>
        </p:nvSpPr>
        <p:spPr>
          <a:xfrm>
            <a:off x="75564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幼圆"/>
              </a:rPr>
              <a:t>编钟的发声原理大体是，编钟的钟体小，音调就高，音量也小；钟体大，音调就低，音量也大，所以铸造时的尺寸和形状，对编钟有重要的影响。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15" name="Picture 7" descr="4"/>
          <p:cNvPicPr/>
          <p:nvPr/>
        </p:nvPicPr>
        <p:blipFill>
          <a:blip r:embed="rId1"/>
          <a:stretch/>
        </p:blipFill>
        <p:spPr>
          <a:xfrm>
            <a:off x="1258920" y="1125360"/>
            <a:ext cx="676908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内容占位符 3" descr="200835195110347_2.jpg"/>
          <p:cNvPicPr/>
          <p:nvPr/>
        </p:nvPicPr>
        <p:blipFill>
          <a:blip r:embed="rId1"/>
          <a:srcRect l="0" t="4094" r="0" b="0"/>
          <a:stretch/>
        </p:blipFill>
        <p:spPr>
          <a:xfrm>
            <a:off x="1403280" y="1197000"/>
            <a:ext cx="6804000" cy="5006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三角标（logo）"/>
          <p:cNvPicPr/>
          <p:nvPr/>
        </p:nvPicPr>
        <p:blipFill>
          <a:blip r:embed="rId2"/>
          <a:stretch/>
        </p:blipFill>
        <p:spPr>
          <a:xfrm>
            <a:off x="8521560" y="0"/>
            <a:ext cx="622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3419640" y="1341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宋体"/>
              </a:rPr>
              <a:t>西周青铜编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19" name="Picture 4" descr="u=944097590,1825183118&amp;fm=23&amp;gp=0"/>
          <p:cNvPicPr/>
          <p:nvPr/>
        </p:nvPicPr>
        <p:blipFill>
          <a:blip r:embed="rId1"/>
          <a:stretch/>
        </p:blipFill>
        <p:spPr>
          <a:xfrm>
            <a:off x="179280" y="2349360"/>
            <a:ext cx="891540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W020070619530711455300"/>
          <p:cNvPicPr/>
          <p:nvPr/>
        </p:nvPicPr>
        <p:blipFill>
          <a:blip r:embed="rId1"/>
          <a:stretch/>
        </p:blipFill>
        <p:spPr>
          <a:xfrm>
            <a:off x="1332000" y="1557360"/>
            <a:ext cx="655164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7" descr="0410120304"/>
          <p:cNvPicPr/>
          <p:nvPr/>
        </p:nvPicPr>
        <p:blipFill>
          <a:blip r:embed="rId1"/>
          <a:srcRect l="0" t="0" r="0" b="5466"/>
          <a:stretch/>
        </p:blipFill>
        <p:spPr>
          <a:xfrm>
            <a:off x="1763640" y="1484280"/>
            <a:ext cx="5950080" cy="49053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94812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u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镌 刻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： 雕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拆 卸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：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5"/>
          <p:cNvSpPr/>
          <p:nvPr/>
        </p:nvSpPr>
        <p:spPr>
          <a:xfrm>
            <a:off x="25092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字词积累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828720" y="2565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泪水涟涟</a:t>
            </a:r>
            <a:r>
              <a:rPr b="1" lang="zh-CN" sz="3200" spc="-1" strike="noStrike">
                <a:solidFill>
                  <a:srgbClr val="9933ff"/>
                </a:solidFill>
                <a:latin typeface="Franklin Gothic Book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Franklin Gothic Book"/>
              </a:rPr>
              <a:t>形容不断流泪的样子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828720" y="350208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赞叹不已  ：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已：止，完。连声赞赏不止。</a:t>
            </a:r>
            <a:r>
              <a:rPr b="1" lang="zh-CN" sz="3200" spc="-1" strike="noStrike">
                <a:solidFill>
                  <a:srgbClr val="008000"/>
                </a:solidFill>
                <a:latin typeface="Franklin Gothic Book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828720" y="4294080"/>
            <a:ext cx="777564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Book"/>
              </a:rPr>
              <a:t>国泰民安  ：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泰，平安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安定。国家太平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,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人民安乐。</a:t>
            </a:r>
            <a:r>
              <a:rPr b="1" lang="zh-CN" sz="3200" spc="-1" strike="noStrike">
                <a:solidFill>
                  <a:srgbClr val="0000cc"/>
                </a:solidFill>
                <a:latin typeface="Franklin Gothic Book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27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266688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0" lang="zh-CN" sz="3000" spc="-1" strike="noStrike">
                <a:solidFill>
                  <a:srgbClr val="9933ff"/>
                </a:solidFill>
                <a:latin typeface="Arial"/>
              </a:rPr>
              <a:t>文章主要围绕哪一句话来介绍曾侯乙编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套编钟以恢弘的气的势、精湛的铸造工艺、非凡的音乐效果以及内容丰富的乐律铭文震惊了世界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971640" y="4437000"/>
            <a:ext cx="738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cc00"/>
                </a:solidFill>
                <a:latin typeface="Arial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8000"/>
                </a:solidFill>
                <a:latin typeface="Arial"/>
                <a:ea typeface="宋体"/>
              </a:rPr>
              <a:t>这句话概括的写出了曾侯乙编钟的哪些特点？</a:t>
            </a:r>
            <a:endParaRPr b="1" lang="en-US" sz="3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1" name="AutoShape 45"/>
          <p:cNvSpPr/>
          <p:nvPr/>
        </p:nvSpPr>
        <p:spPr>
          <a:xfrm>
            <a:off x="25092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文品读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</cp:lastModifiedBy>
  <dcterms:modified xsi:type="dcterms:W3CDTF">2017-11-25T05:2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