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6.gif" ContentType="image/gif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50.jpeg" ContentType="image/jpeg"/>
  <Override PartName="/ppt/media/image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461-08B1-49B7-993B-B828BB82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C17-2C75-4FA1-9B23-2C2CDEF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7A4-D55B-4D06-B140-1F1466E3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721-0744-4D82-B05F-24FEA947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47D-5EC6-4E04-89E5-62F3DC2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132-F718-49B5-ACD2-34FE1BA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1F6-484B-49E2-9616-42D790D5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78E-20F5-4922-B142-265F568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9ED-92F3-40D7-A06F-18934BD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70E-5340-4736-AB92-B5D2A4D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5DA-5F5B-4159-88ED-E55F407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6F5-A460-4936-8404-A48DE41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7986E-7AF5-4E08-B475-16C856FD71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0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The Clothes We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36720" y="4467240"/>
            <a:ext cx="6039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961920" y="27846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936720" y="432756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1933560" y="2562120"/>
            <a:ext cx="314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wearing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穿着短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2260440" y="4213080"/>
            <a:ext cx="43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衬衫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的；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"/>
          <p:cNvSpPr/>
          <p:nvPr/>
        </p:nvSpPr>
        <p:spPr>
          <a:xfrm>
            <a:off x="1924200" y="170640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ʃɔːts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短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2959200" y="505296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hort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裤子就是短裤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hort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2"/>
          <p:cNvGrpSpPr/>
          <p:nvPr/>
        </p:nvGrpSpPr>
        <p:grpSpPr>
          <a:xfrm>
            <a:off x="1023840" y="5172120"/>
            <a:ext cx="2403720" cy="459720"/>
            <a:chOff x="1023840" y="5172120"/>
            <a:chExt cx="2403720" cy="459720"/>
          </a:xfrm>
        </p:grpSpPr>
        <p:sp>
          <p:nvSpPr>
            <p:cNvPr id="169" name="TextBox 10"/>
            <p:cNvSpPr/>
            <p:nvPr/>
          </p:nvSpPr>
          <p:spPr>
            <a:xfrm>
              <a:off x="1339560" y="517212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23840" y="52196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20" descr=""/>
          <p:cNvPicPr/>
          <p:nvPr/>
        </p:nvPicPr>
        <p:blipFill>
          <a:blip r:embed="rId3"/>
          <a:stretch/>
        </p:blipFill>
        <p:spPr>
          <a:xfrm>
            <a:off x="863640" y="1701720"/>
            <a:ext cx="1085760" cy="7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"/>
          <p:cNvPicPr/>
          <p:nvPr/>
        </p:nvPicPr>
        <p:blipFill>
          <a:blip r:embed="rId4"/>
          <a:stretch/>
        </p:blipFill>
        <p:spPr>
          <a:xfrm>
            <a:off x="5975280" y="1582560"/>
            <a:ext cx="2590920" cy="27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26"/>
          <p:cNvGrpSpPr/>
          <p:nvPr/>
        </p:nvGrpSpPr>
        <p:grpSpPr>
          <a:xfrm>
            <a:off x="925560" y="3328920"/>
            <a:ext cx="1244520" cy="459720"/>
            <a:chOff x="925560" y="3328920"/>
            <a:chExt cx="1244520" cy="459720"/>
          </a:xfrm>
        </p:grpSpPr>
        <p:sp>
          <p:nvSpPr>
            <p:cNvPr id="177" name="TextBox 3"/>
            <p:cNvSpPr/>
            <p:nvPr/>
          </p:nvSpPr>
          <p:spPr>
            <a:xfrm>
              <a:off x="1178280" y="33289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25560" y="337140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矩形 29"/>
          <p:cNvSpPr/>
          <p:nvPr/>
        </p:nvSpPr>
        <p:spPr>
          <a:xfrm>
            <a:off x="2054160" y="3089160"/>
            <a:ext cx="491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hort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o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2082960" y="4735440"/>
            <a:ext cx="60703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3"/>
          <p:cNvSpPr/>
          <p:nvPr/>
        </p:nvSpPr>
        <p:spPr>
          <a:xfrm>
            <a:off x="3000240" y="473544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表示复数概念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1231920" y="183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701800" y="1606680"/>
            <a:ext cx="572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rt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面不能直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修饰。类似的还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ousers, gloves, shoes, sock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724200" y="3365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8"/>
          <p:cNvSpPr/>
          <p:nvPr/>
        </p:nvSpPr>
        <p:spPr>
          <a:xfrm>
            <a:off x="682560" y="1333440"/>
            <a:ext cx="6332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绘图小高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c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给她的朋友画了一幅画，可是她的彩笔用完了，你能根据她的描述帮她把颜色涂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Tom. His shirt is green. His shorts are red and his shoes are blue. His socks are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7240680" y="2041560"/>
            <a:ext cx="1638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520560" y="1019160"/>
            <a:ext cx="8399520" cy="4933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1801800" y="525312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6018120" y="527220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7"/>
          <p:cNvSpPr/>
          <p:nvPr/>
        </p:nvSpPr>
        <p:spPr>
          <a:xfrm>
            <a:off x="3530520" y="1603440"/>
            <a:ext cx="4862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ɔː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nj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还是； 或，或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249640" y="2438280"/>
            <a:ext cx="4251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or that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还是那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"/>
          <p:cNvGrpSpPr/>
          <p:nvPr/>
        </p:nvGrpSpPr>
        <p:grpSpPr>
          <a:xfrm>
            <a:off x="192240" y="1706400"/>
            <a:ext cx="2566800" cy="667080"/>
            <a:chOff x="192240" y="1706400"/>
            <a:chExt cx="2566800" cy="667080"/>
          </a:xfrm>
        </p:grpSpPr>
        <p:sp>
          <p:nvSpPr>
            <p:cNvPr id="201" name="圆角矩形 18"/>
            <p:cNvSpPr/>
            <p:nvPr/>
          </p:nvSpPr>
          <p:spPr>
            <a:xfrm>
              <a:off x="896040" y="1777680"/>
              <a:ext cx="177876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9"/>
            <p:cNvSpPr/>
            <p:nvPr/>
          </p:nvSpPr>
          <p:spPr>
            <a:xfrm>
              <a:off x="1239120" y="1763280"/>
              <a:ext cx="15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92240" y="1706400"/>
              <a:ext cx="1087920" cy="6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3"/>
          <p:cNvSpPr/>
          <p:nvPr/>
        </p:nvSpPr>
        <p:spPr>
          <a:xfrm>
            <a:off x="1239840" y="259560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252520" y="3149640"/>
            <a:ext cx="5919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选择疑问句，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you from Shanghai or Nanj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来自上海还是南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263600" y="33066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1645200" y="5248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"/>
          <p:cNvSpPr/>
          <p:nvPr/>
        </p:nvSpPr>
        <p:spPr>
          <a:xfrm>
            <a:off x="3116160" y="5137200"/>
            <a:ext cx="28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2" descr=""/>
          <p:cNvPicPr/>
          <p:nvPr/>
        </p:nvPicPr>
        <p:blipFill>
          <a:blip r:embed="rId3"/>
          <a:stretch/>
        </p:blipFill>
        <p:spPr>
          <a:xfrm>
            <a:off x="2873520" y="1677960"/>
            <a:ext cx="657000" cy="6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1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1"/>
          <p:cNvSpPr/>
          <p:nvPr/>
        </p:nvSpPr>
        <p:spPr>
          <a:xfrm>
            <a:off x="5978520" y="4916520"/>
            <a:ext cx="27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er dress? 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文本框 8" descr=""/>
          <p:cNvPicPr/>
          <p:nvPr/>
        </p:nvPicPr>
        <p:blipFill>
          <a:blip r:embed="rId3"/>
          <a:stretch/>
        </p:blipFill>
        <p:spPr>
          <a:xfrm>
            <a:off x="2292480" y="-52560"/>
            <a:ext cx="5581440" cy="107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C:\Users\Administrator\Desktop\QQ截图20170614094050.jpg"/>
          <p:cNvPicPr/>
          <p:nvPr/>
        </p:nvPicPr>
        <p:blipFill>
          <a:blip r:embed="rId4"/>
          <a:stretch/>
        </p:blipFill>
        <p:spPr>
          <a:xfrm>
            <a:off x="909720" y="1111320"/>
            <a:ext cx="1633320" cy="1492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C:\Users\Administrator\Desktop\QQ截图20170614094033.jpg"/>
          <p:cNvPicPr/>
          <p:nvPr/>
        </p:nvPicPr>
        <p:blipFill>
          <a:blip r:embed="rId5"/>
          <a:stretch/>
        </p:blipFill>
        <p:spPr>
          <a:xfrm>
            <a:off x="3395520" y="1111320"/>
            <a:ext cx="1614600" cy="1492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C:\Users\Administrator\Desktop\QQ截图20170614094042.jpg"/>
          <p:cNvPicPr/>
          <p:nvPr/>
        </p:nvPicPr>
        <p:blipFill>
          <a:blip r:embed="rId6"/>
          <a:stretch/>
        </p:blipFill>
        <p:spPr>
          <a:xfrm>
            <a:off x="6249960" y="1104840"/>
            <a:ext cx="1592280" cy="1470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C:\Users\Administrator\Desktop\QQ截图20170614094104.jpg"/>
          <p:cNvPicPr/>
          <p:nvPr/>
        </p:nvPicPr>
        <p:blipFill>
          <a:blip r:embed="rId7"/>
          <a:stretch/>
        </p:blipFill>
        <p:spPr>
          <a:xfrm>
            <a:off x="1227240" y="3462480"/>
            <a:ext cx="1538280" cy="1412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C:\Users\Administrator\Desktop\QQ截图20170614094110.jpg"/>
          <p:cNvPicPr/>
          <p:nvPr/>
        </p:nvPicPr>
        <p:blipFill>
          <a:blip r:embed="rId8"/>
          <a:stretch/>
        </p:blipFill>
        <p:spPr>
          <a:xfrm>
            <a:off x="3889440" y="3462480"/>
            <a:ext cx="1493640" cy="141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C:\Users\Administrator\Desktop\QQ截图20170614094117.jpg"/>
          <p:cNvPicPr/>
          <p:nvPr/>
        </p:nvPicPr>
        <p:blipFill>
          <a:blip r:embed="rId9"/>
          <a:stretch/>
        </p:blipFill>
        <p:spPr>
          <a:xfrm>
            <a:off x="6188040" y="3473280"/>
            <a:ext cx="1465200" cy="13510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"/>
          <p:cNvSpPr/>
          <p:nvPr/>
        </p:nvSpPr>
        <p:spPr>
          <a:xfrm>
            <a:off x="631800" y="2575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new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2827440" y="25891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er shorts? No, they are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5911920" y="2575080"/>
            <a:ext cx="30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is shorts? 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1060560" y="4888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new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3506760" y="4879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is dress? 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7"/>
          <p:cNvSpPr/>
          <p:nvPr/>
        </p:nvSpPr>
        <p:spPr>
          <a:xfrm>
            <a:off x="3165480" y="1538280"/>
            <a:ext cx="41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re these her sho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她的短裤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o, they aren’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，不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18"/>
          <p:cNvSpPr/>
          <p:nvPr/>
        </p:nvSpPr>
        <p:spPr>
          <a:xfrm>
            <a:off x="1330200" y="1663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9"/>
          <p:cNvSpPr/>
          <p:nvPr/>
        </p:nvSpPr>
        <p:spPr>
          <a:xfrm>
            <a:off x="1589040" y="1630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9" descr="book.gif"/>
          <p:cNvPicPr/>
          <p:nvPr/>
        </p:nvPicPr>
        <p:blipFill>
          <a:blip r:embed="rId2"/>
          <a:stretch/>
        </p:blipFill>
        <p:spPr>
          <a:xfrm>
            <a:off x="528480" y="1549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2441520" y="40086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 dress is nic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的裙子是漂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1467000" y="40114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1490760" y="474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2462040" y="46450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 ski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的短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" descr=""/>
          <p:cNvPicPr/>
          <p:nvPr/>
        </p:nvPicPr>
        <p:blipFill>
          <a:blip r:embed="rId3"/>
          <a:stretch/>
        </p:blipFill>
        <p:spPr>
          <a:xfrm>
            <a:off x="6824520" y="15559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17"/>
          <p:cNvSpPr/>
          <p:nvPr/>
        </p:nvSpPr>
        <p:spPr>
          <a:xfrm>
            <a:off x="2130480" y="328140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hɜː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1821600" y="53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3292560" y="5226120"/>
            <a:ext cx="11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3" descr=""/>
          <p:cNvPicPr/>
          <p:nvPr/>
        </p:nvPicPr>
        <p:blipFill>
          <a:blip r:embed="rId4"/>
          <a:stretch/>
        </p:blipFill>
        <p:spPr>
          <a:xfrm>
            <a:off x="1550880" y="327960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801720" y="25797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1708200" y="2433600"/>
            <a:ext cx="4656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are not her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没在这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7"/>
          <p:cNvSpPr/>
          <p:nvPr/>
        </p:nvSpPr>
        <p:spPr>
          <a:xfrm>
            <a:off x="1541520" y="1546200"/>
            <a:ext cx="48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nɒ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副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；不，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835200" y="4178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缩写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8"/>
          <p:cNvSpPr/>
          <p:nvPr/>
        </p:nvSpPr>
        <p:spPr>
          <a:xfrm>
            <a:off x="2441520" y="3936960"/>
            <a:ext cx="26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not → is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not → a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not →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1160280" y="338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630520" y="327672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；不；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8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836640" y="422280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定回答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878040" y="239544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2554200" y="4151160"/>
            <a:ext cx="39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1773360" y="2230560"/>
            <a:ext cx="6529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引导的一般疑问句，询问某物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某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7"/>
          <p:cNvSpPr/>
          <p:nvPr/>
        </p:nvSpPr>
        <p:spPr>
          <a:xfrm>
            <a:off x="868320" y="1655640"/>
            <a:ext cx="76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＋ 主语＋ 形容词性物主代词＋ 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855720" y="36320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肯定回答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7"/>
          <p:cNvSpPr/>
          <p:nvPr/>
        </p:nvSpPr>
        <p:spPr>
          <a:xfrm>
            <a:off x="2519280" y="35020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58960" y="49100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1865160" y="4808520"/>
            <a:ext cx="52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is shirt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他的衬衫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t i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，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6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文本框 8" descr=""/>
          <p:cNvPicPr/>
          <p:nvPr/>
        </p:nvPicPr>
        <p:blipFill>
          <a:blip r:embed="rId3"/>
          <a:stretch/>
        </p:blipFill>
        <p:spPr>
          <a:xfrm>
            <a:off x="3017880" y="120600"/>
            <a:ext cx="3267000" cy="1146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C:\Users\john\Desktop\8.png"/>
          <p:cNvPicPr/>
          <p:nvPr/>
        </p:nvPicPr>
        <p:blipFill>
          <a:blip r:embed="rId4"/>
          <a:stretch/>
        </p:blipFill>
        <p:spPr>
          <a:xfrm>
            <a:off x="4849920" y="4664160"/>
            <a:ext cx="4294080" cy="134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C:\Users\john\Desktop\5.png"/>
          <p:cNvPicPr/>
          <p:nvPr/>
        </p:nvPicPr>
        <p:blipFill>
          <a:blip r:embed="rId5"/>
          <a:stretch/>
        </p:blipFill>
        <p:spPr>
          <a:xfrm>
            <a:off x="1019160" y="2963880"/>
            <a:ext cx="3363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C:\Users\john\Desktop\7.png"/>
          <p:cNvPicPr/>
          <p:nvPr/>
        </p:nvPicPr>
        <p:blipFill>
          <a:blip r:embed="rId6"/>
          <a:stretch/>
        </p:blipFill>
        <p:spPr>
          <a:xfrm>
            <a:off x="1028880" y="4656240"/>
            <a:ext cx="4039920" cy="1388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C:\Users\john\Desktop\10.png"/>
          <p:cNvPicPr/>
          <p:nvPr/>
        </p:nvPicPr>
        <p:blipFill>
          <a:blip r:embed="rId7"/>
          <a:stretch/>
        </p:blipFill>
        <p:spPr>
          <a:xfrm>
            <a:off x="4819680" y="2963880"/>
            <a:ext cx="3446280" cy="133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C:\Users\john\Desktop\11.png"/>
          <p:cNvPicPr/>
          <p:nvPr/>
        </p:nvPicPr>
        <p:blipFill>
          <a:blip r:embed="rId8"/>
          <a:stretch/>
        </p:blipFill>
        <p:spPr>
          <a:xfrm>
            <a:off x="1290600" y="1123920"/>
            <a:ext cx="6993000" cy="16653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7"/>
          <p:cNvSpPr/>
          <p:nvPr/>
        </p:nvSpPr>
        <p:spPr>
          <a:xfrm>
            <a:off x="5845320" y="330984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1930320" y="504180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835600" y="5527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541520" y="4599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se?  Can you say them in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C:\Users\john\Desktop\u=1629278978,1897730266&amp;fm=117&amp;gp=0[1].jpg"/>
          <p:cNvPicPr/>
          <p:nvPr/>
        </p:nvPicPr>
        <p:blipFill>
          <a:blip r:embed="rId2"/>
          <a:stretch/>
        </p:blipFill>
        <p:spPr>
          <a:xfrm>
            <a:off x="1596960" y="1925640"/>
            <a:ext cx="2635200" cy="215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https://ss3.bdstatic.com/70cFv8Sh_Q1YnxGkpoWK1HF6hhy/it/u=1475014255,2354423714&amp;fm=117&amp;gp=0.jpg"/>
          <p:cNvPicPr/>
          <p:nvPr/>
        </p:nvPicPr>
        <p:blipFill>
          <a:blip r:embed="rId3"/>
          <a:stretch/>
        </p:blipFill>
        <p:spPr>
          <a:xfrm>
            <a:off x="5002200" y="2157480"/>
            <a:ext cx="268596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"/>
          <p:cNvSpPr/>
          <p:nvPr/>
        </p:nvSpPr>
        <p:spPr>
          <a:xfrm>
            <a:off x="1019160" y="1650960"/>
            <a:ext cx="720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________ the blackboar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ook               B. Look at            C.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80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"/>
          <p:cNvSpPr/>
          <p:nvPr/>
        </p:nvSpPr>
        <p:spPr>
          <a:xfrm>
            <a:off x="1802880" y="26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363680" y="406872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7"/>
          <p:cNvSpPr/>
          <p:nvPr/>
        </p:nvSpPr>
        <p:spPr>
          <a:xfrm>
            <a:off x="2190600" y="4068720"/>
            <a:ext cx="6270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是一个祈使句，动词原形放在句首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ook at sth./ 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固定短语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1019160" y="1419120"/>
            <a:ext cx="720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s this Lily’s dress ________ Lucy’s 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ut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s this ________ 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r              C. s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4287960" y="1677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89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2"/>
          <p:cNvSpPr/>
          <p:nvPr/>
        </p:nvSpPr>
        <p:spPr>
          <a:xfrm>
            <a:off x="2773440" y="38685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049400" y="286704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1876320" y="2867040"/>
            <a:ext cx="62708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为“这是莉莉的连衣裙还是露西的连衣裙？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选择关系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120680" y="508176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0"/>
          <p:cNvSpPr/>
          <p:nvPr/>
        </p:nvSpPr>
        <p:spPr>
          <a:xfrm>
            <a:off x="1947960" y="5081760"/>
            <a:ext cx="627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r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她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形容词性物主代词，修饰名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"/>
          <p:cNvSpPr/>
          <p:nvPr/>
        </p:nvSpPr>
        <p:spPr>
          <a:xfrm>
            <a:off x="1019160" y="1282680"/>
            <a:ext cx="72039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These are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carf            B. socks           C.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—Are ________ his sh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; are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; isn’t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; a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3211560" y="146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300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"/>
          <p:cNvSpPr/>
          <p:nvPr/>
        </p:nvSpPr>
        <p:spPr>
          <a:xfrm>
            <a:off x="2652840" y="33307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049400" y="2635200"/>
            <a:ext cx="709776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1876320" y="2635200"/>
            <a:ext cx="6653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这些”，表示复数概念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120680" y="508176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1947960" y="5081760"/>
            <a:ext cx="627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这些”，指复数名词；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y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她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它们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复数人称代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703440" y="1033560"/>
            <a:ext cx="690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按要求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Is this your dress?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否定回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________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Are these your books?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肯定回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______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These are his shorts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为否定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2075040" y="419724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    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406600" y="275436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         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298116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31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3"/>
          <p:cNvSpPr/>
          <p:nvPr/>
        </p:nvSpPr>
        <p:spPr>
          <a:xfrm>
            <a:off x="1314360" y="5645160"/>
            <a:ext cx="317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aren’t his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1119240" y="1292400"/>
            <a:ext cx="713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1176480" y="3086280"/>
            <a:ext cx="729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, dress, shoe, sock, shorts, or, he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er sho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are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2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2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952640" y="203040"/>
            <a:ext cx="5827680" cy="64944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2"/>
          <p:cNvSpPr/>
          <p:nvPr/>
        </p:nvSpPr>
        <p:spPr>
          <a:xfrm>
            <a:off x="423720" y="4581360"/>
            <a:ext cx="52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is wearing shorts. He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is wearing a dress. She look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4"/>
          <a:stretch/>
        </p:blipFill>
        <p:spPr>
          <a:xfrm>
            <a:off x="1219320" y="1397160"/>
            <a:ext cx="2552760" cy="310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5"/>
          <a:stretch/>
        </p:blipFill>
        <p:spPr>
          <a:xfrm>
            <a:off x="4721400" y="1276200"/>
            <a:ext cx="1809720" cy="16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6"/>
          <a:stretch/>
        </p:blipFill>
        <p:spPr>
          <a:xfrm>
            <a:off x="6804000" y="1295280"/>
            <a:ext cx="1752480" cy="166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7"/>
          <a:stretch/>
        </p:blipFill>
        <p:spPr>
          <a:xfrm>
            <a:off x="4732200" y="3197160"/>
            <a:ext cx="173376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8"/>
          <a:stretch/>
        </p:blipFill>
        <p:spPr>
          <a:xfrm>
            <a:off x="6804000" y="3197160"/>
            <a:ext cx="1714680" cy="16290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" descr=""/>
          <p:cNvPicPr/>
          <p:nvPr/>
        </p:nvPicPr>
        <p:blipFill>
          <a:blip r:embed="rId9"/>
          <a:stretch/>
        </p:blipFill>
        <p:spPr>
          <a:xfrm>
            <a:off x="5213520" y="2460600"/>
            <a:ext cx="89532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矩形 2" descr=""/>
          <p:cNvPicPr/>
          <p:nvPr/>
        </p:nvPicPr>
        <p:blipFill>
          <a:blip r:embed="rId10"/>
          <a:stretch/>
        </p:blipFill>
        <p:spPr>
          <a:xfrm>
            <a:off x="7280280" y="2473200"/>
            <a:ext cx="963720" cy="462240"/>
          </a:xfrm>
          <a:prstGeom prst="rect">
            <a:avLst/>
          </a:prstGeom>
          <a:ln w="0">
            <a:noFill/>
          </a:ln>
        </p:spPr>
      </p:pic>
      <p:pic>
        <p:nvPicPr>
          <p:cNvPr id="77" name="矩形 3" descr=""/>
          <p:cNvPicPr/>
          <p:nvPr/>
        </p:nvPicPr>
        <p:blipFill>
          <a:blip r:embed="rId11"/>
          <a:stretch/>
        </p:blipFill>
        <p:spPr>
          <a:xfrm>
            <a:off x="5099040" y="4351320"/>
            <a:ext cx="1041480" cy="461880"/>
          </a:xfrm>
          <a:prstGeom prst="rect">
            <a:avLst/>
          </a:prstGeom>
          <a:ln w="0">
            <a:noFill/>
          </a:ln>
        </p:spPr>
      </p:pic>
      <p:pic>
        <p:nvPicPr>
          <p:cNvPr id="78" name="矩形 4" descr=""/>
          <p:cNvPicPr/>
          <p:nvPr/>
        </p:nvPicPr>
        <p:blipFill>
          <a:blip r:embed="rId12"/>
          <a:stretch/>
        </p:blipFill>
        <p:spPr>
          <a:xfrm>
            <a:off x="7210440" y="4248000"/>
            <a:ext cx="920880" cy="5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3506760" y="1496880"/>
            <a:ext cx="37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lʊ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看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"/>
          <p:cNvGrpSpPr/>
          <p:nvPr/>
        </p:nvGrpSpPr>
        <p:grpSpPr>
          <a:xfrm>
            <a:off x="3240" y="1517760"/>
            <a:ext cx="2549520" cy="666720"/>
            <a:chOff x="3240" y="1517760"/>
            <a:chExt cx="2549520" cy="666720"/>
          </a:xfrm>
        </p:grpSpPr>
        <p:sp>
          <p:nvSpPr>
            <p:cNvPr id="84" name="圆角矩形 18"/>
            <p:cNvSpPr/>
            <p:nvPr/>
          </p:nvSpPr>
          <p:spPr>
            <a:xfrm>
              <a:off x="706320" y="1595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9"/>
            <p:cNvSpPr/>
            <p:nvPr/>
          </p:nvSpPr>
          <p:spPr>
            <a:xfrm>
              <a:off x="1055880" y="1591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240" y="15177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5"/>
          <p:cNvSpPr/>
          <p:nvPr/>
        </p:nvSpPr>
        <p:spPr>
          <a:xfrm>
            <a:off x="1020600" y="23144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036800" y="405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036800" y="34830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1967040" y="2206800"/>
            <a:ext cx="40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ly’s new shorts look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莉莉的新短裤看起来很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1938240" y="3959280"/>
            <a:ext cx="52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意思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起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连系动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主语和后面的表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eacher looks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看上去很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1967040" y="3363840"/>
            <a:ext cx="41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at sth. / s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"/>
          <p:cNvPicPr/>
          <p:nvPr/>
        </p:nvPicPr>
        <p:blipFill>
          <a:blip r:embed="rId3"/>
          <a:stretch/>
        </p:blipFill>
        <p:spPr>
          <a:xfrm>
            <a:off x="2666880" y="1482840"/>
            <a:ext cx="86688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8" descr=""/>
          <p:cNvPicPr/>
          <p:nvPr/>
        </p:nvPicPr>
        <p:blipFill>
          <a:blip r:embed="rId4"/>
          <a:stretch/>
        </p:blipFill>
        <p:spPr>
          <a:xfrm>
            <a:off x="723960" y="4111560"/>
            <a:ext cx="32364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92200" y="1411200"/>
            <a:ext cx="1806480" cy="1514520"/>
            <a:chOff x="592200" y="1411200"/>
            <a:chExt cx="1806480" cy="1514520"/>
          </a:xfrm>
        </p:grpSpPr>
        <p:pic>
          <p:nvPicPr>
            <p:cNvPr id="9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592200" y="14112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2"/>
            <p:cNvSpPr/>
            <p:nvPr/>
          </p:nvSpPr>
          <p:spPr>
            <a:xfrm>
              <a:off x="1098720" y="17330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2"/>
          <p:cNvSpPr/>
          <p:nvPr/>
        </p:nvSpPr>
        <p:spPr>
          <a:xfrm>
            <a:off x="2106720" y="288432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如果是第三人称单数，连系动词应该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人称单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7"/>
          <p:cNvSpPr/>
          <p:nvPr/>
        </p:nvSpPr>
        <p:spPr>
          <a:xfrm>
            <a:off x="3016080" y="165096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衣物类的单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412920" y="1685880"/>
            <a:ext cx="2549520" cy="666720"/>
            <a:chOff x="412920" y="1685880"/>
            <a:chExt cx="2549520" cy="666720"/>
          </a:xfrm>
        </p:grpSpPr>
        <p:sp>
          <p:nvSpPr>
            <p:cNvPr id="107" name="圆角矩形 18"/>
            <p:cNvSpPr/>
            <p:nvPr/>
          </p:nvSpPr>
          <p:spPr>
            <a:xfrm>
              <a:off x="1143000" y="17636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9"/>
            <p:cNvSpPr/>
            <p:nvPr/>
          </p:nvSpPr>
          <p:spPr>
            <a:xfrm>
              <a:off x="1465560" y="174636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12920" y="16858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Box 5"/>
          <p:cNvSpPr/>
          <p:nvPr/>
        </p:nvSpPr>
        <p:spPr>
          <a:xfrm>
            <a:off x="1397160" y="334152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411200" y="475776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2422440" y="3116160"/>
            <a:ext cx="35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red d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条红色的连衣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036960" y="4657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7"/>
          <p:cNvSpPr/>
          <p:nvPr/>
        </p:nvSpPr>
        <p:spPr>
          <a:xfrm>
            <a:off x="2462040" y="2470320"/>
            <a:ext cx="40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dre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衣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5651640" y="1674720"/>
            <a:ext cx="1143000" cy="66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"/>
          <p:cNvPicPr/>
          <p:nvPr/>
        </p:nvPicPr>
        <p:blipFill>
          <a:blip r:embed="rId4"/>
          <a:stretch/>
        </p:blipFill>
        <p:spPr>
          <a:xfrm>
            <a:off x="6454800" y="2470320"/>
            <a:ext cx="1579680" cy="34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"/>
          <p:cNvPicPr/>
          <p:nvPr/>
        </p:nvPicPr>
        <p:blipFill>
          <a:blip r:embed="rId5"/>
          <a:stretch/>
        </p:blipFill>
        <p:spPr>
          <a:xfrm>
            <a:off x="1492200" y="2449440"/>
            <a:ext cx="9716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2034720" y="3111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对比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356000" y="30193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1500120" y="2300400"/>
            <a:ext cx="54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衣裙真漂亮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dres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花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缀裙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1566720" y="1733400"/>
            <a:ext cx="2403720" cy="459720"/>
            <a:chOff x="1566720" y="1733400"/>
            <a:chExt cx="2403720" cy="459720"/>
          </a:xfrm>
        </p:grpSpPr>
        <p:sp>
          <p:nvSpPr>
            <p:cNvPr id="125" name="TextBox 10"/>
            <p:cNvSpPr/>
            <p:nvPr/>
          </p:nvSpPr>
          <p:spPr>
            <a:xfrm>
              <a:off x="1882440" y="17334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566720" y="178092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2230560" y="3952800"/>
            <a:ext cx="1352520" cy="1390680"/>
          </a:xfrm>
          <a:prstGeom prst="rect">
            <a:avLst/>
          </a:prstGeom>
          <a:ln w="0">
            <a:noFill/>
          </a:ln>
        </p:spPr>
      </p:pic>
      <p:sp>
        <p:nvSpPr>
          <p:cNvPr id="128" name="矩形 1"/>
          <p:cNvSpPr/>
          <p:nvPr/>
        </p:nvSpPr>
        <p:spPr>
          <a:xfrm>
            <a:off x="2041560" y="54100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衣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5018040" y="3848040"/>
            <a:ext cx="170496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4759200" y="539424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ki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裙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003320" y="25113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017720" y="40273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1976400" y="2278080"/>
            <a:ext cx="284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is sh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是他的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2597040" y="391788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7"/>
          <p:cNvSpPr/>
          <p:nvPr/>
        </p:nvSpPr>
        <p:spPr>
          <a:xfrm>
            <a:off x="2021040" y="152892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ʃu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960640" y="474012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鞋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小船，两只小船脚上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1076400" y="4849920"/>
            <a:ext cx="2403360" cy="459720"/>
            <a:chOff x="1076400" y="4849920"/>
            <a:chExt cx="2403360" cy="459720"/>
          </a:xfrm>
        </p:grpSpPr>
        <p:sp>
          <p:nvSpPr>
            <p:cNvPr id="141" name="TextBox 10"/>
            <p:cNvSpPr/>
            <p:nvPr/>
          </p:nvSpPr>
          <p:spPr>
            <a:xfrm>
              <a:off x="1392120" y="48499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76400" y="48974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0" descr=""/>
          <p:cNvPicPr/>
          <p:nvPr/>
        </p:nvPicPr>
        <p:blipFill>
          <a:blip r:embed="rId3"/>
          <a:stretch/>
        </p:blipFill>
        <p:spPr>
          <a:xfrm>
            <a:off x="1066680" y="15289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4"/>
          <a:stretch/>
        </p:blipFill>
        <p:spPr>
          <a:xfrm>
            <a:off x="5294160" y="1714680"/>
            <a:ext cx="3141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74880" y="301608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88920" y="46418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1906560" y="27972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her s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是她的短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568600" y="4546440"/>
            <a:ext cx="10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"/>
          <p:cNvSpPr/>
          <p:nvPr/>
        </p:nvSpPr>
        <p:spPr>
          <a:xfrm>
            <a:off x="1955880" y="195264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sɒ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短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44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1969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34920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0148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8" descr=""/>
          <p:cNvPicPr/>
          <p:nvPr/>
        </p:nvPicPr>
        <p:blipFill>
          <a:blip r:embed="rId2"/>
          <a:stretch/>
        </p:blipFill>
        <p:spPr>
          <a:xfrm>
            <a:off x="5164200" y="2052720"/>
            <a:ext cx="3295440" cy="25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3"/>
          <a:stretch/>
        </p:blipFill>
        <p:spPr>
          <a:xfrm>
            <a:off x="1139760" y="1952640"/>
            <a:ext cx="82872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4:07Z</dcterms:modified>
  <cp:revision>7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