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1DB-5F65-4199-8000-B3D0E7AA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4FE-48FA-4929-AF5A-D189E7D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3981C-FEA3-4156-BB45-6E5FB68F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214E4-0349-4BDB-87A3-C74911A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23CA0-B75E-4DE7-A5BB-25E426CF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D8048-B661-48BC-8E69-96FF052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341A5-8225-404C-8E71-5E913D3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86F70-B966-4BC2-BF21-B4DBA45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B6F59-2C1C-4E16-9962-E3EB9BD8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29953-5638-4201-B23F-ECC61653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4743D-D450-4814-8B4A-B34A3916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98006-DD02-4023-A16E-E86AE53B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386-436C-4898-AC54-CB793579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3ACCE-80A5-4EBF-AC25-55026954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7C63E-BB8A-481F-A94C-B9A5E35D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C1AD-E798-4361-A77D-3273EDE8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F49E0-1921-4280-8D12-37080BD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F40BD-BF31-4BB2-B468-FA9D3008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E2016-AA82-4C68-8386-DAEBD23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AA9A7-3DE6-4764-BA3E-12284DF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B89F1-1548-4CA4-9F9B-784C0147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51BBE-D1E3-4968-85B5-AC71228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E6AB9-A82E-4DEA-85F9-AE190998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3D4-683C-4254-A621-09771367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649EA-438E-4244-ACEE-7ECAC009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8FF3-52F7-4139-BC7A-E233FD90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EB0B1-FB7D-4536-AC20-16242F6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84607-DE73-420F-933C-F3069B5F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109F5-18EA-4306-8B04-5A21C2FA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A9FB-5A4F-43DE-B320-198DC20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8672-6E87-49B4-8D35-4D91EB82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BE21-27BE-423C-B8C5-2C0AF73B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0D1C1-E28D-4329-A109-3EB75C5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D2C21-EF7D-4F70-B0D6-02A2CA4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3006-5896-4656-B111-1780C5BC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A7FF6-1F66-4391-AA90-E9A90844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4C5EB-F6D8-462E-A0FA-BEC9E436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A4BD8-C75A-430E-BEBA-4990948F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3C0-1102-40EF-8425-9B2C418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1CC9-D838-41E0-8F03-3C38072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4947-215D-42A7-AAB9-339A254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8A63-020B-43C4-B2B0-3BEB349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5490-0A38-40DF-B22E-6FC8DB28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1858-27C2-443D-9A67-62F093A9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E6B-D2F1-4834-AC28-C878A0C7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007B-E6C4-42DE-B9A5-02C452F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82C2-5EA1-48B1-898C-B256ABF6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C398-8822-45B9-A3C9-5BAE1AC8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257F-944B-4477-80C0-0E1878E2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5D7E-E7DB-4FE5-91B4-02CAA321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8C9D-40E0-4F13-9D8C-92BA282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94C3-FD28-4E41-BBC1-75EC1B0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58F9-1985-49C3-A531-3FA5B01F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4964-CEB1-43BB-BFA5-5181A36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81C0-5DB4-46E7-8A4B-6D65FB02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D18-13C2-47FB-A223-0785CE3C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DCA3-1D3F-4B51-BB0F-9EB9C20A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56C8-8DC6-4042-8C47-0929162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1185-D874-4BD5-A375-941F02B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2341-5E24-4911-9494-6CD683F6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EDF3-1C4F-4439-8A78-0EB5256C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08F8-CBB3-4454-A2F8-2294ADBA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05CE-2822-4198-B00B-BD105BB5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A4B9-4A86-4C20-968F-BE1AA15E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6A2B-5AA2-4AFF-B316-7C00366C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A521-7AB5-413D-A129-A1F0CB4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22E-845C-4AD8-9BCA-266904C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4644-2D1F-45EF-88D6-404AE79A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931E-B05E-41B2-B845-BE0590C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2EF7-66D4-4360-8D41-49250D6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5B08-58C4-49B1-A1D5-82AD746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096D-6539-43F7-970A-9EAC44A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5BEB-8180-4BB3-B785-1ED7A97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1A07-1ABB-4D71-BCD6-022155B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505B-6BFC-43F9-81FC-FBDB769C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7DAF-8940-4E49-A532-64BAE12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4108-AC97-41A0-8948-6667D28C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6FB-250D-4380-9803-BDC09706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411F-7698-4D76-A681-5F4C97D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880B-8EB4-4E33-9E79-3A5D4653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818D-4B22-4599-93AF-A37445A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973B-3645-49E9-BEBF-D1A08E0A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1EB4-02E7-4A0D-B939-3B99A5E3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D0F9-3365-4181-A875-58F4370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F2BA-E4D7-4696-A0B5-1248D2D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513C-9024-46CA-9C85-EA705BD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0549-0BF9-45A7-BB3C-CA42850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9BA2-9818-477D-B607-63339499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9EC-8FDC-4415-9892-EB11E956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E01B-C827-48F3-B359-B79F469B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053C-8816-41FD-ADEA-C691A6C9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BF83-0E72-4462-9593-95B428F0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4E6AB-A3E4-4E05-B8FB-AE0B51E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B9B4-6FEF-4650-BB42-5C0D2E1A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42BE-B870-40CD-A15D-0E0246DE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713C-B92B-4F8E-9209-4529D67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52FB-7EA2-4F14-BB0A-B660FBE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D208-8F37-43A0-A28F-F07F9864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5A91-9E66-4964-988B-5277A96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7A8-DDAD-44E1-86FA-88F17D4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5014D-799E-45FA-85D5-B2AA3FA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0EEB-52B4-42AA-AC7E-74BF934C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0351-564B-4F32-840B-1E26402E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70F8-249E-43EE-B87E-49F9B566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71B4-2F1E-4101-BE4D-D04794B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EFCF-F860-4948-BDAA-148A1719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59C3-F755-4079-A0AC-317ED816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CA3D-37C4-4CB7-91D8-F69C9831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E4048-52CC-4243-A4E3-356C3B5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32E6-CAF1-46E1-B22A-62F6979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387-BF6A-4D6D-A912-F0CF0E6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F0AA-7C5F-4E98-8E2A-EC62146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1C59-0D31-4EA6-B633-EBAD8BA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BEEA-0A9A-408C-998F-5A31524F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520C0-9A02-47DA-A76E-34F4E3EC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6BCE-A6DE-44E3-9F85-7BBB7CBC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2EF09-A40F-4063-B813-3AEB575C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07E9-F831-4A9A-81F4-99C3300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9B672-0486-4F15-A39B-6853AFBA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15F8-9B74-4885-8147-61FED54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66797-80D4-44C1-8611-FA4EFB5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64B-04B6-4FF0-BDE2-7EC420D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3AC0E-94CA-46C4-BAB9-C070B01B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C0FC8-A9D9-474F-A41B-EE4B1F63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6F2F-D19F-4E3C-AD6F-15F02BF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9ADC4-7DA7-419D-96D1-3B86FF7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0712-EB57-43DC-8AA7-70D8E4D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712A-EBF5-4723-99CB-00829569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D71A4-3CAF-41E9-B0DB-A1B8532C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D4289-D580-4124-A1A9-502D632E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4F0E3-2E4E-4747-A22B-0BA1FD53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6AC3-3460-4DC2-AEA9-FEAF8AA5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00883-8492-47E1-AE2B-74EDF6021D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95E65-0532-49F0-BF87-A4AF67610E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6C424-D4A4-48A3-995B-ACBF7EBF22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1FB6B-2804-40DE-9DE0-401EA97B7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94B46-965A-4C56-90FD-073C4CBE89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E46D4-39E4-4048-BC78-77BA5E600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EA52A-0A4B-4E30-AD0A-AD92DDCEF6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E7CB8-9CDA-445C-B09F-49942BDA1D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ADCFE-DFDC-489F-8D23-7FBD6E33F9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35939-24A8-4A7F-93ED-1957DE3691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831D7-1B4F-42BC-9FE8-41490402E7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9"/>
          <p:cNvSpPr/>
          <p:nvPr/>
        </p:nvSpPr>
        <p:spPr>
          <a:xfrm>
            <a:off x="0" y="0"/>
            <a:ext cx="92552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5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58" name="TextBox 3"/>
          <p:cNvSpPr/>
          <p:nvPr/>
        </p:nvSpPr>
        <p:spPr>
          <a:xfrm>
            <a:off x="1814400" y="1503360"/>
            <a:ext cx="56260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6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6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文本框 22" descr=""/>
          <p:cNvPicPr/>
          <p:nvPr/>
        </p:nvPicPr>
        <p:blipFill>
          <a:blip r:embed="rId9"/>
          <a:stretch/>
        </p:blipFill>
        <p:spPr>
          <a:xfrm>
            <a:off x="2448000" y="4484520"/>
            <a:ext cx="7076880" cy="7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745632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8" descr=""/>
          <p:cNvPicPr/>
          <p:nvPr/>
        </p:nvPicPr>
        <p:blipFill>
          <a:blip r:embed="rId3"/>
          <a:stretch/>
        </p:blipFill>
        <p:spPr>
          <a:xfrm>
            <a:off x="763560" y="12398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564" name="矩形 16"/>
          <p:cNvSpPr/>
          <p:nvPr/>
        </p:nvSpPr>
        <p:spPr>
          <a:xfrm>
            <a:off x="1185480" y="1089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2"/>
          <p:cNvSpPr/>
          <p:nvPr/>
        </p:nvSpPr>
        <p:spPr>
          <a:xfrm>
            <a:off x="1884240" y="108756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939960" y="1776240"/>
          <a:ext cx="7462800" cy="4479840"/>
        </p:xfrm>
        <a:graphic>
          <a:graphicData uri="http://schemas.openxmlformats.org/drawingml/2006/table">
            <a:tbl>
              <a:tblPr/>
              <a:tblGrid>
                <a:gridCol w="966960"/>
                <a:gridCol w="1434960"/>
                <a:gridCol w="2097000"/>
                <a:gridCol w="2963880"/>
              </a:tblGrid>
              <a:tr h="6404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56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；注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c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聚精会神地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y are watching a TV play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们在看一部电视剧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看的动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out of the window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！朝窗外看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20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e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看到的结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see a sheep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看见一只绵羊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16"/>
          <p:cNvGrpSpPr/>
          <p:nvPr/>
        </p:nvGrpSpPr>
        <p:grpSpPr>
          <a:xfrm>
            <a:off x="766800" y="2189160"/>
            <a:ext cx="1244520" cy="459720"/>
            <a:chOff x="766800" y="2189160"/>
            <a:chExt cx="1244520" cy="459720"/>
          </a:xfrm>
        </p:grpSpPr>
        <p:sp>
          <p:nvSpPr>
            <p:cNvPr id="571" name="TextBox 3"/>
            <p:cNvSpPr/>
            <p:nvPr/>
          </p:nvSpPr>
          <p:spPr>
            <a:xfrm>
              <a:off x="1019520" y="21891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66800" y="222768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矩形 2"/>
          <p:cNvSpPr/>
          <p:nvPr/>
        </p:nvSpPr>
        <p:spPr>
          <a:xfrm>
            <a:off x="1878120" y="195120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________ a football match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足球比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ook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watch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3063960" y="2198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893880" y="3470400"/>
            <a:ext cx="75675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27"/>
          <p:cNvSpPr/>
          <p:nvPr/>
        </p:nvSpPr>
        <p:spPr>
          <a:xfrm>
            <a:off x="1768320" y="3438360"/>
            <a:ext cx="66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tc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强调聚精会神地看，符合题意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7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644920" y="2079720"/>
            <a:ext cx="575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T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台电视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V sh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视节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信息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V →televis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完全形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"/>
          <p:cNvSpPr/>
          <p:nvPr/>
        </p:nvSpPr>
        <p:spPr>
          <a:xfrm>
            <a:off x="1650960" y="23144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2181240" y="14558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ˌtiː'vi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电视；电视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"/>
          <p:cNvSpPr/>
          <p:nvPr/>
        </p:nvSpPr>
        <p:spPr>
          <a:xfrm>
            <a:off x="1095480" y="453384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8" descr=""/>
          <p:cNvPicPr/>
          <p:nvPr/>
        </p:nvPicPr>
        <p:blipFill>
          <a:blip r:embed="rId2"/>
          <a:stretch/>
        </p:blipFill>
        <p:spPr>
          <a:xfrm>
            <a:off x="1339920" y="1549440"/>
            <a:ext cx="857160" cy="561960"/>
          </a:xfrm>
          <a:prstGeom prst="rect">
            <a:avLst/>
          </a:prstGeom>
          <a:ln w="0">
            <a:noFill/>
          </a:ln>
        </p:spPr>
      </p:pic>
      <p:sp>
        <p:nvSpPr>
          <p:cNvPr id="585" name="矩形 2"/>
          <p:cNvSpPr/>
          <p:nvPr/>
        </p:nvSpPr>
        <p:spPr>
          <a:xfrm>
            <a:off x="1650960" y="30812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"/>
          <p:cNvSpPr/>
          <p:nvPr/>
        </p:nvSpPr>
        <p:spPr>
          <a:xfrm>
            <a:off x="1357200" y="37782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3006720" y="502452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节目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2"/>
          <p:cNvGrpSpPr/>
          <p:nvPr/>
        </p:nvGrpSpPr>
        <p:grpSpPr>
          <a:xfrm>
            <a:off x="1157400" y="5133960"/>
            <a:ext cx="2403360" cy="459720"/>
            <a:chOff x="1157400" y="5133960"/>
            <a:chExt cx="2403360" cy="459720"/>
          </a:xfrm>
        </p:grpSpPr>
        <p:sp>
          <p:nvSpPr>
            <p:cNvPr id="589" name="TextBox 10"/>
            <p:cNvSpPr/>
            <p:nvPr/>
          </p:nvSpPr>
          <p:spPr>
            <a:xfrm>
              <a:off x="1473120" y="51339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157400" y="518148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2108160" y="1827360"/>
            <a:ext cx="57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read a book after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在晚饭后读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 schoo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放学后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 clas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课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 wor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班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"/>
          <p:cNvSpPr/>
          <p:nvPr/>
        </p:nvSpPr>
        <p:spPr>
          <a:xfrm>
            <a:off x="1114560" y="206208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2149560" y="1203480"/>
            <a:ext cx="56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'ɑːftə/ prep.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介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"/>
          <p:cNvSpPr/>
          <p:nvPr/>
        </p:nvSpPr>
        <p:spPr>
          <a:xfrm>
            <a:off x="1082520" y="429588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820800" y="3557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2"/>
          <a:stretch/>
        </p:blipFill>
        <p:spPr>
          <a:xfrm>
            <a:off x="870120" y="1311120"/>
            <a:ext cx="134280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2533680" y="2079720"/>
            <a:ext cx="57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have for dinn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晚餐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pp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晚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t/ have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晚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2"/>
          <p:cNvSpPr/>
          <p:nvPr/>
        </p:nvSpPr>
        <p:spPr>
          <a:xfrm>
            <a:off x="1461960" y="231444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2228760" y="14558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ꞌdɪnə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晚餐；主餐，正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"/>
          <p:cNvSpPr/>
          <p:nvPr/>
        </p:nvSpPr>
        <p:spPr>
          <a:xfrm>
            <a:off x="1508040" y="454824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"/>
          <p:cNvSpPr/>
          <p:nvPr/>
        </p:nvSpPr>
        <p:spPr>
          <a:xfrm>
            <a:off x="1216080" y="379404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近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947880" y="1557360"/>
            <a:ext cx="1352520" cy="590400"/>
          </a:xfrm>
          <a:prstGeom prst="rect">
            <a:avLst/>
          </a:prstGeom>
          <a:ln w="0">
            <a:noFill/>
          </a:ln>
        </p:spPr>
      </p:pic>
      <p:sp>
        <p:nvSpPr>
          <p:cNvPr id="609" name="矩形 1"/>
          <p:cNvSpPr/>
          <p:nvPr/>
        </p:nvSpPr>
        <p:spPr>
          <a:xfrm>
            <a:off x="1035720" y="5218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"/>
          <p:cNvSpPr/>
          <p:nvPr/>
        </p:nvSpPr>
        <p:spPr>
          <a:xfrm>
            <a:off x="2486160" y="5087880"/>
            <a:ext cx="62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eakfa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早餐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17"/>
          <p:cNvSpPr/>
          <p:nvPr/>
        </p:nvSpPr>
        <p:spPr>
          <a:xfrm>
            <a:off x="2934360" y="1392120"/>
            <a:ext cx="4174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 you do at home?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你在家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圆角矩形 18"/>
          <p:cNvSpPr/>
          <p:nvPr/>
        </p:nvSpPr>
        <p:spPr>
          <a:xfrm>
            <a:off x="736560" y="14637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9"/>
          <p:cNvSpPr/>
          <p:nvPr/>
        </p:nvSpPr>
        <p:spPr>
          <a:xfrm>
            <a:off x="1076400" y="14698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1924200" y="2543040"/>
            <a:ext cx="680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特殊疑问句。用来询问对方在某地做什么事。其中前一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助动词，无意义；后一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实义动词，表示“做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疑问词＋助动词 ＋主语＋ 动词原形＋ 其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＋ 动词原形 ＋ 其他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图片 9" descr="book.gif"/>
          <p:cNvPicPr/>
          <p:nvPr/>
        </p:nvPicPr>
        <p:blipFill>
          <a:blip r:embed="rId2"/>
          <a:stretch/>
        </p:blipFill>
        <p:spPr>
          <a:xfrm>
            <a:off x="-4680" y="13366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619" name="矩形 1"/>
          <p:cNvSpPr/>
          <p:nvPr/>
        </p:nvSpPr>
        <p:spPr>
          <a:xfrm>
            <a:off x="1188360" y="4562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"/>
          <p:cNvSpPr/>
          <p:nvPr/>
        </p:nvSpPr>
        <p:spPr>
          <a:xfrm>
            <a:off x="1211400" y="2760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2330280" y="1971720"/>
            <a:ext cx="523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/wɒtʃ/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看；注视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3"/>
          <a:stretch/>
        </p:blipFill>
        <p:spPr>
          <a:xfrm>
            <a:off x="919080" y="2014560"/>
            <a:ext cx="1381320" cy="600120"/>
          </a:xfrm>
          <a:prstGeom prst="rect">
            <a:avLst/>
          </a:prstGeom>
          <a:ln w="0">
            <a:noFill/>
          </a:ln>
        </p:spPr>
      </p:pic>
      <p:sp>
        <p:nvSpPr>
          <p:cNvPr id="623" name="矩形 1"/>
          <p:cNvSpPr/>
          <p:nvPr/>
        </p:nvSpPr>
        <p:spPr>
          <a:xfrm>
            <a:off x="1182600" y="5170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1895400" y="3301920"/>
            <a:ext cx="65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read a boo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school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画线部分提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do you ________ a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"/>
          <p:cNvSpPr/>
          <p:nvPr/>
        </p:nvSpPr>
        <p:spPr>
          <a:xfrm>
            <a:off x="933480" y="1909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组合 26"/>
          <p:cNvGrpSpPr/>
          <p:nvPr/>
        </p:nvGrpSpPr>
        <p:grpSpPr>
          <a:xfrm>
            <a:off x="674640" y="3406680"/>
            <a:ext cx="1244520" cy="459720"/>
            <a:chOff x="674640" y="3406680"/>
            <a:chExt cx="1244520" cy="459720"/>
          </a:xfrm>
        </p:grpSpPr>
        <p:sp>
          <p:nvSpPr>
            <p:cNvPr id="630" name="TextBox 3"/>
            <p:cNvSpPr/>
            <p:nvPr/>
          </p:nvSpPr>
          <p:spPr>
            <a:xfrm>
              <a:off x="927360" y="34066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74640" y="343944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Box 20"/>
          <p:cNvSpPr/>
          <p:nvPr/>
        </p:nvSpPr>
        <p:spPr>
          <a:xfrm>
            <a:off x="2166840" y="3968640"/>
            <a:ext cx="33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                  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4"/>
          <p:cNvSpPr/>
          <p:nvPr/>
        </p:nvSpPr>
        <p:spPr>
          <a:xfrm>
            <a:off x="812880" y="4594320"/>
            <a:ext cx="791352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2"/>
          <p:cNvSpPr/>
          <p:nvPr/>
        </p:nvSpPr>
        <p:spPr>
          <a:xfrm>
            <a:off x="1687680" y="4578480"/>
            <a:ext cx="70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根据答语及画线部分可知，用来询问对方在某地做什么事用疑问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实义动词，表示“做”。故填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3"/>
          <p:cNvSpPr/>
          <p:nvPr/>
        </p:nvSpPr>
        <p:spPr>
          <a:xfrm>
            <a:off x="1895400" y="1665360"/>
            <a:ext cx="702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do at school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在学校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clean our classroom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打扫我们的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文本框 8" descr=""/>
          <p:cNvPicPr/>
          <p:nvPr/>
        </p:nvPicPr>
        <p:blipFill>
          <a:blip r:embed="rId1"/>
          <a:stretch/>
        </p:blipFill>
        <p:spPr>
          <a:xfrm>
            <a:off x="3006720" y="131760"/>
            <a:ext cx="3679920" cy="782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7" descr=""/>
          <p:cNvPicPr/>
          <p:nvPr/>
        </p:nvPicPr>
        <p:blipFill>
          <a:blip r:embed="rId2"/>
          <a:stretch/>
        </p:blipFill>
        <p:spPr>
          <a:xfrm>
            <a:off x="5624640" y="2087640"/>
            <a:ext cx="3519360" cy="29001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8"/>
          <p:cNvSpPr/>
          <p:nvPr/>
        </p:nvSpPr>
        <p:spPr>
          <a:xfrm>
            <a:off x="444600" y="1933560"/>
            <a:ext cx="571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 phone is ________ the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话在椅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he ________ is ________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盒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he ________ is ________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桌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8"/>
          <p:cNvSpPr/>
          <p:nvPr/>
        </p:nvSpPr>
        <p:spPr>
          <a:xfrm>
            <a:off x="2576520" y="1922400"/>
            <a:ext cx="9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9"/>
          <p:cNvSpPr/>
          <p:nvPr/>
        </p:nvSpPr>
        <p:spPr>
          <a:xfrm>
            <a:off x="2511360" y="2495520"/>
            <a:ext cx="9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1265400" y="3024360"/>
            <a:ext cx="26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er         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1"/>
          <p:cNvSpPr/>
          <p:nvPr/>
        </p:nvSpPr>
        <p:spPr>
          <a:xfrm>
            <a:off x="1127160" y="36003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电脑                   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3"/>
          <p:cNvSpPr/>
          <p:nvPr/>
        </p:nvSpPr>
        <p:spPr>
          <a:xfrm>
            <a:off x="1558800" y="4138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V                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4"/>
          <p:cNvSpPr/>
          <p:nvPr/>
        </p:nvSpPr>
        <p:spPr>
          <a:xfrm>
            <a:off x="1092240" y="46641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电视                    上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287280" y="113508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and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47" name="TextBox 8"/>
          <p:cNvSpPr/>
          <p:nvPr/>
        </p:nvSpPr>
        <p:spPr>
          <a:xfrm>
            <a:off x="682560" y="966960"/>
            <a:ext cx="804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一问，答一答。然后打“√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talk on the phone with m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play on the comp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watch T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sing a s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write a s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do my home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√   )I read a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help my mum and 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"/>
          <p:cNvSpPr/>
          <p:nvPr/>
        </p:nvSpPr>
        <p:spPr>
          <a:xfrm>
            <a:off x="4133880" y="320976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do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6"/>
          <p:cNvSpPr/>
          <p:nvPr/>
        </p:nvSpPr>
        <p:spPr>
          <a:xfrm>
            <a:off x="7927920" y="3166920"/>
            <a:ext cx="16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ad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6" descr="C:\Users\Administrator\Desktop\图片1.png"/>
          <p:cNvPicPr/>
          <p:nvPr/>
        </p:nvPicPr>
        <p:blipFill>
          <a:blip r:embed="rId2"/>
          <a:stretch/>
        </p:blipFill>
        <p:spPr>
          <a:xfrm>
            <a:off x="3138480" y="3170160"/>
            <a:ext cx="64911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"/>
          <p:cNvSpPr/>
          <p:nvPr/>
        </p:nvSpPr>
        <p:spPr>
          <a:xfrm>
            <a:off x="816120" y="1095480"/>
            <a:ext cx="773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ly________ me________ my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elps;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elps;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elp;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________ TV in the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atch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o w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2068560" y="177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3"/>
          <p:cNvSpPr/>
          <p:nvPr/>
        </p:nvSpPr>
        <p:spPr>
          <a:xfrm>
            <a:off x="1684440" y="3941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860400" y="2784600"/>
            <a:ext cx="78660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1735200" y="276876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… with…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“在某方面给予帮助”；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l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第三人称单数，谓语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加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58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Box 4"/>
          <p:cNvSpPr/>
          <p:nvPr/>
        </p:nvSpPr>
        <p:spPr>
          <a:xfrm>
            <a:off x="933480" y="5079960"/>
            <a:ext cx="78660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8"/>
          <p:cNvSpPr/>
          <p:nvPr/>
        </p:nvSpPr>
        <p:spPr>
          <a:xfrm>
            <a:off x="1808280" y="506412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主语是第一人称，谓语动词用动词原形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3" descr=""/>
          <p:cNvPicPr/>
          <p:nvPr/>
        </p:nvPicPr>
        <p:blipFill>
          <a:blip r:embed="rId2"/>
          <a:stretch/>
        </p:blipFill>
        <p:spPr>
          <a:xfrm>
            <a:off x="4840200" y="2273400"/>
            <a:ext cx="4146480" cy="27162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3"/>
          <a:stretch/>
        </p:blipFill>
        <p:spPr>
          <a:xfrm>
            <a:off x="736560" y="2046240"/>
            <a:ext cx="37720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"/>
          <p:cNvSpPr/>
          <p:nvPr/>
        </p:nvSpPr>
        <p:spPr>
          <a:xfrm>
            <a:off x="816120" y="1693800"/>
            <a:ext cx="7737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talk________ the phone ________ my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n;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n;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ith;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1720" y="1900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860400" y="3114720"/>
            <a:ext cx="76932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6"/>
          <p:cNvSpPr/>
          <p:nvPr/>
        </p:nvSpPr>
        <p:spPr>
          <a:xfrm>
            <a:off x="1735200" y="3098880"/>
            <a:ext cx="66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alk with/to 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和某人谈话”，是固定搭配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n the phon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通过电话”，符合题意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68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"/>
          <p:cNvSpPr/>
          <p:nvPr/>
        </p:nvSpPr>
        <p:spPr>
          <a:xfrm>
            <a:off x="701640" y="1163520"/>
            <a:ext cx="724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问句答语选一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1. What do you do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2. What day is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3. What's she wea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4. Are these your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2"/>
          <p:cNvSpPr/>
          <p:nvPr/>
        </p:nvSpPr>
        <p:spPr>
          <a:xfrm>
            <a:off x="977760" y="2057400"/>
            <a:ext cx="4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74" name="矩形 15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Box 2"/>
          <p:cNvSpPr/>
          <p:nvPr/>
        </p:nvSpPr>
        <p:spPr>
          <a:xfrm>
            <a:off x="985680" y="278280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971640" y="351648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"/>
          <p:cNvSpPr/>
          <p:nvPr/>
        </p:nvSpPr>
        <p:spPr>
          <a:xfrm>
            <a:off x="5375160" y="2425680"/>
            <a:ext cx="3721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's wearing a sk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's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"/>
          <p:cNvSpPr/>
          <p:nvPr/>
        </p:nvSpPr>
        <p:spPr>
          <a:xfrm>
            <a:off x="947880" y="425916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906480" y="1604880"/>
            <a:ext cx="724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选择恰当的单词补全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________ my mum and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________ on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1549440" y="31780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84" name="矩形 15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TextBox 2"/>
          <p:cNvSpPr/>
          <p:nvPr/>
        </p:nvSpPr>
        <p:spPr>
          <a:xfrm>
            <a:off x="1514520" y="392760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2"/>
          <p:cNvSpPr/>
          <p:nvPr/>
        </p:nvSpPr>
        <p:spPr>
          <a:xfrm>
            <a:off x="1658880" y="2505240"/>
            <a:ext cx="2886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al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9" name="TextBox 3"/>
          <p:cNvSpPr/>
          <p:nvPr/>
        </p:nvSpPr>
        <p:spPr>
          <a:xfrm>
            <a:off x="1009800" y="1339920"/>
            <a:ext cx="7130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1033560" y="2665440"/>
            <a:ext cx="76374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, talk, phone, friend, watch, after,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elp my mum and 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talk on the phone with my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tch TV after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do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4"/>
          <p:cNvSpPr/>
          <p:nvPr/>
        </p:nvSpPr>
        <p:spPr>
          <a:xfrm>
            <a:off x="0" y="0"/>
            <a:ext cx="92296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9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9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8" descr="C:\Users\Administrator\Desktop\QQ截图20170613115356.png"/>
          <p:cNvPicPr/>
          <p:nvPr/>
        </p:nvPicPr>
        <p:blipFill>
          <a:blip r:embed="rId1"/>
          <a:stretch/>
        </p:blipFill>
        <p:spPr>
          <a:xfrm>
            <a:off x="671400" y="1038240"/>
            <a:ext cx="7605720" cy="319572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8" descr=""/>
          <p:cNvPicPr/>
          <p:nvPr/>
        </p:nvPicPr>
        <p:blipFill>
          <a:blip r:embed="rId2"/>
          <a:stretch/>
        </p:blipFill>
        <p:spPr>
          <a:xfrm>
            <a:off x="1681200" y="249120"/>
            <a:ext cx="6153120" cy="6494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"/>
          <p:cNvSpPr/>
          <p:nvPr/>
        </p:nvSpPr>
        <p:spPr>
          <a:xfrm>
            <a:off x="857160" y="225756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help my mum and 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2001960" y="55357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4475160" y="2259000"/>
            <a:ext cx="46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talk on the phone with my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868320" y="398772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watch TV after di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4519440" y="398160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play on the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9" descr="C:\Users\Administrator\Desktop\QQ截图20170613115034.png"/>
          <p:cNvPicPr/>
          <p:nvPr/>
        </p:nvPicPr>
        <p:blipFill>
          <a:blip r:embed="rId3"/>
          <a:stretch/>
        </p:blipFill>
        <p:spPr>
          <a:xfrm>
            <a:off x="1552680" y="4448160"/>
            <a:ext cx="1466640" cy="1079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C:\Users\Administrator\Desktop\QQ截图20170613115050.png"/>
          <p:cNvPicPr/>
          <p:nvPr/>
        </p:nvPicPr>
        <p:blipFill>
          <a:blip r:embed="rId4"/>
          <a:stretch/>
        </p:blipFill>
        <p:spPr>
          <a:xfrm>
            <a:off x="3816360" y="4454640"/>
            <a:ext cx="1461960" cy="1081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1" descr="C:\Users\Administrator\Desktop\QQ截图20170613115104.png"/>
          <p:cNvPicPr/>
          <p:nvPr/>
        </p:nvPicPr>
        <p:blipFill>
          <a:blip r:embed="rId5"/>
          <a:stretch/>
        </p:blipFill>
        <p:spPr>
          <a:xfrm>
            <a:off x="5595840" y="4508640"/>
            <a:ext cx="1546200" cy="1079280"/>
          </a:xfrm>
          <a:prstGeom prst="rect">
            <a:avLst/>
          </a:prstGeom>
          <a:ln w="0">
            <a:noFill/>
          </a:ln>
        </p:spPr>
      </p:pic>
      <p:sp>
        <p:nvSpPr>
          <p:cNvPr id="484" name="TextBox 1"/>
          <p:cNvSpPr/>
          <p:nvPr/>
        </p:nvSpPr>
        <p:spPr>
          <a:xfrm>
            <a:off x="3832200" y="548316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5892840" y="546876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487" name="文本框 17"/>
          <p:cNvSpPr/>
          <p:nvPr/>
        </p:nvSpPr>
        <p:spPr>
          <a:xfrm>
            <a:off x="2452680" y="1374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help my mum and dad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帮助我的妈妈和爸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18"/>
          <p:cNvSpPr/>
          <p:nvPr/>
        </p:nvSpPr>
        <p:spPr>
          <a:xfrm>
            <a:off x="631800" y="1496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9"/>
          <p:cNvSpPr/>
          <p:nvPr/>
        </p:nvSpPr>
        <p:spPr>
          <a:xfrm>
            <a:off x="974880" y="14670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8"/>
          <p:cNvSpPr/>
          <p:nvPr/>
        </p:nvSpPr>
        <p:spPr>
          <a:xfrm>
            <a:off x="2127240" y="2019240"/>
            <a:ext cx="51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hel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帮助；协助；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book.gif"/>
          <p:cNvPicPr/>
          <p:nvPr/>
        </p:nvPicPr>
        <p:blipFill>
          <a:blip r:embed="rId2"/>
          <a:stretch/>
        </p:blipFill>
        <p:spPr>
          <a:xfrm>
            <a:off x="-66600" y="1389240"/>
            <a:ext cx="1087200" cy="666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0" descr=""/>
          <p:cNvPicPr/>
          <p:nvPr/>
        </p:nvPicPr>
        <p:blipFill>
          <a:blip r:embed="rId3"/>
          <a:stretch/>
        </p:blipFill>
        <p:spPr>
          <a:xfrm>
            <a:off x="858960" y="2082960"/>
            <a:ext cx="1371600" cy="581040"/>
          </a:xfrm>
          <a:prstGeom prst="rect">
            <a:avLst/>
          </a:prstGeom>
          <a:ln w="0">
            <a:noFill/>
          </a:ln>
        </p:spPr>
      </p:pic>
      <p:sp>
        <p:nvSpPr>
          <p:cNvPr id="495" name="矩形 1"/>
          <p:cNvSpPr/>
          <p:nvPr/>
        </p:nvSpPr>
        <p:spPr>
          <a:xfrm>
            <a:off x="753480" y="2768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2"/>
          <p:cNvSpPr/>
          <p:nvPr/>
        </p:nvSpPr>
        <p:spPr>
          <a:xfrm>
            <a:off x="1433520" y="2522520"/>
            <a:ext cx="739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elp my broth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帮助我的弟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… with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在某方面给予帮助”，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 can help me with my English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汤姆能帮助我学英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; help sb.(to)do st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帮助某人做某事”，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elp my mother do the housework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帮助妈妈做家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18" descr=""/>
          <p:cNvPicPr/>
          <p:nvPr/>
        </p:nvPicPr>
        <p:blipFill>
          <a:blip r:embed="rId4"/>
          <a:stretch/>
        </p:blipFill>
        <p:spPr>
          <a:xfrm>
            <a:off x="372960" y="35402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498" name="矩形 16"/>
          <p:cNvSpPr/>
          <p:nvPr/>
        </p:nvSpPr>
        <p:spPr>
          <a:xfrm>
            <a:off x="794880" y="33894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0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"/>
          <p:cNvSpPr/>
          <p:nvPr/>
        </p:nvSpPr>
        <p:spPr>
          <a:xfrm>
            <a:off x="1890720" y="2355840"/>
            <a:ext cx="61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dad is very tall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很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u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2052720" y="1434960"/>
            <a:ext cx="53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dæd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爸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非正式用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"/>
          <p:cNvSpPr/>
          <p:nvPr/>
        </p:nvSpPr>
        <p:spPr>
          <a:xfrm>
            <a:off x="712800" y="3406680"/>
            <a:ext cx="11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"/>
          <p:cNvSpPr/>
          <p:nvPr/>
        </p:nvSpPr>
        <p:spPr>
          <a:xfrm>
            <a:off x="995400" y="2498760"/>
            <a:ext cx="9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"/>
          <p:cNvPicPr/>
          <p:nvPr/>
        </p:nvPicPr>
        <p:blipFill>
          <a:blip r:embed="rId2"/>
          <a:stretch/>
        </p:blipFill>
        <p:spPr>
          <a:xfrm>
            <a:off x="809640" y="1677960"/>
            <a:ext cx="14097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08" name="文本框 17"/>
          <p:cNvSpPr/>
          <p:nvPr/>
        </p:nvSpPr>
        <p:spPr>
          <a:xfrm>
            <a:off x="3090960" y="1623960"/>
            <a:ext cx="48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talk on the phone with my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通过电话和我的朋友们交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18"/>
          <p:cNvSpPr/>
          <p:nvPr/>
        </p:nvSpPr>
        <p:spPr>
          <a:xfrm>
            <a:off x="1168560" y="174312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9"/>
          <p:cNvSpPr/>
          <p:nvPr/>
        </p:nvSpPr>
        <p:spPr>
          <a:xfrm>
            <a:off x="1506600" y="1712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9" descr="book.gif"/>
          <p:cNvPicPr/>
          <p:nvPr/>
        </p:nvPicPr>
        <p:blipFill>
          <a:blip r:embed="rId2"/>
          <a:stretch/>
        </p:blipFill>
        <p:spPr>
          <a:xfrm>
            <a:off x="465120" y="1644480"/>
            <a:ext cx="1087560" cy="667080"/>
          </a:xfrm>
          <a:prstGeom prst="rect">
            <a:avLst/>
          </a:prstGeom>
          <a:ln w="0">
            <a:noFill/>
          </a:ln>
        </p:spPr>
      </p:pic>
      <p:sp>
        <p:nvSpPr>
          <p:cNvPr id="514" name="矩形 1"/>
          <p:cNvSpPr/>
          <p:nvPr/>
        </p:nvSpPr>
        <p:spPr>
          <a:xfrm>
            <a:off x="1658880" y="3564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2670120" y="2749680"/>
            <a:ext cx="41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tɔːk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谈；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"/>
          <p:cNvSpPr/>
          <p:nvPr/>
        </p:nvSpPr>
        <p:spPr>
          <a:xfrm>
            <a:off x="2622600" y="3319560"/>
            <a:ext cx="48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's have a tal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谈一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with/to s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某人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about st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谈论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6" descr=""/>
          <p:cNvPicPr/>
          <p:nvPr/>
        </p:nvPicPr>
        <p:blipFill>
          <a:blip r:embed="rId3"/>
          <a:stretch/>
        </p:blipFill>
        <p:spPr>
          <a:xfrm>
            <a:off x="1407960" y="2860560"/>
            <a:ext cx="1381320" cy="590760"/>
          </a:xfrm>
          <a:prstGeom prst="rect">
            <a:avLst/>
          </a:prstGeom>
          <a:ln w="0">
            <a:noFill/>
          </a:ln>
        </p:spPr>
      </p:pic>
      <p:sp>
        <p:nvSpPr>
          <p:cNvPr id="518" name="矩形 1"/>
          <p:cNvSpPr/>
          <p:nvPr/>
        </p:nvSpPr>
        <p:spPr>
          <a:xfrm>
            <a:off x="1670040" y="4282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2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2116080" y="377676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often talk________ the ph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"/>
          <p:cNvSpPr/>
          <p:nvPr/>
        </p:nvSpPr>
        <p:spPr>
          <a:xfrm>
            <a:off x="1154160" y="227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8"/>
          <p:cNvSpPr/>
          <p:nvPr/>
        </p:nvSpPr>
        <p:spPr>
          <a:xfrm>
            <a:off x="2197080" y="1457280"/>
            <a:ext cx="41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fəʊn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6"/>
          <p:cNvGrpSpPr/>
          <p:nvPr/>
        </p:nvGrpSpPr>
        <p:grpSpPr>
          <a:xfrm>
            <a:off x="895320" y="3881520"/>
            <a:ext cx="1244520" cy="459720"/>
            <a:chOff x="895320" y="3881520"/>
            <a:chExt cx="1244520" cy="459720"/>
          </a:xfrm>
        </p:grpSpPr>
        <p:sp>
          <p:nvSpPr>
            <p:cNvPr id="526" name="TextBox 3"/>
            <p:cNvSpPr/>
            <p:nvPr/>
          </p:nvSpPr>
          <p:spPr>
            <a:xfrm>
              <a:off x="1148040" y="38815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895320" y="39142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TextBox 24"/>
          <p:cNvSpPr/>
          <p:nvPr/>
        </p:nvSpPr>
        <p:spPr>
          <a:xfrm>
            <a:off x="4357800" y="389556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1033560" y="5051520"/>
            <a:ext cx="76928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7"/>
          <p:cNvSpPr/>
          <p:nvPr/>
        </p:nvSpPr>
        <p:spPr>
          <a:xfrm>
            <a:off x="1908000" y="5035680"/>
            <a:ext cx="68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alk on the phon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通过电话交谈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"/>
          <p:cNvSpPr/>
          <p:nvPr/>
        </p:nvSpPr>
        <p:spPr>
          <a:xfrm>
            <a:off x="2116080" y="202716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's your phone number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电话号码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hone numb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话号码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the pho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3"/>
          <a:stretch/>
        </p:blipFill>
        <p:spPr>
          <a:xfrm>
            <a:off x="919080" y="1522440"/>
            <a:ext cx="1381320" cy="581040"/>
          </a:xfrm>
          <a:prstGeom prst="rect">
            <a:avLst/>
          </a:prstGeom>
          <a:ln w="0">
            <a:noFill/>
          </a:ln>
        </p:spPr>
      </p:pic>
      <p:sp>
        <p:nvSpPr>
          <p:cNvPr id="533" name="矩形 1"/>
          <p:cNvSpPr/>
          <p:nvPr/>
        </p:nvSpPr>
        <p:spPr>
          <a:xfrm>
            <a:off x="1158840" y="2995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3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2446200" y="1992240"/>
            <a:ext cx="56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od friend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是好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od frie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好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friends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n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朋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"/>
          <p:cNvSpPr/>
          <p:nvPr/>
        </p:nvSpPr>
        <p:spPr>
          <a:xfrm>
            <a:off x="1629720" y="297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"/>
          <p:cNvSpPr/>
          <p:nvPr/>
        </p:nvSpPr>
        <p:spPr>
          <a:xfrm>
            <a:off x="1667880" y="2225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2487600" y="1405080"/>
            <a:ext cx="52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fren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1014840" y="51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1" descr=""/>
          <p:cNvPicPr/>
          <p:nvPr/>
        </p:nvPicPr>
        <p:blipFill>
          <a:blip r:embed="rId2"/>
          <a:stretch/>
        </p:blipFill>
        <p:spPr>
          <a:xfrm>
            <a:off x="1233360" y="1504800"/>
            <a:ext cx="1381320" cy="600120"/>
          </a:xfrm>
          <a:prstGeom prst="rect">
            <a:avLst/>
          </a:prstGeom>
          <a:ln w="0">
            <a:noFill/>
          </a:ln>
        </p:spPr>
      </p:pic>
      <p:sp>
        <p:nvSpPr>
          <p:cNvPr id="543" name="矩形 1"/>
          <p:cNvSpPr/>
          <p:nvPr/>
        </p:nvSpPr>
        <p:spPr>
          <a:xfrm>
            <a:off x="1667880" y="37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45" name="文本框 17"/>
          <p:cNvSpPr/>
          <p:nvPr/>
        </p:nvSpPr>
        <p:spPr>
          <a:xfrm>
            <a:off x="3647160" y="1344600"/>
            <a:ext cx="303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 watch TV after dinner.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在晚饭后看电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18"/>
          <p:cNvSpPr/>
          <p:nvPr/>
        </p:nvSpPr>
        <p:spPr>
          <a:xfrm>
            <a:off x="736560" y="14018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9"/>
          <p:cNvSpPr/>
          <p:nvPr/>
        </p:nvSpPr>
        <p:spPr>
          <a:xfrm>
            <a:off x="1076400" y="140796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1924200" y="2543040"/>
            <a:ext cx="733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watch TV at home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在家看电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T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电视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game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比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还可以作名词，意为“手表”，其复数形式为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→watches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人称单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e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9" descr="book.gif"/>
          <p:cNvPicPr/>
          <p:nvPr/>
        </p:nvPicPr>
        <p:blipFill>
          <a:blip r:embed="rId2"/>
          <a:stretch/>
        </p:blipFill>
        <p:spPr>
          <a:xfrm>
            <a:off x="-4680" y="127476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552" name="矩形 1"/>
          <p:cNvSpPr/>
          <p:nvPr/>
        </p:nvSpPr>
        <p:spPr>
          <a:xfrm>
            <a:off x="1282680" y="3379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"/>
          <p:cNvSpPr/>
          <p:nvPr/>
        </p:nvSpPr>
        <p:spPr>
          <a:xfrm>
            <a:off x="1289880" y="274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8"/>
          <p:cNvSpPr/>
          <p:nvPr/>
        </p:nvSpPr>
        <p:spPr>
          <a:xfrm>
            <a:off x="2330280" y="1971720"/>
            <a:ext cx="523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/wɒtʃ/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看；注视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3"/>
          <a:stretch/>
        </p:blipFill>
        <p:spPr>
          <a:xfrm>
            <a:off x="919080" y="2014560"/>
            <a:ext cx="1381320" cy="600120"/>
          </a:xfrm>
          <a:prstGeom prst="rect">
            <a:avLst/>
          </a:prstGeom>
          <a:ln w="0">
            <a:noFill/>
          </a:ln>
        </p:spPr>
      </p:pic>
      <p:sp>
        <p:nvSpPr>
          <p:cNvPr id="556" name="矩形 1"/>
          <p:cNvSpPr/>
          <p:nvPr/>
        </p:nvSpPr>
        <p:spPr>
          <a:xfrm>
            <a:off x="1153080" y="3954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词多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"/>
          <p:cNvSpPr/>
          <p:nvPr/>
        </p:nvSpPr>
        <p:spPr>
          <a:xfrm>
            <a:off x="894600" y="4579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1077840" y="5170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近义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15:11Z</dcterms:modified>
  <cp:revision>6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