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7.jpeg" ContentType="image/jpeg"/>
  <Override PartName="/ppt/media/image9.gif" ContentType="image/gif"/>
  <Override PartName="/ppt/media/image10.gif" ContentType="image/gif"/>
  <Override PartName="/ppt/media/image11.gif" ContentType="image/gif"/>
  <Override PartName="/ppt/media/image12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74D-BFA8-4618-88CE-3EA2128B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A81-4BF5-4F40-AA36-DD477E13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1ADE5-A922-4832-B5D2-20E017A9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5122E-C437-4DB8-A7C8-4DEC412A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15E62-A05A-4BAF-893C-76C7BFEF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20800-4E88-4E62-9212-E1287141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7C4E6-F181-4DB7-BAEA-088A3AD7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C91AD-EFDC-47B7-A841-A5839454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41CBA-E6C5-4E00-83AC-EE98F36F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229EC-15A8-43DB-88CC-6B5E189A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BADFE-9E96-431F-98B9-D255B85B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1C104-EDE9-425F-A082-5CB5CEEA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4AB-1960-4610-BC66-B7668B36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443E3-9167-4F4C-B464-5D192F2E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70152-981B-4788-A5E7-429F5821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BA133-3AE2-42B1-8A1E-83995ECE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643A9-B70D-4458-9F50-46B10472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5BBFB-8197-4C27-9E89-F3755FB5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82D36-DA43-4034-9F94-9985C138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9236B-0997-4472-B650-1FE47F70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1302A-8848-4FB6-A9F0-3BEBB9CD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31A5C-A335-41E1-9005-FEA6FDC6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11ED5-4FE6-47A1-8DA0-BAE0EDE5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24B-548A-4685-B36F-DDED8FD4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3E9C4-85D9-4BB0-83BB-9007122B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7D115-A0AF-4EBA-B554-16B5F69D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AC30A-BC65-4BC5-82A3-C570DDA7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BBF8C-E5A5-4235-BAB2-24890675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2D120-8DB7-479F-B639-7CC603D8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30BCD-8BC2-412B-ADDC-ABBF8A65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3B6BD-3C0C-41FA-A032-F62CEF16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9A7C2-421D-45C3-BB25-14975823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6A2F0-F4D9-48F2-A36E-8903F057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ED833-F4AE-4D59-A923-8615BE69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7C89-31E0-48D8-8326-285D7008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DA77D-EAD6-4363-9F00-B38EED9E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F8C81-A108-4549-9808-6F821865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8BCF7-C6E9-440F-9B66-B0BC351B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28FB9-32AC-4627-8703-8023A7EC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F26FD-84D1-46B4-BA1D-849B9531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090B9-C824-426F-BE3C-5BEB4DEB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56A83-24A4-4087-9957-870D081A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737F2-32F2-4E7A-946C-6F6E87D7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5B80E-FCA1-4AA9-80EB-BC12ECBB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96471-255C-48E0-A67C-8102AC05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A245-98D0-484F-8592-F7E5826A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B51F5-FDF8-4623-8479-FBB84484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84667-C507-41DF-83A1-3A5F0CCD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58EE2-0812-40BF-BAC4-EB41D520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C9F9F-50D1-4AFC-910E-6B3A5186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6B79B-071E-412D-B420-52BAF11F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028B-E3D9-4F29-BCB1-AA598970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9BA7-5D70-489B-AF1B-584C9460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6E18-255F-4A7B-80AD-F62E0193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C326-DEC3-4577-AB1E-4831D9A4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E4AE-318F-457E-905B-93AD69B0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E234-76AA-4C1B-A82F-2ACF0DDC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B2C2-0D75-49F6-AD74-2CF9E577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4036-6055-48F1-AFBD-DDF7044C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C3C2-8429-47F8-9D92-B7986771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686E-3804-43AC-9837-062AA461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6400-74B1-4479-8ACF-F2766151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24FB8-9402-4CB4-AA2F-87B8021A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4BAB-B11C-4AE6-B651-5010DF7B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6461C-28EB-4C04-852C-ED0FE42F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8214-FFF0-4CBA-AA71-D9160618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03271-D4B0-465B-A3DC-D783F0F4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447-117D-4E0A-B61E-FD98762F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F789C-F1B6-4917-ADC1-9690E4EF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150F-1260-45CA-AD28-A5EB20BF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15F87-94BE-4E99-BFBC-8C54FC44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51A0-9432-4384-875E-858AD675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3AC71-C4DC-468E-BCC1-376E8694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62A60-BD9B-4B29-BC75-DC7E3C52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7BEA-769D-4B6D-BBCE-415BC29A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118ED-8F69-45F0-83FA-EE66B920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86B69-D302-4C18-9BD1-B8F3B9EE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7DFB9-134F-42FF-8C35-4ED153E7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5FC-84ED-4DCF-B633-73D0611E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C65AC-D6DF-4335-9125-7179BF76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894A0-B387-4D50-ACEF-DBD532B3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7CBC6-4F2B-46A8-B5DA-4552B385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CD9BF-3949-4E7D-B291-D3D50F5B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2E7C6-47B3-45A3-91D9-671476B3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36DB6-9ED3-468D-AB01-0198AB9B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7BC73-DA9C-44C2-89E3-C4E595CC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57476-380A-4920-97E5-1078E516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DE5B0-21D8-453A-AD0C-3E5367BA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89F11-73B2-4EF1-B652-3AFFB997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D1B-F460-4514-9FDF-304F35D2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FC824-5074-493D-B796-E2DB0614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9925C-25B9-4D2F-88E4-55D001B3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522F0-1BA2-4915-A884-CAAF640B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0F547-CC9C-49FA-8ECA-7B1B5C93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4C131-B8FD-464B-85DC-5C2EC385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3FD9F-8BC3-4CC3-9570-4B0F5000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5B5F1-A3FB-4463-84BF-3ECED14B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E7250-5B3C-490B-B000-6DC405F3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8F283-58C9-4E37-BF19-2C25FBFE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24676-E437-408A-8FAD-03373AC7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303-382F-4F35-BDA1-217351A3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059D0-1ED8-4486-8939-5FF66A98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B3EDB-642B-48E1-BEAF-7ED5CFCB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1D4FF-574E-41AA-A11D-B9E37205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BEAE4-485B-4258-892F-44ABC17E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97857-87A2-4A9C-8A61-E1C1EB6F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9C508-2B3B-4864-BBF5-A3FD9DB4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27EA8-0041-41F1-B1CA-EC0D42AE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C33C6-229E-4194-9F2D-A0A05D45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6F53E-8A86-4ED4-A900-3F2DC094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F1008-259A-451E-BD64-277F094C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AF5-6881-4878-9B96-93427595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F4085-D537-4FBB-8611-AA323417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2AA1F-3E2B-4EB5-A965-B4F6F3CE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34A03-279D-44ED-9C46-6C661909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066FF-E4E0-4E02-AD63-F28509CF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857B3-C57D-4B54-8FED-14A7218E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CC495-D220-45EC-A74C-3FCE301A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77EA1-431D-4D50-93CB-7E731CFA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18353-BCF0-4497-8B44-EE276A5E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2DE23-FC66-41DB-A535-A1509183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A7BCB-AD0D-4B7F-8DF8-36363529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720-690B-47D3-B585-872B8207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6E32D-99B9-4E57-B9CC-071A3A75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DE017-07AD-4399-BB57-7EC7D1C6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E9808-D364-4261-9B60-4FB04DC2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6A94F-C90B-4D9F-90E6-4CDB0A89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F8389-0359-43E0-82FC-0B6BA06D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862E1-567B-4B3B-9E2F-9F959153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DF164-5FE3-4440-88E2-869EDB0A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6405A-06AF-4D37-BFCC-A67270AF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14248-9429-4E08-8A34-65574D24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88878-BDEB-475D-B620-1C2DAB2F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86B-C041-43E8-8693-E72EA016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2F4B4-35A2-456B-8EEC-B892FB63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70522-9F73-4EDE-8D13-18748065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DAF08-2F0C-4B9C-ADF9-E617E321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255C6-FC74-4C0D-9F0D-BEB9316F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6FC29-FB37-41AF-AEB5-0FF65BBF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4E591-7045-444A-A092-C936F59D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C7EFA-83AC-41A4-9680-68B46A6A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F2176-A17F-4277-B500-701C46DE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28C56-97D0-4D36-8FD7-78563E42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8AA2E-4432-4C95-B154-E43A0E07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59F3-8558-4DA2-9CBE-E136417DBD0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3009-2B94-4244-BD94-1BC2601299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42BE-F3EB-4866-B9A1-D5576D93E5A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66E7-5F21-46C5-A2F2-57DDC3A76F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C801-1769-48BB-92A9-388CF5A525A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D043-A060-4AD7-8112-610DB57392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FFFB-5664-47F6-A901-3AD33F3E8C2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E357-D745-4EF7-88EF-1763794EA3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9252-9C65-4A56-9D6D-508E81DC2D9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43EF-69CF-4D48-83C1-1F4ABE9682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65CE-2994-4758-B18E-590E767F3EC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58D0-6BBF-4640-958C-19D77E6C20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1C02-2916-4358-9356-38C69F5D9D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A398-2A56-434E-B853-392ED111C5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8CB1-582C-4BB1-9793-410C98FD0CC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EEB5-8479-40A7-95D4-7E7746364B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E921-8792-4FBF-A432-F78F2084C83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B566-6E3A-42E9-A0ED-BA6412C3DE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573D-9B78-4801-A4C7-FDEDCFEFAA5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9F49-5467-4075-933E-96A88A244B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A475-3CB2-4C7C-85D8-EA0F2CC179D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F90F-A775-4100-8ADA-8DC044CE7C1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7146-FFEB-4A90-878F-A5E4938AC03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52F3-8B05-4D61-8C44-575313BFE3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2304;Kate&#12305;&#37011;&#32043;&#26827;G.E.M.&#37329;&#40060;&#34920;&#24773;&#23436;&#25972;&#29256;_&#39640;&#28165;_&#26631;&#28165;.mp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2304;Kate&#12305;&#37011;&#32043;&#26827;G.E.M.&#37329;&#40060;&#34920;&#24773;&#23436;&#25972;&#29256;_&#39640;&#28165;_&#26631;&#28165;.mp4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2304;Kate&#12305;&#37011;&#32043;&#26827;G.E.M.&#37329;&#40060;&#34920;&#24773;&#23436;&#25972;&#29256;_&#39640;&#28165;_&#26631;&#28165;.mp4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2"/>
          <p:cNvSpPr/>
          <p:nvPr/>
        </p:nvSpPr>
        <p:spPr>
          <a:xfrm>
            <a:off x="1143000" y="1428840"/>
            <a:ext cx="628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UNIT ONE WHY ARE YOU SO HAPPY Lesson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--</a:t>
            </a:r>
            <a:r>
              <a:rPr b="0" lang="zh-CN" sz="5400" spc="-1" strike="noStrike">
                <a:solidFill>
                  <a:srgbClr val="000000"/>
                </a:solidFill>
                <a:latin typeface="Forte"/>
              </a:rPr>
              <a:t>情绪类形容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785520" y="1714680"/>
            <a:ext cx="6878520" cy="4184640"/>
            <a:chOff x="785520" y="1714680"/>
            <a:chExt cx="6878520" cy="4184640"/>
          </a:xfrm>
        </p:grpSpPr>
        <p:sp>
          <p:nvSpPr>
            <p:cNvPr id="538" name="Rectangle 12"/>
            <p:cNvSpPr/>
            <p:nvPr/>
          </p:nvSpPr>
          <p:spPr>
            <a:xfrm rot="5400000">
              <a:off x="5260320" y="1526400"/>
              <a:ext cx="1602720" cy="19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t" anchorCtr="1" vert="eaVert" rot="10800000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忧郁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4"/>
            <p:cNvSpPr/>
            <p:nvPr/>
          </p:nvSpPr>
          <p:spPr>
            <a:xfrm rot="5400000">
              <a:off x="3703680" y="1938960"/>
              <a:ext cx="1041840" cy="68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5120" tIns="15120" bIns="15120" anchor="t" anchorCtr="1" vert="eaVert" rot="10800000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epressed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[dɪ'prɛst]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om was rather depressed about the future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图片 8" descr="u=3217366242,3371957353&amp;fm=56.jpg"/>
          <p:cNvPicPr/>
          <p:nvPr/>
        </p:nvPicPr>
        <p:blipFill>
          <a:blip r:embed="rId1"/>
          <a:stretch/>
        </p:blipFill>
        <p:spPr>
          <a:xfrm>
            <a:off x="1000080" y="135720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AutoShape 3"/>
          <p:cNvSpPr/>
          <p:nvPr/>
        </p:nvSpPr>
        <p:spPr>
          <a:xfrm>
            <a:off x="928800" y="1785960"/>
            <a:ext cx="7143480" cy="172404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a3c2ff"/>
              </a:gs>
              <a:gs pos="100000">
                <a:srgbClr val="e5e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928800" y="2071800"/>
            <a:ext cx="5486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106560" bIns="10656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gry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['æŋɡri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·Tom was very angry with him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6962760" y="3000240"/>
            <a:ext cx="96048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2"/>
          <p:cNvSpPr/>
          <p:nvPr/>
        </p:nvSpPr>
        <p:spPr>
          <a:xfrm>
            <a:off x="7580160" y="4419720"/>
            <a:ext cx="9604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图片 3" descr="u=940932824,2335567585&amp;fm=56.jpg"/>
          <p:cNvPicPr/>
          <p:nvPr/>
        </p:nvPicPr>
        <p:blipFill>
          <a:blip r:embed="rId1"/>
          <a:stretch/>
        </p:blipFill>
        <p:spPr>
          <a:xfrm>
            <a:off x="1143000" y="44290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1332000" y="1978200"/>
            <a:ext cx="6994440" cy="2676240"/>
            <a:chOff x="1332000" y="1978200"/>
            <a:chExt cx="6994440" cy="2676240"/>
          </a:xfrm>
        </p:grpSpPr>
        <p:sp>
          <p:nvSpPr>
            <p:cNvPr id="547" name="AutoShape 5"/>
            <p:cNvSpPr/>
            <p:nvPr/>
          </p:nvSpPr>
          <p:spPr>
            <a:xfrm>
              <a:off x="1332000" y="2214000"/>
              <a:ext cx="6994440" cy="23572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a3c2ff"/>
                </a:gs>
                <a:gs pos="100000">
                  <a:srgbClr val="e5ee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6"/>
            <p:cNvSpPr/>
            <p:nvPr/>
          </p:nvSpPr>
          <p:spPr>
            <a:xfrm>
              <a:off x="1332000" y="2581920"/>
              <a:ext cx="6883200" cy="14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·upset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Calibri"/>
                </a:rPr>
                <a:t>[ʌp'sɛt]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Calibri"/>
                </a:rPr>
                <a:t>·Jerry’s friend told him there’s no point getting upset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0"/>
            <p:cNvSpPr/>
            <p:nvPr/>
          </p:nvSpPr>
          <p:spPr>
            <a:xfrm>
              <a:off x="6748200" y="1978200"/>
              <a:ext cx="960840" cy="9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2"/>
            <p:cNvSpPr/>
            <p:nvPr/>
          </p:nvSpPr>
          <p:spPr>
            <a:xfrm>
              <a:off x="7365600" y="3693240"/>
              <a:ext cx="960840" cy="9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1" name="图片 3" descr="u=940932824,2335567585&amp;fm=56.jpg"/>
          <p:cNvPicPr/>
          <p:nvPr/>
        </p:nvPicPr>
        <p:blipFill>
          <a:blip r:embed="rId1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1643040" y="1978200"/>
            <a:ext cx="6994440" cy="2676240"/>
            <a:chOff x="1643040" y="1978200"/>
            <a:chExt cx="6994440" cy="2676240"/>
          </a:xfrm>
        </p:grpSpPr>
        <p:sp>
          <p:nvSpPr>
            <p:cNvPr id="553" name="AutoShape 7"/>
            <p:cNvSpPr/>
            <p:nvPr/>
          </p:nvSpPr>
          <p:spPr>
            <a:xfrm>
              <a:off x="1643040" y="1999800"/>
              <a:ext cx="6994440" cy="22143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a3c2ff"/>
                </a:gs>
                <a:gs pos="100000">
                  <a:srgbClr val="e5ee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8"/>
            <p:cNvSpPr/>
            <p:nvPr/>
          </p:nvSpPr>
          <p:spPr>
            <a:xfrm>
              <a:off x="1785600" y="2285280"/>
              <a:ext cx="5416200" cy="14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·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crazy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Calibri"/>
                </a:rPr>
                <a:t>['krezi]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Calibri"/>
                </a:rPr>
                <a:t>·Tom became crazy about English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0"/>
            <p:cNvSpPr/>
            <p:nvPr/>
          </p:nvSpPr>
          <p:spPr>
            <a:xfrm>
              <a:off x="6747840" y="1978200"/>
              <a:ext cx="960840" cy="9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2"/>
            <p:cNvSpPr/>
            <p:nvPr/>
          </p:nvSpPr>
          <p:spPr>
            <a:xfrm>
              <a:off x="7365240" y="3693240"/>
              <a:ext cx="960840" cy="9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7" name="图片 3" descr="u=940932824,2335567585&amp;fm=56.jpg"/>
          <p:cNvPicPr/>
          <p:nvPr/>
        </p:nvPicPr>
        <p:blipFill>
          <a:blip r:embed="rId1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6092"/>
                </a:solidFill>
                <a:latin typeface="Gungsuh"/>
                <a:ea typeface="Gungsuh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2876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cheerfu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passion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ex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nerv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embarras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0" y="1714320"/>
            <a:ext cx="403848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omic Sans MS"/>
              </a:rPr>
              <a:t>disappoin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omic Sans MS"/>
              </a:rPr>
              <a:t>ang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omic Sans MS"/>
              </a:rPr>
              <a:t>ups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omic Sans MS"/>
              </a:rPr>
              <a:t>cra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4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4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4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4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bf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bf8e"/>
                </a:solidFill>
                <a:latin typeface="Comic Sans MS"/>
              </a:rPr>
              <a:t>Please write a diary of no less than 80 words by using the words we have learned to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Mr</a:t>
            </a:r>
            <a:r>
              <a:rPr b="0" lang="zh-CN" sz="3200" spc="-1" strike="noStrike">
                <a:solidFill>
                  <a:srgbClr val="7030a0"/>
                </a:solidFill>
                <a:latin typeface="Comic Sans MS"/>
              </a:rPr>
              <a:t>．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Brown is a very white man</a:t>
            </a:r>
            <a:r>
              <a:rPr b="0" lang="zh-CN" sz="3200" spc="-1" strike="noStrike">
                <a:solidFill>
                  <a:srgbClr val="7030a0"/>
                </a:solidFill>
                <a:latin typeface="Comic Sans MS"/>
              </a:rPr>
              <a:t>．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He is looking rather green the other day</a:t>
            </a:r>
            <a:r>
              <a:rPr b="0" lang="zh-CN" sz="3200" spc="-1" strike="noStrike">
                <a:solidFill>
                  <a:srgbClr val="7030a0"/>
                </a:solidFill>
                <a:latin typeface="Comic Sans MS"/>
              </a:rPr>
              <a:t>．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He has been feeling blue lately</a:t>
            </a:r>
            <a:r>
              <a:rPr b="0" lang="zh-CN" sz="3200" spc="-1" strike="noStrike">
                <a:solidFill>
                  <a:srgbClr val="7030a0"/>
                </a:solidFill>
                <a:latin typeface="Comic Sans MS"/>
              </a:rPr>
              <a:t>．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When I saw him</a:t>
            </a:r>
            <a:r>
              <a:rPr b="0" lang="zh-CN" sz="3200" spc="-1" strike="noStrike">
                <a:solidFill>
                  <a:srgbClr val="7030a0"/>
                </a:solidFill>
                <a:latin typeface="Comic Sans MS"/>
              </a:rPr>
              <a:t>。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he was in a brown study</a:t>
            </a:r>
            <a:r>
              <a:rPr b="0" lang="zh-CN" sz="3200" spc="-1" strike="noStrike">
                <a:solidFill>
                  <a:srgbClr val="7030a0"/>
                </a:solidFill>
                <a:latin typeface="Comic Sans MS"/>
              </a:rPr>
              <a:t>．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I hope he’ll be in the pink again</a:t>
            </a:r>
            <a:r>
              <a:rPr b="0" lang="zh-CN" sz="3200" spc="-1" strike="noStrike">
                <a:solidFill>
                  <a:srgbClr val="7030a0"/>
                </a:solidFill>
                <a:latin typeface="Comic Sans MS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矩形 3"/>
          <p:cNvSpPr/>
          <p:nvPr/>
        </p:nvSpPr>
        <p:spPr>
          <a:xfrm>
            <a:off x="2729880" y="428760"/>
            <a:ext cx="33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7bff"/>
                </a:solidFill>
                <a:latin typeface="Calibri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矩形 3"/>
          <p:cNvSpPr/>
          <p:nvPr/>
        </p:nvSpPr>
        <p:spPr>
          <a:xfrm>
            <a:off x="4377960" y="2967120"/>
            <a:ext cx="3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4"/>
          <p:cNvSpPr/>
          <p:nvPr/>
        </p:nvSpPr>
        <p:spPr>
          <a:xfrm>
            <a:off x="1626840" y="2286000"/>
            <a:ext cx="561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4f81bd"/>
                </a:solidFill>
                <a:latin typeface="Calibri"/>
              </a:rPr>
              <a:t>Thank you 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xpression &amp; Emotion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10" descr="F:\资源库\重庆大学（三起）5、6\重庆大学出版社(三起）六年级上册\Unit 1 Months of a year\Lesson 1\素材\happy.jpg"/>
          <p:cNvPicPr/>
          <p:nvPr/>
        </p:nvPicPr>
        <p:blipFill>
          <a:blip r:embed="rId2"/>
          <a:stretch/>
        </p:blipFill>
        <p:spPr>
          <a:xfrm>
            <a:off x="285840" y="200016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495" name="矩形 10" descr=""/>
          <p:cNvPicPr/>
          <p:nvPr/>
        </p:nvPicPr>
        <p:blipFill>
          <a:blip r:embed="rId3"/>
          <a:stretch/>
        </p:blipFill>
        <p:spPr>
          <a:xfrm>
            <a:off x="5529240" y="2554200"/>
            <a:ext cx="29494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F:\资源库\外研\外研通用7、9\英语外研通用版九年级上册（2014年新编）\Module 4 Home alone\Unit 2 I became so bored with their orders that I wished they would leave me alone\素材\unhappy.jpg"/>
          <p:cNvPicPr/>
          <p:nvPr/>
        </p:nvPicPr>
        <p:blipFill>
          <a:blip r:embed="rId1"/>
          <a:stretch/>
        </p:blipFill>
        <p:spPr>
          <a:xfrm>
            <a:off x="762120" y="2357280"/>
            <a:ext cx="5238720" cy="3929400"/>
          </a:xfrm>
          <a:prstGeom prst="rect">
            <a:avLst/>
          </a:prstGeom>
          <a:ln w="0">
            <a:noFill/>
          </a:ln>
        </p:spPr>
      </p:pic>
      <p:sp>
        <p:nvSpPr>
          <p:cNvPr id="497" name="标题 4"/>
          <p:cNvSpPr/>
          <p:nvPr/>
        </p:nvSpPr>
        <p:spPr>
          <a:xfrm>
            <a:off x="428760" y="50004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xpression &amp; Emotion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矩形 4" descr=""/>
          <p:cNvPicPr/>
          <p:nvPr/>
        </p:nvPicPr>
        <p:blipFill>
          <a:blip r:embed="rId3"/>
          <a:stretch/>
        </p:blipFill>
        <p:spPr>
          <a:xfrm>
            <a:off x="5473800" y="3121200"/>
            <a:ext cx="387180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标题 4"/>
          <p:cNvSpPr/>
          <p:nvPr/>
        </p:nvSpPr>
        <p:spPr>
          <a:xfrm>
            <a:off x="428760" y="50004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xpression &amp; Emotion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矩形 4" descr=""/>
          <p:cNvPicPr/>
          <p:nvPr/>
        </p:nvPicPr>
        <p:blipFill>
          <a:blip r:embed="rId2"/>
          <a:stretch/>
        </p:blipFill>
        <p:spPr>
          <a:xfrm>
            <a:off x="5937120" y="3121200"/>
            <a:ext cx="2951280" cy="14443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F:\资源库\人教\人教（一起）1-6\英语人教（一起）六年级上册(2014年新编）\Unit 4 Feelings\素材\angry.jpg"/>
          <p:cNvPicPr/>
          <p:nvPr/>
        </p:nvPicPr>
        <p:blipFill>
          <a:blip r:embed="rId3"/>
          <a:stretch/>
        </p:blipFill>
        <p:spPr>
          <a:xfrm>
            <a:off x="500040" y="2071800"/>
            <a:ext cx="53816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0" y="0"/>
            <a:ext cx="8966160" cy="6858000"/>
            <a:chOff x="0" y="0"/>
            <a:chExt cx="8966160" cy="6858000"/>
          </a:xfrm>
        </p:grpSpPr>
        <p:sp>
          <p:nvSpPr>
            <p:cNvPr id="503" name="Freeform 5"/>
            <p:cNvSpPr/>
            <p:nvPr/>
          </p:nvSpPr>
          <p:spPr>
            <a:xfrm>
              <a:off x="2813040" y="1343880"/>
              <a:ext cx="1901520" cy="84600"/>
            </a:xfrm>
            <a:custGeom>
              <a:avLst/>
              <a:gdLst>
                <a:gd name="textAreaLeft" fmla="*/ 0 w 1901520"/>
                <a:gd name="textAreaRight" fmla="*/ 1901880 w 1901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1039882" h="64863">
                  <a:moveTo>
                    <a:pt x="0" y="32431"/>
                  </a:moveTo>
                  <a:lnTo>
                    <a:pt x="1039882" y="32431"/>
                  </a:lnTo>
                </a:path>
              </a:pathLst>
            </a:custGeom>
            <a:noFill/>
            <a:ln w="25560">
              <a:solidFill>
                <a:srgbClr val="3b6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6"/>
            <p:cNvSpPr/>
            <p:nvPr/>
          </p:nvSpPr>
          <p:spPr>
            <a:xfrm>
              <a:off x="0" y="0"/>
              <a:ext cx="2678040" cy="28872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7"/>
            <p:cNvSpPr/>
            <p:nvPr/>
          </p:nvSpPr>
          <p:spPr>
            <a:xfrm>
              <a:off x="4857840" y="357120"/>
              <a:ext cx="1976760" cy="1977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8"/>
            <p:cNvSpPr/>
            <p:nvPr/>
          </p:nvSpPr>
          <p:spPr>
            <a:xfrm>
              <a:off x="4857840" y="357120"/>
              <a:ext cx="1976760" cy="19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28440" bIns="28440" anchor="ctr">
              <a:noAutofit/>
            </a:bodyPr>
            <a:p>
              <a:pPr algn="ctr">
                <a:lnSpc>
                  <a:spcPct val="90000"/>
                </a:lnSpc>
                <a:spcAft>
                  <a:spcPts val="19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500" spc="-1" strike="noStrike">
                  <a:solidFill>
                    <a:srgbClr val="ffffff"/>
                  </a:solidFill>
                  <a:latin typeface="宋体"/>
                </a:rPr>
                <a:t>愉快的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5347080" y="720"/>
              <a:ext cx="2965320" cy="19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642600" y="3214800"/>
              <a:ext cx="7000920" cy="19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8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cheerfu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8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om was a cheerful, hardworking teacher</a:t>
              </a:r>
              <a:r>
                <a:rPr b="1" lang="en-US" sz="4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3"/>
            <p:cNvSpPr/>
            <p:nvPr/>
          </p:nvSpPr>
          <p:spPr>
            <a:xfrm>
              <a:off x="6000840" y="2440440"/>
              <a:ext cx="2965320" cy="19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7"/>
            <p:cNvSpPr/>
            <p:nvPr/>
          </p:nvSpPr>
          <p:spPr>
            <a:xfrm>
              <a:off x="5357880" y="4880880"/>
              <a:ext cx="2965320" cy="19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177840" y="-1785960"/>
            <a:ext cx="8966160" cy="7334280"/>
            <a:chOff x="177840" y="-1785960"/>
            <a:chExt cx="8966160" cy="7334280"/>
          </a:xfrm>
        </p:grpSpPr>
        <p:sp>
          <p:nvSpPr>
            <p:cNvPr id="512" name="Freeform 4"/>
            <p:cNvSpPr/>
            <p:nvPr/>
          </p:nvSpPr>
          <p:spPr>
            <a:xfrm>
              <a:off x="2847960" y="1609560"/>
              <a:ext cx="1155960" cy="64800"/>
            </a:xfrm>
            <a:custGeom>
              <a:avLst/>
              <a:gdLst>
                <a:gd name="textAreaLeft" fmla="*/ 0 w 1155960"/>
                <a:gd name="textAreaRight" fmla="*/ 1156320 w 1155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55934" h="64863">
                  <a:moveTo>
                    <a:pt x="0" y="32431"/>
                  </a:moveTo>
                  <a:lnTo>
                    <a:pt x="1155934" y="32431"/>
                  </a:lnTo>
                </a:path>
              </a:pathLst>
            </a:custGeom>
            <a:noFill/>
            <a:ln w="25560">
              <a:solidFill>
                <a:srgbClr val="3b6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6"/>
            <p:cNvSpPr/>
            <p:nvPr/>
          </p:nvSpPr>
          <p:spPr>
            <a:xfrm>
              <a:off x="177840" y="244080"/>
              <a:ext cx="2678040" cy="28872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9"/>
            <p:cNvSpPr/>
            <p:nvPr/>
          </p:nvSpPr>
          <p:spPr>
            <a:xfrm>
              <a:off x="5524920" y="-1785960"/>
              <a:ext cx="2965320" cy="19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0"/>
            <p:cNvSpPr/>
            <p:nvPr/>
          </p:nvSpPr>
          <p:spPr>
            <a:xfrm>
              <a:off x="5524920" y="-1785960"/>
              <a:ext cx="2965320" cy="19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6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cheerful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6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om was a cheerful, hardworking teacher</a:t>
              </a:r>
              <a:r>
                <a:rPr b="1" lang="en-US" sz="33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.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4003920" y="653400"/>
              <a:ext cx="1976760" cy="19767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2"/>
            <p:cNvSpPr/>
            <p:nvPr/>
          </p:nvSpPr>
          <p:spPr>
            <a:xfrm>
              <a:off x="4003920" y="653400"/>
              <a:ext cx="1976760" cy="19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28440" bIns="28440" anchor="ctr">
              <a:noAutofit/>
            </a:bodyPr>
            <a:p>
              <a:pPr algn="ctr">
                <a:lnSpc>
                  <a:spcPct val="90000"/>
                </a:lnSpc>
                <a:spcAft>
                  <a:spcPts val="19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500" spc="-1" strike="noStrike">
                  <a:solidFill>
                    <a:srgbClr val="ffffff"/>
                  </a:solidFill>
                  <a:latin typeface="宋体"/>
                </a:rPr>
                <a:t>热情的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3"/>
            <p:cNvSpPr/>
            <p:nvPr/>
          </p:nvSpPr>
          <p:spPr>
            <a:xfrm>
              <a:off x="6178680" y="653400"/>
              <a:ext cx="2965320" cy="19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4"/>
            <p:cNvSpPr/>
            <p:nvPr/>
          </p:nvSpPr>
          <p:spPr>
            <a:xfrm>
              <a:off x="571320" y="3571560"/>
              <a:ext cx="7072200" cy="19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passionat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85840" indent="-285840">
                <a:lnSpc>
                  <a:spcPct val="9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om had a passionate interest in his work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7"/>
            <p:cNvSpPr/>
            <p:nvPr/>
          </p:nvSpPr>
          <p:spPr>
            <a:xfrm>
              <a:off x="5535720" y="3093840"/>
              <a:ext cx="2965320" cy="19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2"/>
          <p:cNvGrpSpPr/>
          <p:nvPr/>
        </p:nvGrpSpPr>
        <p:grpSpPr>
          <a:xfrm>
            <a:off x="0" y="-1714680"/>
            <a:ext cx="8966160" cy="7263000"/>
            <a:chOff x="0" y="-1714680"/>
            <a:chExt cx="8966160" cy="7263000"/>
          </a:xfrm>
        </p:grpSpPr>
        <p:sp>
          <p:nvSpPr>
            <p:cNvPr id="522" name="Freeform 3"/>
            <p:cNvSpPr/>
            <p:nvPr/>
          </p:nvSpPr>
          <p:spPr>
            <a:xfrm>
              <a:off x="2712240" y="1950480"/>
              <a:ext cx="1930680" cy="191880"/>
            </a:xfrm>
            <a:custGeom>
              <a:avLst/>
              <a:gdLst>
                <a:gd name="textAreaLeft" fmla="*/ 0 w 1930680"/>
                <a:gd name="textAreaRight" fmla="*/ 1931040 w 19306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051024" h="64863">
                  <a:moveTo>
                    <a:pt x="0" y="32431"/>
                  </a:moveTo>
                  <a:lnTo>
                    <a:pt x="1051024" y="32431"/>
                  </a:lnTo>
                </a:path>
              </a:pathLst>
            </a:custGeom>
            <a:noFill/>
            <a:ln w="25560">
              <a:solidFill>
                <a:srgbClr val="3b6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6"/>
            <p:cNvSpPr/>
            <p:nvPr/>
          </p:nvSpPr>
          <p:spPr>
            <a:xfrm>
              <a:off x="0" y="315360"/>
              <a:ext cx="2678040" cy="28872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9"/>
            <p:cNvSpPr/>
            <p:nvPr/>
          </p:nvSpPr>
          <p:spPr>
            <a:xfrm>
              <a:off x="5347080" y="-1714680"/>
              <a:ext cx="2965320" cy="19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3"/>
            <p:cNvSpPr/>
            <p:nvPr/>
          </p:nvSpPr>
          <p:spPr>
            <a:xfrm>
              <a:off x="6000840" y="724680"/>
              <a:ext cx="2965320" cy="19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5"/>
            <p:cNvSpPr/>
            <p:nvPr/>
          </p:nvSpPr>
          <p:spPr>
            <a:xfrm>
              <a:off x="4643280" y="928440"/>
              <a:ext cx="1976760" cy="19767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6"/>
            <p:cNvSpPr/>
            <p:nvPr/>
          </p:nvSpPr>
          <p:spPr>
            <a:xfrm>
              <a:off x="4643280" y="856800"/>
              <a:ext cx="1976760" cy="19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28440" bIns="28440" anchor="ctr">
              <a:noAutofit/>
            </a:bodyPr>
            <a:p>
              <a:pPr algn="ctr">
                <a:lnSpc>
                  <a:spcPct val="90000"/>
                </a:lnSpc>
                <a:spcAft>
                  <a:spcPts val="19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500" spc="-1" strike="noStrike">
                  <a:solidFill>
                    <a:srgbClr val="ffffff"/>
                  </a:solidFill>
                  <a:latin typeface="宋体"/>
                </a:rPr>
                <a:t>兴奋的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7"/>
            <p:cNvSpPr/>
            <p:nvPr/>
          </p:nvSpPr>
          <p:spPr>
            <a:xfrm>
              <a:off x="5357880" y="3165120"/>
              <a:ext cx="2965320" cy="19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8"/>
            <p:cNvSpPr/>
            <p:nvPr/>
          </p:nvSpPr>
          <p:spPr>
            <a:xfrm>
              <a:off x="785520" y="3571560"/>
              <a:ext cx="6715080" cy="19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excite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om was excited at the chance of studying abroad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857160" y="1143000"/>
            <a:ext cx="6878880" cy="4541760"/>
            <a:chOff x="857160" y="1143000"/>
            <a:chExt cx="6878880" cy="4541760"/>
          </a:xfrm>
        </p:grpSpPr>
        <p:sp>
          <p:nvSpPr>
            <p:cNvPr id="531" name="Rectangle 4"/>
            <p:cNvSpPr/>
            <p:nvPr/>
          </p:nvSpPr>
          <p:spPr>
            <a:xfrm rot="5400000">
              <a:off x="4199040" y="943920"/>
              <a:ext cx="16027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t" anchorCtr="1" vert="eaVert" rot="10800000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嫉妒的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6"/>
            <p:cNvSpPr/>
            <p:nvPr/>
          </p:nvSpPr>
          <p:spPr>
            <a:xfrm rot="5400000">
              <a:off x="3775680" y="1724040"/>
              <a:ext cx="1041840" cy="68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5120" tIns="15120" bIns="15120" anchor="t" anchorCtr="1" vert="eaVert" rot="10800000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jealous 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['dʒɛləs]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om’s colleagues were jealous of his luck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3" name="图片 7" descr="u=3335062410,1343083294&amp;fm=56.jpg"/>
          <p:cNvPicPr/>
          <p:nvPr/>
        </p:nvPicPr>
        <p:blipFill>
          <a:blip r:embed="rId1"/>
          <a:stretch/>
        </p:blipFill>
        <p:spPr>
          <a:xfrm>
            <a:off x="428760" y="71424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8"/>
          <p:cNvSpPr/>
          <p:nvPr/>
        </p:nvSpPr>
        <p:spPr>
          <a:xfrm rot="5400000">
            <a:off x="5056200" y="1515960"/>
            <a:ext cx="160344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17640" bIns="17640" anchor="t" anchorCtr="1" vert="eaVert" rot="10800000">
            <a:noAutofit/>
          </a:bodyPr>
          <a:p>
            <a:pPr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尴尬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0"/>
          <p:cNvSpPr/>
          <p:nvPr/>
        </p:nvSpPr>
        <p:spPr>
          <a:xfrm rot="5400000">
            <a:off x="3776040" y="1581480"/>
            <a:ext cx="1041120" cy="68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15120" tIns="15120" bIns="15120" anchor="t" anchorCtr="1" vert="eaVert" rot="10800000">
            <a:noAutofit/>
          </a:bodyPr>
          <a:p>
            <a:pPr lvl="1" marL="228600" indent="-22860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embarrassed  [ɪm'bærəst]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Tom felt embarrassed at knowing little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图片 6" descr="u=307564060,2806420895&amp;fm=56.jpg"/>
          <p:cNvPicPr/>
          <p:nvPr/>
        </p:nvPicPr>
        <p:blipFill>
          <a:blip r:embed="rId1"/>
          <a:stretch/>
        </p:blipFill>
        <p:spPr>
          <a:xfrm>
            <a:off x="857160" y="71424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4:59:35Z</dcterms:created>
  <dc:creator>Administrator</dc:creator>
  <dc:description/>
  <dc:language>en-US</dc:language>
  <cp:lastModifiedBy>AutoBVT</cp:lastModifiedBy>
  <dcterms:modified xsi:type="dcterms:W3CDTF">2016-11-11T12:00:08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