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54E6-4209-44A7-A432-D22BAEA8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22D6-0D22-419B-9EA2-ED1045CA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6310-4B66-45E4-8D68-BF0DDA24E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1EA4-57BD-4B35-A402-558964BF7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E9BF-518A-414A-A47F-194BD58A5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303C-BE65-4DAD-9811-E01A965F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49C5-CD32-4909-B2DD-0B88E28A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9277-5528-4785-8892-20289A04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2EFC-A3FA-434C-8680-87C34C4F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04A7-CF40-4BBF-B33C-CAB89EE5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1374-E934-4EDE-99FB-EBA74E40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615A-4D83-4FAF-9A0A-0C595C91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8286-D2FE-465C-BC56-6D8BE81C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CAAE-1BC8-4D1F-9A5A-EBA8653B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0D4A-C7C9-4349-AE1A-E1917802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F22C-4AF4-4CD9-AEF4-1250F970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E2F6-8918-4614-8345-665EBED9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5E135-0121-4467-BCFA-592168AB1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8B58C-4AC4-45AE-988D-B91DB32B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37066-703F-4928-862C-5D409C16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4698E-57A9-4ED7-820C-C1CD91D3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320A6-BC98-4B6B-B889-1979E912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86D6-EE25-4269-B6C9-670AF94B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7D4A8-E956-45E8-88B2-C60D7828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04766-666C-4019-BB37-37B6C2FA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8EA43-7876-4DB6-9430-CAFCEEC2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8C69C-A93F-421F-9D09-D3BC2D3E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51A7C-1702-434C-AB01-9D695B7D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72F47-C21A-4128-A969-9F21E839C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94552-C666-41B0-BFEC-BE71764D7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DB95-C75F-4A3C-A690-5D806A7B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A93D-6E9D-44BA-8D94-CA5DFBA1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84CB-93F9-411A-94B6-20EF1CC9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3E58-E3BA-46AD-9BBB-7E40A925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5D25-FD5F-437F-A9DC-23F2C31D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0C8B-AC23-47D5-BA6B-978F5CFA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tretch/>
        </p:blipFill>
        <p:spPr>
          <a:xfrm>
            <a:off x="6667560" y="4915080"/>
            <a:ext cx="2476440" cy="194292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1026"/>
          <p:cNvGrpSpPr/>
          <p:nvPr/>
        </p:nvGrpSpPr>
        <p:grpSpPr>
          <a:xfrm>
            <a:off x="-4680" y="-4680"/>
            <a:ext cx="9155160" cy="83880"/>
            <a:chOff x="-4680" y="-4680"/>
            <a:chExt cx="9155160" cy="83880"/>
          </a:xfrm>
        </p:grpSpPr>
        <p:pic>
          <p:nvPicPr>
            <p:cNvPr id="2" name="矩形 9" descr=""/>
            <p:cNvPicPr/>
            <p:nvPr/>
          </p:nvPicPr>
          <p:blipFill>
            <a:blip r:embed="rId3"/>
            <a:stretch/>
          </p:blipFill>
          <p:spPr>
            <a:xfrm>
              <a:off x="-4680" y="-4680"/>
              <a:ext cx="9155160" cy="8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文本框 1028"/>
            <p:cNvSpPr/>
            <p:nvPr/>
          </p:nvSpPr>
          <p:spPr>
            <a:xfrm>
              <a:off x="1440" y="1440"/>
              <a:ext cx="9142560" cy="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组合 1029"/>
          <p:cNvGrpSpPr/>
          <p:nvPr/>
        </p:nvGrpSpPr>
        <p:grpSpPr>
          <a:xfrm>
            <a:off x="-4680" y="36360"/>
            <a:ext cx="4583160" cy="79200"/>
            <a:chOff x="-4680" y="36360"/>
            <a:chExt cx="4583160" cy="79200"/>
          </a:xfrm>
        </p:grpSpPr>
        <p:pic>
          <p:nvPicPr>
            <p:cNvPr id="5" name="矩形 10" descr=""/>
            <p:cNvPicPr/>
            <p:nvPr/>
          </p:nvPicPr>
          <p:blipFill>
            <a:blip r:embed="rId4"/>
            <a:stretch/>
          </p:blipFill>
          <p:spPr>
            <a:xfrm>
              <a:off x="-4680" y="36360"/>
              <a:ext cx="458316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文本框 1031"/>
            <p:cNvSpPr/>
            <p:nvPr/>
          </p:nvSpPr>
          <p:spPr>
            <a:xfrm>
              <a:off x="1440" y="41040"/>
              <a:ext cx="45705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" name="图片 8" descr=""/>
          <p:cNvPicPr/>
          <p:nvPr/>
        </p:nvPicPr>
        <p:blipFill>
          <a:blip r:embed="rId5"/>
          <a:stretch/>
        </p:blipFill>
        <p:spPr>
          <a:xfrm>
            <a:off x="0" y="6419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457200" indent="45720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91440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371600" indent="-45720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828800" indent="-91440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C791-F6EB-48EF-AABA-5E5208BE4DF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457200" indent="45720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91440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371600" indent="-45720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828800" indent="-91440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B9FD-F88A-4796-927D-3A98556559E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457200" indent="45720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91440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371600" indent="-45720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828800" indent="-91440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832A-117E-4AE7-808E-90D2453B9A3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33" name="Picture 4" descr="bedroom"/>
          <p:cNvPicPr/>
          <p:nvPr/>
        </p:nvPicPr>
        <p:blipFill>
          <a:blip r:embed="rId1"/>
          <a:srcRect l="0" t="0" r="0" b="2500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34" name="TextBox 4"/>
          <p:cNvSpPr/>
          <p:nvPr/>
        </p:nvSpPr>
        <p:spPr>
          <a:xfrm>
            <a:off x="181080" y="620640"/>
            <a:ext cx="85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GungsuhChe"/>
                <a:ea typeface="GungsuhChe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GungsuhChe"/>
                <a:ea typeface="GungsuhChe"/>
              </a:rPr>
              <a:t>Module 1 My bedro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GungsuhChe"/>
                <a:ea typeface="GungsuhChe"/>
              </a:rPr>
              <a:t>     </a:t>
            </a:r>
            <a:r>
              <a:rPr b="1" lang="zh-CN" sz="6000" spc="-1" strike="noStrike">
                <a:solidFill>
                  <a:srgbClr val="ff0000"/>
                </a:solidFill>
                <a:latin typeface="GungsuhChe"/>
              </a:rPr>
              <a:t>   </a:t>
            </a:r>
            <a:r>
              <a:rPr b="1" lang="en-US" sz="6000" spc="-1" strike="noStrike">
                <a:solidFill>
                  <a:srgbClr val="ff0000"/>
                </a:solidFill>
                <a:latin typeface="GungsuhChe"/>
                <a:ea typeface="GungsuhChe"/>
              </a:rPr>
              <a:t>Let’s talk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Maiandra GD"/>
              </a:rPr>
              <a:t>sound family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1198440"/>
          <a:ext cx="8229600" cy="5218200"/>
        </p:xfrm>
        <a:graphic>
          <a:graphicData uri="http://schemas.openxmlformats.org/drawingml/2006/table">
            <a:tbl>
              <a:tblPr/>
              <a:tblGrid>
                <a:gridCol w="1290600"/>
                <a:gridCol w="4194360"/>
                <a:gridCol w="2744640"/>
              </a:tblGrid>
              <a:tr h="801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t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ds you k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ry m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, shop, ship, short, show, English, fish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h, sa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01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-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me, face, gra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pe, sa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2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t, has, man, can, hand, bla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p, bad, s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01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, 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rk, pa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01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y, pl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y, st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11700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Maiandra GD"/>
              </a:rPr>
              <a:t>Practice:</a:t>
            </a:r>
            <a:r>
              <a:rPr b="1" lang="zh-CN" sz="3600" spc="-1" strike="noStrike">
                <a:solidFill>
                  <a:srgbClr val="ff00ff"/>
                </a:solidFill>
                <a:latin typeface="Maiandra GD"/>
              </a:rPr>
              <a:t>判断每组单词划线部分的发音是否相同，相同的打勾，不同的打叉。</a:t>
            </a:r>
            <a:endParaRPr b="0" lang="en-US" sz="36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58" name="左大括号 31746"/>
          <p:cNvSpPr/>
          <p:nvPr/>
        </p:nvSpPr>
        <p:spPr>
          <a:xfrm>
            <a:off x="684360" y="1486080"/>
            <a:ext cx="215640" cy="863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22320 h 863280"/>
              <a:gd name="textAreaBottom" fmla="*/ 840960 h 86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solidFill>
            <a:srgbClr val="477ab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左大括号 31747"/>
          <p:cNvSpPr/>
          <p:nvPr/>
        </p:nvSpPr>
        <p:spPr>
          <a:xfrm>
            <a:off x="2411280" y="5229360"/>
            <a:ext cx="216000" cy="863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solidFill>
            <a:srgbClr val="477ab1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左大括号 31748"/>
          <p:cNvSpPr/>
          <p:nvPr/>
        </p:nvSpPr>
        <p:spPr>
          <a:xfrm>
            <a:off x="5003640" y="3355920"/>
            <a:ext cx="216000" cy="86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solidFill>
            <a:srgbClr val="477ab1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左大括号 31749"/>
          <p:cNvSpPr/>
          <p:nvPr/>
        </p:nvSpPr>
        <p:spPr>
          <a:xfrm>
            <a:off x="539640" y="3357720"/>
            <a:ext cx="216000" cy="863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3280"/>
              <a:gd name="textAreaBottom" fmla="*/ 840960 h 86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solidFill>
            <a:srgbClr val="477ab1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左大括号 31750"/>
          <p:cNvSpPr/>
          <p:nvPr/>
        </p:nvSpPr>
        <p:spPr>
          <a:xfrm>
            <a:off x="4932360" y="1484280"/>
            <a:ext cx="211320" cy="865080"/>
          </a:xfrm>
          <a:custGeom>
            <a:avLst/>
            <a:gdLst>
              <a:gd name="textAreaLeft" fmla="*/ 135000 w 211320"/>
              <a:gd name="textAreaRight" fmla="*/ 211680 w 21132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solidFill>
            <a:srgbClr val="477ab1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31751"/>
          <p:cNvSpPr/>
          <p:nvPr/>
        </p:nvSpPr>
        <p:spPr>
          <a:xfrm>
            <a:off x="971640" y="1197000"/>
            <a:ext cx="309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31752"/>
          <p:cNvSpPr/>
          <p:nvPr/>
        </p:nvSpPr>
        <p:spPr>
          <a:xfrm>
            <a:off x="5219640" y="1268280"/>
            <a:ext cx="309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r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la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31753"/>
          <p:cNvSpPr/>
          <p:nvPr/>
        </p:nvSpPr>
        <p:spPr>
          <a:xfrm>
            <a:off x="826920" y="2997360"/>
            <a:ext cx="309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ha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r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31754"/>
          <p:cNvSpPr/>
          <p:nvPr/>
        </p:nvSpPr>
        <p:spPr>
          <a:xfrm>
            <a:off x="5364000" y="3068640"/>
            <a:ext cx="309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Engl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31755"/>
          <p:cNvSpPr/>
          <p:nvPr/>
        </p:nvSpPr>
        <p:spPr>
          <a:xfrm>
            <a:off x="2627280" y="4869000"/>
            <a:ext cx="309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6560" y="117360"/>
            <a:ext cx="822960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Maiandra GD"/>
              </a:rPr>
              <a:t>阅读理解</a:t>
            </a:r>
            <a:endParaRPr b="0" lang="en-US" sz="20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9080" y="477720"/>
            <a:ext cx="89996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his is Kate's room.It's not small. we can se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any things in it.A big table is in the room.On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he table,we can see a clock and two books.Un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he table,we can see a black and white cat.W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an see a blue sofa next to the table.Kate'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lasses are on the sofa.Where are Kate's shoes(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?One is in the cat's mouth.Where is the oth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ne?I can't se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 (  ) The room is small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 (  ) A clock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s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n the tabl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 (  ) The books are on the sofa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 (  ) The cat is under the tabl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 (  ) There is a blue sofa in the roo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/>
          <p:cNvSpPr/>
          <p:nvPr/>
        </p:nvSpPr>
        <p:spPr>
          <a:xfrm>
            <a:off x="155520" y="-142920"/>
            <a:ext cx="304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155520" y="-142920"/>
            <a:ext cx="304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155520" y="-142920"/>
            <a:ext cx="304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C:\Users\Administrator\AppData\Roaming\Tencent\Users\353162747\QQ\WinTemp\RichOle\T(7RAE(@(N2H@4NHHLHGYI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pic>
        <p:nvPicPr>
          <p:cNvPr id="174" name="矩形 7" descr=""/>
          <p:cNvPicPr/>
          <p:nvPr/>
        </p:nvPicPr>
        <p:blipFill>
          <a:blip r:embed="rId2"/>
          <a:stretch/>
        </p:blipFill>
        <p:spPr>
          <a:xfrm>
            <a:off x="2182680" y="4108320"/>
            <a:ext cx="480384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172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7240" y="2642760"/>
            <a:ext cx="667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898989"/>
              </a:solidFill>
              <a:latin typeface="Cambria"/>
            </a:endParaRPr>
          </a:p>
        </p:txBody>
      </p:sp>
      <p:pic>
        <p:nvPicPr>
          <p:cNvPr id="137" name="Picture 11" descr="%7V93%81AF5~1XW$R@AS@A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" descr="C:\Users\Administrator\AppData\Roaming\Tencent\Users\353162747\QQ\WinTemp\RichOle\@`PGQC$3XIMOL~O10WA}73R.jpg"/>
          <p:cNvPicPr/>
          <p:nvPr/>
        </p:nvPicPr>
        <p:blipFill>
          <a:blip r:embed="rId2"/>
          <a:stretch/>
        </p:blipFill>
        <p:spPr>
          <a:xfrm>
            <a:off x="1692360" y="692280"/>
            <a:ext cx="934920" cy="936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C:\Users\Administrator\AppData\Roaming\Tencent\Users\353162747\QQ\WinTemp\RichOle\}MSHJ3_BM]K9P8YNG]7LF~H.jpg"/>
          <p:cNvPicPr/>
          <p:nvPr/>
        </p:nvPicPr>
        <p:blipFill>
          <a:blip r:embed="rId3"/>
          <a:stretch/>
        </p:blipFill>
        <p:spPr>
          <a:xfrm>
            <a:off x="324000" y="1533600"/>
            <a:ext cx="657000" cy="743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07640" y="1558800"/>
            <a:ext cx="8661240" cy="52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What’s on the wall?</a:t>
            </a:r>
            <a:endParaRPr b="0" lang="en-US" sz="4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 What’s on the desk?</a:t>
            </a:r>
            <a:endParaRPr b="0" lang="en-US" sz="4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 What’s in front of the desk?</a:t>
            </a:r>
            <a:endParaRPr b="0" lang="en-US" sz="4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 What’s beside the desk?</a:t>
            </a:r>
            <a:endParaRPr b="0" lang="en-US" sz="4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 What’s beside the bed?</a:t>
            </a:r>
            <a:endParaRPr b="0" lang="en-US" sz="4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2778480" y="404640"/>
            <a:ext cx="216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actise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：请根据图片回答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 Ms White wants students to draw their classroom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 There  is  a bed next to the window in Jiamin’s room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 There is a pisture on the wall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 There is a desk and a computer in Jiamin’s room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5 Janet’s computer  is pink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503280" y="189000"/>
            <a:ext cx="70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sten to the tape and decide whether the st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s “T” or “F”.(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听录音，判断对错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39240" y="126828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46080" y="228924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38160" y="335916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76320" y="393372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46080" y="50976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08000" y="907560"/>
            <a:ext cx="87120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隶书"/>
                <a:ea typeface="隶书"/>
              </a:rPr>
              <a:t>Discuss: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Malgun Gothic"/>
                <a:ea typeface="Malgun Gothic"/>
              </a:rPr>
              <a:t>Look at the pictures on P3, use “There be” to combine two phrases in a group of 2.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26625"/>
          <p:cNvSpPr txBox="1"/>
          <p:nvPr/>
        </p:nvSpPr>
        <p:spPr>
          <a:xfrm>
            <a:off x="541440" y="1844640"/>
            <a:ext cx="80629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宋体"/>
              </a:rPr>
              <a:t>Period 3</a:t>
            </a:r>
            <a:endParaRPr b="0" lang="en-US" sz="96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07932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Maiandra GD"/>
              </a:rPr>
              <a:t>there be </a:t>
            </a:r>
            <a:r>
              <a:rPr b="1" lang="zh-CN" sz="4000" spc="-1" strike="noStrike">
                <a:solidFill>
                  <a:srgbClr val="ff00ff"/>
                </a:solidFill>
                <a:latin typeface="Maiandra GD"/>
              </a:rPr>
              <a:t>复习</a:t>
            </a:r>
            <a:endParaRPr b="0" lang="en-US" sz="40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341360"/>
            <a:ext cx="858060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(  ) There ____ asmall bed in my bedroom.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 are   B is   C be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(  ) Are there ____ balls?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 some   B a    C any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）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here _____ a book on the table.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 is      B. are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）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 there an apple on your desk?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 are      B. is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）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here _____ a pencil, a book and two pens on the table.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 is        B. are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6360" y="333000"/>
            <a:ext cx="90014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</a:rPr>
              <a:t>（ ）</a:t>
            </a: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There ___ two apples, one orange and one banana on the tabl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A. is        B. ar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</a:rPr>
              <a:t>（ ）</a:t>
            </a: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Are there ____ pictures on the wall?No,there aren’t ___ 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A .any \  any  B some \ any         C. some \ som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</a:rPr>
              <a:t>（ ）</a:t>
            </a: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Are there ___ houses near the river?Yes, there are___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A. some, some   B. any, some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C. any, any     D. some, any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</a:rPr>
              <a:t>（ ）</a:t>
            </a: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There is ___ book in his hand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A. no        B not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07:57:02Z</dcterms:created>
  <dc:creator/>
  <dc:description>http://cai.7cxk.net 中小学课件网</dc:description>
  <cp:keywords>http:/cai.7cxk.net 中小学课件网</cp:keywords>
  <dc:language>en-US</dc:language>
  <cp:lastModifiedBy>Administrator</cp:lastModifiedBy>
  <dcterms:modified xsi:type="dcterms:W3CDTF">2017-10-07T03:13:44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