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A58-EAA4-45DD-B11C-C7D732DD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567-2EB1-48D8-BD00-6AAC5D7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8D3-31D7-4667-A33B-A06277F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273-B214-4946-B0C6-AC08616B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AEB-53F6-4855-9787-B6786666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71CC-9ACF-4505-9151-51F76CB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BF83-32FD-4872-91D4-C991E2ED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1C2-F702-4C6E-8C0A-40DD9EF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E38-ADE7-4803-A323-45F5557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45B-4641-4154-987A-E5E1C38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C99-071A-42BA-8E46-4183328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271-EE9F-4F9C-ABA0-9EEA0A2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4D0-5DA6-4201-B9B8-886BEA7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A5D-0C24-4B3F-B38D-A78747B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77E8-2384-4382-975C-8911A29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4B5-CB11-4F56-9B48-7E796FA7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D30E-6871-4DA5-B1E1-FA1BB375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B25-C0C2-40F3-BD9A-5FFDDC3B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9F8-6D7B-41EF-8A36-3E32EE9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584-F6D3-499E-8A64-36D98ED1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77-0734-418C-9CDC-6A2B842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016-B40A-4FC9-921C-F32880C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539-C19A-42FF-9B55-C115357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494-2F84-438D-919F-0441FA7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969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19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196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19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196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1969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70D-CD90-4090-91D5-4FB2E5E57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969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19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196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19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196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1969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969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BA6-AF9E-424F-865E-2BBE437A4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8720" y="692280"/>
            <a:ext cx="57942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66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92000" y="2603520"/>
            <a:ext cx="7489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ey're near the window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4 There are some _____ in the bedroom.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A dogs     B TVs      C balls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5 The balls are ______.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A on the table      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B near the window      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41969d"/>
                </a:solidFill>
                <a:latin typeface="Arial"/>
              </a:rPr>
              <a:t>C under the desk</a:t>
            </a:r>
            <a:endParaRPr b="0" lang="en-US" sz="48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02" name="文本框 13314"/>
          <p:cNvSpPr/>
          <p:nvPr/>
        </p:nvSpPr>
        <p:spPr>
          <a:xfrm>
            <a:off x="6080760" y="47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3315"/>
          <p:cNvSpPr/>
          <p:nvPr/>
        </p:nvSpPr>
        <p:spPr>
          <a:xfrm>
            <a:off x="5458320" y="285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ce10"/>
                </a:solidFill>
                <a:latin typeface="Arial"/>
              </a:rPr>
              <a:t>Underline these sentences(</a:t>
            </a:r>
            <a:r>
              <a:rPr b="0" lang="zh-CN" sz="2800" spc="-1" strike="noStrike">
                <a:solidFill>
                  <a:srgbClr val="26ce10"/>
                </a:solidFill>
                <a:latin typeface="Arial"/>
              </a:rPr>
              <a:t>给这些句子划线</a:t>
            </a:r>
            <a:r>
              <a:rPr b="0" lang="zh-CN" sz="2800" spc="-1" strike="noStrike">
                <a:solidFill>
                  <a:srgbClr val="26ce1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1 Look at my bedroom for one minute.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2 Are there any balls?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Yes. They are under the desk.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3 Is there a computer in my room?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Yes, there is. On the desk.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5361"/>
          <p:cNvSpPr/>
          <p:nvPr/>
        </p:nvSpPr>
        <p:spPr>
          <a:xfrm>
            <a:off x="4416480" y="24940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5362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5363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364"/>
          <p:cNvSpPr txBox="1"/>
          <p:nvPr/>
        </p:nvSpPr>
        <p:spPr>
          <a:xfrm>
            <a:off x="1438200" y="260280"/>
            <a:ext cx="3387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动动脑筋吧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矩形 15365"/>
          <p:cNvSpPr txBox="1"/>
          <p:nvPr/>
        </p:nvSpPr>
        <p:spPr>
          <a:xfrm>
            <a:off x="-392040" y="-816120"/>
            <a:ext cx="352260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文本框 15366"/>
          <p:cNvSpPr/>
          <p:nvPr/>
        </p:nvSpPr>
        <p:spPr>
          <a:xfrm>
            <a:off x="34920" y="1052640"/>
            <a:ext cx="13252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 _____ there a ball under the table?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  Be       B Is        C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 Is there _____ on the wall?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 some maps    B two maps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 o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 Is there a window in your room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es, _____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 they       B there        C 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5367"/>
          <p:cNvSpPr/>
          <p:nvPr/>
        </p:nvSpPr>
        <p:spPr>
          <a:xfrm>
            <a:off x="868320" y="9079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5368"/>
          <p:cNvSpPr/>
          <p:nvPr/>
        </p:nvSpPr>
        <p:spPr>
          <a:xfrm>
            <a:off x="2340720" y="4962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369"/>
          <p:cNvSpPr/>
          <p:nvPr/>
        </p:nvSpPr>
        <p:spPr>
          <a:xfrm>
            <a:off x="3132000" y="2276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6385"/>
          <p:cNvSpPr/>
          <p:nvPr/>
        </p:nvSpPr>
        <p:spPr>
          <a:xfrm>
            <a:off x="0" y="404640"/>
            <a:ext cx="910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 _____ there ______ flowers on the window?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 Are, some       B Is, any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 Are, 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  Are there any clocks in the pictu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o, there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 aren't          B isn't         C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6386"/>
          <p:cNvSpPr/>
          <p:nvPr/>
        </p:nvSpPr>
        <p:spPr>
          <a:xfrm>
            <a:off x="868320" y="260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6387"/>
          <p:cNvSpPr/>
          <p:nvPr/>
        </p:nvSpPr>
        <p:spPr>
          <a:xfrm>
            <a:off x="3205080" y="38829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C:\Users\Administrator\AppData\Roaming\Tencent\Users\353162747\QQ\WinTemp\RichOle\T(7RAE(@(N2H@4NHHLHGYIH.jpg"/>
          <p:cNvPicPr/>
          <p:nvPr/>
        </p:nvPicPr>
        <p:blipFill>
          <a:blip r:embed="rId1"/>
          <a:stretch/>
        </p:blipFill>
        <p:spPr>
          <a:xfrm>
            <a:off x="34920" y="-23760"/>
            <a:ext cx="9109080" cy="32796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7410"/>
          <p:cNvSpPr/>
          <p:nvPr/>
        </p:nvSpPr>
        <p:spPr>
          <a:xfrm>
            <a:off x="860400" y="4957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411"/>
          <p:cNvSpPr txBox="1"/>
          <p:nvPr/>
        </p:nvSpPr>
        <p:spPr>
          <a:xfrm>
            <a:off x="1171440" y="3860640"/>
            <a:ext cx="7216920" cy="22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楷体_GB2312"/>
              </a:rPr>
              <a:t>Goodbye!</a:t>
            </a:r>
            <a:endParaRPr b="0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2360" y="188640"/>
            <a:ext cx="4608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1969d"/>
                </a:solidFill>
                <a:latin typeface="Arial"/>
              </a:rPr>
              <a:t>right</a:t>
            </a:r>
            <a:endParaRPr b="0" lang="en-US" sz="9600" spc="-1" strike="noStrike">
              <a:solidFill>
                <a:srgbClr val="41969d"/>
              </a:solidFill>
              <a:latin typeface="Arial"/>
            </a:endParaRPr>
          </a:p>
        </p:txBody>
      </p:sp>
      <p:pic>
        <p:nvPicPr>
          <p:cNvPr id="85" name="内容占位符 5122" descr="u=1118627752,3135965463&amp;fm=23&amp;gp=0"/>
          <p:cNvPicPr/>
          <p:nvPr/>
        </p:nvPicPr>
        <p:blipFill>
          <a:blip r:embed="rId1"/>
          <a:stretch/>
        </p:blipFill>
        <p:spPr>
          <a:xfrm>
            <a:off x="1620720" y="1920960"/>
            <a:ext cx="5759640" cy="4533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1440"/>
            <a:ext cx="4986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1969d"/>
                </a:solidFill>
                <a:latin typeface="Arial"/>
              </a:rPr>
              <a:t>wrong</a:t>
            </a:r>
            <a:endParaRPr b="0" lang="en-US" sz="9600" spc="-1" strike="noStrike">
              <a:solidFill>
                <a:srgbClr val="41969d"/>
              </a:solidFill>
              <a:latin typeface="Arial"/>
            </a:endParaRPr>
          </a:p>
        </p:txBody>
      </p:sp>
      <p:pic>
        <p:nvPicPr>
          <p:cNvPr id="87" name="内容占位符 6146" descr="95eef01f29d1a171e1fe0b18"/>
          <p:cNvPicPr/>
          <p:nvPr/>
        </p:nvPicPr>
        <p:blipFill>
          <a:blip r:embed="rId1"/>
          <a:stretch/>
        </p:blipFill>
        <p:spPr>
          <a:xfrm>
            <a:off x="1601640" y="1844640"/>
            <a:ext cx="594072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1969d"/>
                </a:solidFill>
                <a:latin typeface="Arial"/>
              </a:rPr>
              <a:t>open</a:t>
            </a:r>
            <a:endParaRPr b="0" lang="en-US" sz="9600" spc="-1" strike="noStrike">
              <a:solidFill>
                <a:srgbClr val="41969d"/>
              </a:solidFill>
              <a:latin typeface="Arial"/>
            </a:endParaRPr>
          </a:p>
        </p:txBody>
      </p:sp>
      <p:pic>
        <p:nvPicPr>
          <p:cNvPr id="89" name="内容占位符 7170" descr="u=128930063,2756421860&amp;fm=23&amp;gp=0"/>
          <p:cNvPicPr/>
          <p:nvPr/>
        </p:nvPicPr>
        <p:blipFill>
          <a:blip r:embed="rId1"/>
          <a:srcRect l="0" t="9340" r="0" b="0"/>
          <a:stretch/>
        </p:blipFill>
        <p:spPr>
          <a:xfrm>
            <a:off x="1692360" y="2568600"/>
            <a:ext cx="5843520" cy="352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1969d"/>
                </a:solidFill>
                <a:latin typeface="Arial"/>
              </a:rPr>
              <a:t>close</a:t>
            </a:r>
            <a:endParaRPr b="0" lang="en-US" sz="9600" spc="-1" strike="noStrike">
              <a:solidFill>
                <a:srgbClr val="41969d"/>
              </a:solidFill>
              <a:latin typeface="Arial"/>
            </a:endParaRPr>
          </a:p>
        </p:txBody>
      </p:sp>
      <p:pic>
        <p:nvPicPr>
          <p:cNvPr id="91" name="内容占位符 8194" descr="u=3662605230,1745268764&amp;fm=90&amp;gp=0"/>
          <p:cNvPicPr/>
          <p:nvPr/>
        </p:nvPicPr>
        <p:blipFill>
          <a:blip r:embed="rId1"/>
          <a:srcRect l="0" t="0" r="0" b="39633"/>
          <a:stretch/>
        </p:blipFill>
        <p:spPr>
          <a:xfrm>
            <a:off x="1908000" y="2565360"/>
            <a:ext cx="5185080" cy="2173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rcRect l="0" t="0" r="0" b="2517"/>
          <a:stretch/>
        </p:blipFill>
        <p:spPr>
          <a:xfrm>
            <a:off x="-31680" y="14400"/>
            <a:ext cx="9150120" cy="6905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7640" y="907560"/>
            <a:ext cx="8929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Is there a +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名词单数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+ 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介词短语？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肯定回答：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Yes, there is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否定回答：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No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，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there isn't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Are there any +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名词复数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+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介词短语？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肯定回答：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Yes, there are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否定回答：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No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，</a:t>
            </a:r>
            <a:r>
              <a:rPr b="0" lang="zh-CN" sz="4000" spc="-1" strike="noStrike">
                <a:solidFill>
                  <a:srgbClr val="41969d"/>
                </a:solidFill>
                <a:latin typeface="Arial"/>
              </a:rPr>
              <a:t>there aren't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地点介词</a:t>
            </a: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限定词</a:t>
            </a: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名词</a:t>
            </a: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" y="982800"/>
            <a:ext cx="9074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in my room       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under the sofa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under the desk    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next to the map  </a:t>
            </a: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on the floor      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    behind the desk</a:t>
            </a: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on the wall           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beside the table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969d"/>
                </a:solidFill>
                <a:latin typeface="Arial"/>
              </a:rPr>
              <a:t>behind the door     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on the window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in front of the clock</a:t>
            </a:r>
            <a:endParaRPr b="0" lang="en-US" sz="4400" spc="-1" strike="noStrike">
              <a:solidFill>
                <a:srgbClr val="41969d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1969d"/>
                </a:solidFill>
                <a:latin typeface="Arial"/>
              </a:rPr>
              <a:t>选择填空。</a:t>
            </a:r>
            <a:endParaRPr b="0" lang="en-US" sz="32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0720" y="821880"/>
            <a:ext cx="896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1 This is _____ bedroom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A Xiaoling's    B Mike's   C Ben's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2 Xiaoling _____ for one minute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A open her eyes   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B looks at the bedroom   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C closes the eyes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3 There is _____ on the desk.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41969d"/>
                </a:solidFill>
                <a:latin typeface="Arial"/>
              </a:rPr>
              <a:t>A computer    B TV    C flower</a:t>
            </a:r>
            <a:endParaRPr b="0" lang="en-US" sz="4000" spc="-1" strike="noStrike">
              <a:solidFill>
                <a:srgbClr val="41969d"/>
              </a:solidFill>
              <a:latin typeface="Arial"/>
            </a:endParaRPr>
          </a:p>
        </p:txBody>
      </p:sp>
      <p:sp>
        <p:nvSpPr>
          <p:cNvPr id="98" name="文本框 12291"/>
          <p:cNvSpPr/>
          <p:nvPr/>
        </p:nvSpPr>
        <p:spPr>
          <a:xfrm>
            <a:off x="2773080" y="8222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292"/>
          <p:cNvSpPr/>
          <p:nvPr/>
        </p:nvSpPr>
        <p:spPr>
          <a:xfrm>
            <a:off x="3192840" y="2133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293"/>
          <p:cNvSpPr/>
          <p:nvPr/>
        </p:nvSpPr>
        <p:spPr>
          <a:xfrm>
            <a:off x="3192840" y="5157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http:/cai.7cxk.net 中小学课件网</cp:keywords>
  <dc:language>en-US</dc:language>
  <cp:lastModifiedBy>Administrator</cp:lastModifiedBy>
  <dcterms:modified xsi:type="dcterms:W3CDTF">2017-10-07T03:25:3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