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gif" ContentType="image/gif"/>
  <Override PartName="/ppt/media/image7.gif" ContentType="image/gif"/>
  <Override PartName="/ppt/media/image5.jpeg" ContentType="image/jpeg"/>
  <Override PartName="/ppt/media/image6.jpeg" ContentType="image/jpeg"/>
  <Override PartName="/ppt/media/image10.png" ContentType="image/png"/>
  <Override PartName="/ppt/media/image1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gif" ContentType="image/gif"/>
  <Override PartName="/ppt/media/image16.jpeg" ContentType="image/jpeg"/>
  <Override PartName="/ppt/media/image14.jpeg" ContentType="image/jpeg"/>
  <Override PartName="/ppt/media/image2.gif" ContentType="image/gif"/>
  <Override PartName="/ppt/media/image12.jpeg" ContentType="image/jpeg"/>
  <Override PartName="/ppt/media/image3.jpeg" ContentType="image/jpeg"/>
  <Override PartName="/ppt/media/image4.png" ContentType="image/png"/>
  <Override PartName="/ppt/media/image18.gif" ContentType="image/gif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DD14-210A-497B-B106-71D66BCD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45E-0C56-4366-8665-9E7DFF16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1DA5-7EC7-4701-9B8C-29EEFB76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18B-91EC-49FF-BA26-2128601F5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3AE-5ADE-4B82-8A40-163E3692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AB5-22B2-412A-A98F-FC461649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6E1-43BE-454E-9EDF-4C74A72F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505-CC42-40CE-8B6D-539E2DC87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9DC-12D2-4C2B-9F16-11C46AFB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E9DA-14C1-4E89-80A5-DDAF186C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2037-BEDC-4042-A61D-977A7761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0C14-A80A-4E67-B58C-6CA1FC51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727F-BAB3-4DD9-ADAA-307274A5BB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1"/>
          <p:cNvPicPr/>
          <p:nvPr/>
        </p:nvPicPr>
        <p:blipFill>
          <a:blip r:embed="rId1"/>
          <a:srcRect l="42473" t="0" r="0" b="0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3573360"/>
            <a:ext cx="5715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隶书"/>
                <a:ea typeface="隶书"/>
              </a:rPr>
              <a:t>Rea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3075" descr="GIF3-0039"/>
          <p:cNvPicPr/>
          <p:nvPr/>
        </p:nvPicPr>
        <p:blipFill>
          <a:blip r:embed="rId2"/>
          <a:stretch/>
        </p:blipFill>
        <p:spPr>
          <a:xfrm>
            <a:off x="6948360" y="3645000"/>
            <a:ext cx="1428840" cy="2762280"/>
          </a:xfrm>
          <a:prstGeom prst="rect">
            <a:avLst/>
          </a:prstGeom>
          <a:ln w="0">
            <a:noFill/>
          </a:ln>
        </p:spPr>
      </p:pic>
      <p:sp>
        <p:nvSpPr>
          <p:cNvPr id="44" name="矩形 3076"/>
          <p:cNvSpPr/>
          <p:nvPr/>
        </p:nvSpPr>
        <p:spPr>
          <a:xfrm>
            <a:off x="755640" y="1341360"/>
            <a:ext cx="57150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ff00"/>
                </a:solidFill>
                <a:uFillTx/>
                <a:latin typeface="隶书"/>
                <a:ea typeface="隶书"/>
              </a:rPr>
              <a:t>So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5125292_115606310159_2"/>
          <p:cNvPicPr/>
          <p:nvPr/>
        </p:nvPicPr>
        <p:blipFill>
          <a:blip r:embed="rId1"/>
          <a:srcRect l="42404" t="0" r="4674" b="0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3"/>
          <p:cNvSpPr/>
          <p:nvPr/>
        </p:nvSpPr>
        <p:spPr>
          <a:xfrm>
            <a:off x="250920" y="189000"/>
            <a:ext cx="4465440" cy="2519280"/>
          </a:xfrm>
          <a:prstGeom prst="cloudCallout">
            <a:avLst>
              <a:gd name="adj1" fmla="val 81138"/>
              <a:gd name="adj2" fmla="val 8509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WordArt 4" descr=""/>
          <p:cNvPicPr/>
          <p:nvPr/>
        </p:nvPicPr>
        <p:blipFill>
          <a:blip r:embed="rId2"/>
          <a:stretch/>
        </p:blipFill>
        <p:spPr>
          <a:xfrm>
            <a:off x="831960" y="534960"/>
            <a:ext cx="30528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3"/>
          <p:cNvSpPr txBox="1"/>
          <p:nvPr/>
        </p:nvSpPr>
        <p:spPr>
          <a:xfrm rot="20633400">
            <a:off x="250920" y="476280"/>
            <a:ext cx="208908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Comic Sans MS"/>
              </a:rPr>
              <a:t>Brain storming 1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6" name="Picture 4" descr="Gif0405_048"/>
          <p:cNvPicPr/>
          <p:nvPr/>
        </p:nvPicPr>
        <p:blipFill>
          <a:blip r:embed="rId2"/>
          <a:stretch/>
        </p:blipFill>
        <p:spPr>
          <a:xfrm>
            <a:off x="3203640" y="4410000"/>
            <a:ext cx="2808360" cy="244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684360" y="765000"/>
            <a:ext cx="46083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What is 5 and 1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What is 3 and 1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What is 6 and 39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What is 13 and 1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What is 37 and 1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6"/>
          <p:cNvSpPr txBox="1"/>
          <p:nvPr/>
        </p:nvSpPr>
        <p:spPr>
          <a:xfrm>
            <a:off x="6051600" y="692280"/>
            <a:ext cx="14000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</a:rPr>
              <a:t>fifteen 15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6051600" y="1413000"/>
            <a:ext cx="19764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</a:rPr>
              <a:t>twenty-one 21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6051600" y="2205000"/>
            <a:ext cx="19764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</a:rPr>
              <a:t>forty-five 45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91" name="WordArt 9"/>
          <p:cNvSpPr txBox="1"/>
          <p:nvPr/>
        </p:nvSpPr>
        <p:spPr>
          <a:xfrm>
            <a:off x="6012000" y="2997360"/>
            <a:ext cx="2016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</a:rPr>
              <a:t>twenty-nine 29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6012000" y="371628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Comic Sans MS"/>
              </a:rPr>
              <a:t>fifty 50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3"/>
          <p:cNvSpPr txBox="1"/>
          <p:nvPr/>
        </p:nvSpPr>
        <p:spPr>
          <a:xfrm rot="20633400">
            <a:off x="250920" y="476280"/>
            <a:ext cx="208908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Comic Sans MS"/>
              </a:rPr>
              <a:t>Brain storming 2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95" name="Picture 4" descr="Gif0405_048"/>
          <p:cNvPicPr/>
          <p:nvPr/>
        </p:nvPicPr>
        <p:blipFill>
          <a:blip r:embed="rId2"/>
          <a:stretch/>
        </p:blipFill>
        <p:spPr>
          <a:xfrm>
            <a:off x="3203640" y="4410000"/>
            <a:ext cx="2808360" cy="244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826920" y="83664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ook  P35  Ex3 Ask and 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71640" y="2565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: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’s ___ and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900000" y="35002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: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___ and____ is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3_47d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1187280" y="2205000"/>
            <a:ext cx="6840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6+21=        2. 28+11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3. 31+12=       4. 10+6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5. 17+55=       6. 43+38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7. 40+13=       8. 70+20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5363"/>
          <p:cNvSpPr/>
          <p:nvPr/>
        </p:nvSpPr>
        <p:spPr>
          <a:xfrm>
            <a:off x="2914560" y="336600"/>
            <a:ext cx="793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 rot="20633400">
            <a:off x="250920" y="476280"/>
            <a:ext cx="208908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bevel/>
                </a:ln>
                <a:solidFill>
                  <a:srgbClr val="ff0000"/>
                </a:solidFill>
                <a:latin typeface="Comic Sans MS"/>
              </a:rPr>
              <a:t>Brain storming 3</a:t>
            </a:r>
            <a:endParaRPr b="1" lang="en-US" sz="1800" spc="1" strike="noStrike">
              <a:ln w="9360">
                <a:solidFill>
                  <a:srgbClr val="000000"/>
                </a:solidFill>
                <a:bevel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03" name="文本框 15365"/>
          <p:cNvSpPr/>
          <p:nvPr/>
        </p:nvSpPr>
        <p:spPr>
          <a:xfrm>
            <a:off x="704880" y="100800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竞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5366"/>
          <p:cNvSpPr/>
          <p:nvPr/>
        </p:nvSpPr>
        <p:spPr>
          <a:xfrm>
            <a:off x="3203640" y="21337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5367"/>
          <p:cNvSpPr/>
          <p:nvPr/>
        </p:nvSpPr>
        <p:spPr>
          <a:xfrm>
            <a:off x="6732720" y="2205000"/>
            <a:ext cx="108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5368"/>
          <p:cNvSpPr/>
          <p:nvPr/>
        </p:nvSpPr>
        <p:spPr>
          <a:xfrm>
            <a:off x="3348000" y="29257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5369"/>
          <p:cNvSpPr/>
          <p:nvPr/>
        </p:nvSpPr>
        <p:spPr>
          <a:xfrm>
            <a:off x="3348000" y="357336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5370"/>
          <p:cNvSpPr/>
          <p:nvPr/>
        </p:nvSpPr>
        <p:spPr>
          <a:xfrm>
            <a:off x="6588000" y="36450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5371"/>
          <p:cNvSpPr/>
          <p:nvPr/>
        </p:nvSpPr>
        <p:spPr>
          <a:xfrm>
            <a:off x="3348000" y="436572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5372"/>
          <p:cNvSpPr/>
          <p:nvPr/>
        </p:nvSpPr>
        <p:spPr>
          <a:xfrm>
            <a:off x="6661080" y="443880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5373"/>
          <p:cNvSpPr/>
          <p:nvPr/>
        </p:nvSpPr>
        <p:spPr>
          <a:xfrm>
            <a:off x="6661080" y="29257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5125292_115606310159_2"/>
          <p:cNvPicPr/>
          <p:nvPr/>
        </p:nvPicPr>
        <p:blipFill>
          <a:blip r:embed="rId1"/>
          <a:srcRect l="42404" t="0" r="4674" b="0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3"/>
          <p:cNvSpPr/>
          <p:nvPr/>
        </p:nvSpPr>
        <p:spPr>
          <a:xfrm>
            <a:off x="214200" y="285840"/>
            <a:ext cx="7893000" cy="2454120"/>
          </a:xfrm>
          <a:prstGeom prst="cloudCallout">
            <a:avLst>
              <a:gd name="adj1" fmla="val 40351"/>
              <a:gd name="adj2" fmla="val 8509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3"/>
          <p:cNvSpPr txBox="1"/>
          <p:nvPr/>
        </p:nvSpPr>
        <p:spPr>
          <a:xfrm rot="21388800">
            <a:off x="1187280" y="765000"/>
            <a:ext cx="648360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Comic Sans MS"/>
              </a:rPr>
              <a:t>Do you like my show? Welcome to my school.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5" name="WordArt 3"/>
          <p:cNvSpPr txBox="1"/>
          <p:nvPr/>
        </p:nvSpPr>
        <p:spPr>
          <a:xfrm rot="21372000">
            <a:off x="1331640" y="1413000"/>
            <a:ext cx="6483240" cy="63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Comic Sans MS"/>
              </a:rPr>
              <a:t>My school is so big.let's see what's in my school?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16" name="图片 16389" descr="图片1"/>
          <p:cNvPicPr/>
          <p:nvPr/>
        </p:nvPicPr>
        <p:blipFill>
          <a:blip r:embed="rId2"/>
          <a:stretch/>
        </p:blipFill>
        <p:spPr>
          <a:xfrm>
            <a:off x="0" y="2924280"/>
            <a:ext cx="446400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318960" y="2997360"/>
            <a:ext cx="89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classroo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re in your schoo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1187280" y="357336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16000" y="4221000"/>
            <a:ext cx="352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6734160" y="693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005080" y="549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115280" y="5086440"/>
            <a:ext cx="57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cho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ig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beauti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7415" descr="图片1"/>
          <p:cNvPicPr/>
          <p:nvPr/>
        </p:nvPicPr>
        <p:blipFill>
          <a:blip r:embed="rId1"/>
          <a:stretch/>
        </p:blipFill>
        <p:spPr>
          <a:xfrm>
            <a:off x="0" y="0"/>
            <a:ext cx="3995640" cy="2997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5653080" y="184464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17417"/>
          <p:cNvSpPr/>
          <p:nvPr/>
        </p:nvSpPr>
        <p:spPr>
          <a:xfrm>
            <a:off x="4861080" y="333360"/>
            <a:ext cx="1079280" cy="107964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write"/>
          <p:cNvPicPr/>
          <p:nvPr/>
        </p:nvPicPr>
        <p:blipFill>
          <a:blip r:embed="rId2"/>
          <a:srcRect l="35834" t="50002" r="35834" b="23749"/>
          <a:stretch/>
        </p:blipFill>
        <p:spPr>
          <a:xfrm>
            <a:off x="2556000" y="44280"/>
            <a:ext cx="13460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write"/>
          <p:cNvPicPr/>
          <p:nvPr/>
        </p:nvPicPr>
        <p:blipFill>
          <a:blip r:embed="rId1"/>
          <a:srcRect l="3543" t="13242" r="66547" b="60514"/>
          <a:stretch/>
        </p:blipFill>
        <p:spPr>
          <a:xfrm>
            <a:off x="611280" y="0"/>
            <a:ext cx="4321080" cy="28432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968760" y="2997360"/>
            <a:ext cx="76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ook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re in the librar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187280" y="357336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186920" y="4149720"/>
            <a:ext cx="33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rar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949800" y="909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014880" y="1844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403280" y="4870440"/>
            <a:ext cx="367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rary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m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5077440" y="838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18441"/>
          <p:cNvSpPr/>
          <p:nvPr/>
        </p:nvSpPr>
        <p:spPr>
          <a:xfrm>
            <a:off x="5724360" y="1628640"/>
            <a:ext cx="1079640" cy="1081080"/>
          </a:xfrm>
          <a:prstGeom prst="ellipse">
            <a:avLst/>
          </a:prstGeom>
          <a:noFill/>
          <a:ln w="5724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02200" y="5518080"/>
            <a:ext cx="58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ut we like to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read book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3"/>
          <p:cNvSpPr/>
          <p:nvPr/>
        </p:nvSpPr>
        <p:spPr>
          <a:xfrm>
            <a:off x="970560" y="2492280"/>
            <a:ext cx="647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children are there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mming poo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187280" y="378936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187640" y="4508640"/>
            <a:ext cx="57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wimming poo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6877800" y="765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5221080" y="693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258920" y="5229360"/>
            <a:ext cx="77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wimming pool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e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beauti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write"/>
          <p:cNvPicPr/>
          <p:nvPr/>
        </p:nvPicPr>
        <p:blipFill>
          <a:blip r:embed="rId1"/>
          <a:srcRect l="66547" t="15349" r="0" b="59446"/>
          <a:stretch/>
        </p:blipFill>
        <p:spPr>
          <a:xfrm>
            <a:off x="684360" y="0"/>
            <a:ext cx="4248000" cy="24004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6157080" y="1628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19465"/>
          <p:cNvSpPr/>
          <p:nvPr/>
        </p:nvSpPr>
        <p:spPr>
          <a:xfrm>
            <a:off x="6588000" y="620640"/>
            <a:ext cx="1081080" cy="1081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636480" y="2852640"/>
            <a:ext cx="85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o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re on the playgrou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187280" y="357336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329840" y="5157720"/>
            <a:ext cx="63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sometimes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play gam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7165800" y="112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365440" y="112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260000" y="4365720"/>
            <a:ext cx="43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yground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e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write"/>
          <p:cNvPicPr/>
          <p:nvPr/>
        </p:nvPicPr>
        <p:blipFill>
          <a:blip r:embed="rId1"/>
          <a:srcRect l="36617" t="13242" r="36617" b="60509"/>
          <a:stretch/>
        </p:blipFill>
        <p:spPr>
          <a:xfrm>
            <a:off x="755640" y="115920"/>
            <a:ext cx="3745080" cy="2754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6373800" y="1989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椭圆 20489"/>
          <p:cNvSpPr/>
          <p:nvPr/>
        </p:nvSpPr>
        <p:spPr>
          <a:xfrm>
            <a:off x="6948360" y="909720"/>
            <a:ext cx="1081080" cy="107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462960" y="2852640"/>
            <a:ext cx="853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desks are there in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ro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971640" y="357336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114200" y="5229360"/>
            <a:ext cx="442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ave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lesson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093800" y="909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4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5293440" y="838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970920" y="4365720"/>
            <a:ext cx="41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assroom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write"/>
          <p:cNvPicPr/>
          <p:nvPr/>
        </p:nvPicPr>
        <p:blipFill>
          <a:blip r:embed="rId1"/>
          <a:srcRect l="35834" t="50002" r="35834" b="23749"/>
          <a:stretch/>
        </p:blipFill>
        <p:spPr>
          <a:xfrm>
            <a:off x="1403280" y="549360"/>
            <a:ext cx="2590920" cy="1800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6085440" y="1773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21513"/>
          <p:cNvSpPr/>
          <p:nvPr/>
        </p:nvSpPr>
        <p:spPr>
          <a:xfrm>
            <a:off x="5869080" y="1557360"/>
            <a:ext cx="1079280" cy="1081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6608733_075848666000_2"/>
          <p:cNvPicPr/>
          <p:nvPr/>
        </p:nvPicPr>
        <p:blipFill>
          <a:blip r:embed="rId1"/>
          <a:srcRect l="0" t="0" r="0" b="2777"/>
          <a:stretch/>
        </p:blipFill>
        <p:spPr>
          <a:xfrm>
            <a:off x="-31680" y="-22320"/>
            <a:ext cx="9139320" cy="685332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4098"/>
          <p:cNvSpPr/>
          <p:nvPr/>
        </p:nvSpPr>
        <p:spPr>
          <a:xfrm>
            <a:off x="179280" y="54936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zh-CN" sz="7200" spc="-1" strike="noStrike">
                <a:solidFill>
                  <a:srgbClr val="000000"/>
                </a:solidFill>
                <a:latin typeface="Comic Sans MS"/>
              </a:rPr>
              <a:t>Unit6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How many classrooms are there in your sch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Comic Sans MS"/>
              </a:rPr>
              <a:t>___ Fun with langu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1329480" y="2852640"/>
            <a:ext cx="695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computers are there 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ro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258920" y="400536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258920" y="472428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ometime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221080" y="9810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6949080" y="1054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259280" y="5589720"/>
            <a:ext cx="35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lean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write"/>
          <p:cNvPicPr/>
          <p:nvPr/>
        </p:nvPicPr>
        <p:blipFill>
          <a:blip r:embed="rId1"/>
          <a:srcRect l="2743" t="48958" r="66547" b="22710"/>
          <a:stretch/>
        </p:blipFill>
        <p:spPr>
          <a:xfrm>
            <a:off x="324000" y="-98280"/>
            <a:ext cx="4176720" cy="28875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6157080" y="1917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22537"/>
          <p:cNvSpPr/>
          <p:nvPr/>
        </p:nvSpPr>
        <p:spPr>
          <a:xfrm>
            <a:off x="6732720" y="909720"/>
            <a:ext cx="1081080" cy="107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969480" y="2349360"/>
            <a:ext cx="672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teachers are there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’ ro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187280" y="357336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329120" y="4508640"/>
            <a:ext cx="41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work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878520" y="549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4789440" y="549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256400" y="5229360"/>
            <a:ext cx="44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write"/>
          <p:cNvPicPr/>
          <p:nvPr/>
        </p:nvPicPr>
        <p:blipFill>
          <a:blip r:embed="rId1"/>
          <a:srcRect l="67330" t="50002" r="2743" b="23749"/>
          <a:stretch/>
        </p:blipFill>
        <p:spPr>
          <a:xfrm>
            <a:off x="539640" y="0"/>
            <a:ext cx="3527640" cy="2320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5869800" y="14860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椭圆 23561"/>
          <p:cNvSpPr/>
          <p:nvPr/>
        </p:nvSpPr>
        <p:spPr>
          <a:xfrm>
            <a:off x="5724360" y="1197000"/>
            <a:ext cx="1079640" cy="1081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writ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549080" y="285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468360" y="260280"/>
            <a:ext cx="2257200" cy="1285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Comic Sans MS"/>
              </a:rPr>
              <a:t>Listen and write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4429080" y="2781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381800" y="2852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549080" y="53737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4429080" y="5300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310160" y="5300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5125292_115606310159_2"/>
          <p:cNvPicPr/>
          <p:nvPr/>
        </p:nvPicPr>
        <p:blipFill>
          <a:blip r:embed="rId1"/>
          <a:srcRect l="42404" t="0" r="4674" b="0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3"/>
          <p:cNvSpPr/>
          <p:nvPr/>
        </p:nvSpPr>
        <p:spPr>
          <a:xfrm>
            <a:off x="250920" y="189000"/>
            <a:ext cx="6481800" cy="2519280"/>
          </a:xfrm>
          <a:prstGeom prst="cloudCallout">
            <a:avLst>
              <a:gd name="adj1" fmla="val 40351"/>
              <a:gd name="adj2" fmla="val 8509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4"/>
          <p:cNvSpPr txBox="1"/>
          <p:nvPr/>
        </p:nvSpPr>
        <p:spPr>
          <a:xfrm>
            <a:off x="395280" y="907920"/>
            <a:ext cx="7561440" cy="2665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Comic Sans MS"/>
              </a:rPr>
              <a:t>I want to visit(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Comic Sans MS"/>
              </a:rPr>
              <a:t>参观）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Comic Sans MS"/>
              </a:rPr>
              <a:t>your school.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lcome to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______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re are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____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buildings in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building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re are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____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eachers’ room and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____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classroo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classroom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re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__________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building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re is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_________________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y are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______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tween the two buildings, there is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_____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t  is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_____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ut  I like to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_________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6626"/>
          <p:cNvSpPr/>
          <p:nvPr/>
        </p:nvSpPr>
        <p:spPr>
          <a:xfrm>
            <a:off x="396720" y="260280"/>
            <a:ext cx="87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lease introduc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介绍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ur school.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校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6627"/>
          <p:cNvSpPr/>
          <p:nvPr/>
        </p:nvSpPr>
        <p:spPr>
          <a:xfrm>
            <a:off x="2700360" y="981000"/>
            <a:ext cx="25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our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6628"/>
          <p:cNvSpPr/>
          <p:nvPr/>
        </p:nvSpPr>
        <p:spPr>
          <a:xfrm>
            <a:off x="2340000" y="1557360"/>
            <a:ext cx="25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6629"/>
          <p:cNvSpPr/>
          <p:nvPr/>
        </p:nvSpPr>
        <p:spPr>
          <a:xfrm>
            <a:off x="1620720" y="26384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n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6630"/>
          <p:cNvSpPr/>
          <p:nvPr/>
        </p:nvSpPr>
        <p:spPr>
          <a:xfrm>
            <a:off x="4211640" y="3213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clean and t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6631"/>
          <p:cNvSpPr/>
          <p:nvPr/>
        </p:nvSpPr>
        <p:spPr>
          <a:xfrm>
            <a:off x="2195640" y="4438800"/>
            <a:ext cx="25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6632"/>
          <p:cNvSpPr/>
          <p:nvPr/>
        </p:nvSpPr>
        <p:spPr>
          <a:xfrm>
            <a:off x="6372360" y="4726080"/>
            <a:ext cx="30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 play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26633"/>
          <p:cNvSpPr/>
          <p:nvPr/>
        </p:nvSpPr>
        <p:spPr>
          <a:xfrm>
            <a:off x="4211640" y="3789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library, a music room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26634"/>
          <p:cNvSpPr/>
          <p:nvPr/>
        </p:nvSpPr>
        <p:spPr>
          <a:xfrm>
            <a:off x="1403280" y="5518080"/>
            <a:ext cx="25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26635"/>
          <p:cNvSpPr/>
          <p:nvPr/>
        </p:nvSpPr>
        <p:spPr>
          <a:xfrm>
            <a:off x="2700360" y="6021360"/>
            <a:ext cx="25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lay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6636"/>
          <p:cNvSpPr/>
          <p:nvPr/>
        </p:nvSpPr>
        <p:spPr>
          <a:xfrm>
            <a:off x="4427640" y="2133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2"/>
          <p:cNvSpPr txBox="1"/>
          <p:nvPr/>
        </p:nvSpPr>
        <p:spPr>
          <a:xfrm rot="20633400">
            <a:off x="468360" y="620640"/>
            <a:ext cx="208908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Comic Sans MS"/>
              </a:rPr>
              <a:t>Project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038760" y="26028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Comic Sans MS"/>
              </a:rPr>
              <a:t>Dream sch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738880" y="981000"/>
            <a:ext cx="4353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Comic Sans MS"/>
              </a:rPr>
              <a:t>Draw your dream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Comic Sans MS"/>
              </a:rPr>
              <a:t>Name different r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zh-CN" sz="2000" spc="-1" strike="noStrike">
                <a:solidFill>
                  <a:srgbClr val="333399"/>
                </a:solidFill>
                <a:latin typeface="Comic Sans MS"/>
              </a:rPr>
              <a:t>Introduce your dream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5743307_140426098461_2"/>
          <p:cNvPicPr/>
          <p:nvPr/>
        </p:nvPicPr>
        <p:blipFill>
          <a:blip r:embed="rId1"/>
          <a:stretch/>
        </p:blipFill>
        <p:spPr>
          <a:xfrm>
            <a:off x="1619280" y="2205000"/>
            <a:ext cx="5761080" cy="431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line112"/>
          <p:cNvPicPr/>
          <p:nvPr/>
        </p:nvPicPr>
        <p:blipFill>
          <a:blip r:embed="rId2"/>
          <a:stretch/>
        </p:blipFill>
        <p:spPr>
          <a:xfrm>
            <a:off x="0" y="6240600"/>
            <a:ext cx="91440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680400" y="260280"/>
            <a:ext cx="8169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Draw your dream school and talk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with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116000" y="1774800"/>
            <a:ext cx="567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This is my dream school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It’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There is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There a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They ar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I like to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I like my dream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00572921"/>
          <p:cNvPicPr/>
          <p:nvPr/>
        </p:nvPicPr>
        <p:blipFill>
          <a:blip r:embed="rId1"/>
          <a:stretch/>
        </p:blipFill>
        <p:spPr>
          <a:xfrm>
            <a:off x="0" y="0"/>
            <a:ext cx="133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29697"/>
          <p:cNvSpPr/>
          <p:nvPr/>
        </p:nvSpPr>
        <p:spPr>
          <a:xfrm>
            <a:off x="108000" y="333360"/>
            <a:ext cx="2808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mming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r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实验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9698"/>
          <p:cNvSpPr/>
          <p:nvPr/>
        </p:nvSpPr>
        <p:spPr>
          <a:xfrm>
            <a:off x="3348000" y="404640"/>
            <a:ext cx="158436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eauti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id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29699"/>
          <p:cNvSpPr/>
          <p:nvPr/>
        </p:nvSpPr>
        <p:spPr>
          <a:xfrm>
            <a:off x="6013440" y="406440"/>
            <a:ext cx="273528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play g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read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have le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eat me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"/>
          <p:cNvSpPr/>
          <p:nvPr/>
        </p:nvSpPr>
        <p:spPr>
          <a:xfrm>
            <a:off x="2771640" y="1413000"/>
            <a:ext cx="6156360" cy="4752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读、拼、记数字单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家听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个数字单词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个形容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描述自己的学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4"/>
          <p:cNvSpPr txBox="1"/>
          <p:nvPr/>
        </p:nvSpPr>
        <p:spPr>
          <a:xfrm>
            <a:off x="4572000" y="260280"/>
            <a:ext cx="259236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Comic Sans MS"/>
              </a:rPr>
              <a:t>Homework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21844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lcome to my school.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re are two buildings in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building A there are 5 teachers’ room and 9 classrooms. They are clean and ti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building B there is  a library, a music room and a computer room. They are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etween the two buildings, there is a playground. It  is small. But  I like to play games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1746"/>
          <p:cNvSpPr/>
          <p:nvPr/>
        </p:nvSpPr>
        <p:spPr>
          <a:xfrm>
            <a:off x="395280" y="260280"/>
            <a:ext cx="743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lease introduc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介绍）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ur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5121" descr="1"/>
          <p:cNvPicPr/>
          <p:nvPr/>
        </p:nvPicPr>
        <p:blipFill>
          <a:blip r:embed="rId1"/>
          <a:srcRect l="40743" t="0" r="0" b="0"/>
          <a:stretch/>
        </p:blipFill>
        <p:spPr>
          <a:xfrm>
            <a:off x="-84240" y="0"/>
            <a:ext cx="922824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819160"/>
            <a:ext cx="6791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Let's count from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to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5123" descr="GIF3-0039"/>
          <p:cNvPicPr/>
          <p:nvPr/>
        </p:nvPicPr>
        <p:blipFill>
          <a:blip r:embed="rId2"/>
          <a:stretch/>
        </p:blipFill>
        <p:spPr>
          <a:xfrm>
            <a:off x="6948360" y="3645000"/>
            <a:ext cx="14288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6175252_130151249120_2"/>
          <p:cNvPicPr/>
          <p:nvPr/>
        </p:nvPicPr>
        <p:blipFill>
          <a:blip r:embed="rId1">
            <a:lum bright="70000" contrast="-70000"/>
          </a:blip>
          <a:srcRect l="0" t="0" r="0" b="25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"/>
          <p:cNvSpPr/>
          <p:nvPr/>
        </p:nvSpPr>
        <p:spPr>
          <a:xfrm>
            <a:off x="3412440" y="189000"/>
            <a:ext cx="86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Comic Sans MS"/>
              </a:rPr>
              <a:t>认真阅读对话提示，做一个自己学校的调查表。</a:t>
            </a:r>
            <a:r>
              <a:rPr b="1" lang="zh-CN" sz="2400" spc="-1" strike="noStrike">
                <a:solidFill>
                  <a:srgbClr val="ff00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421000"/>
          <a:ext cx="8496000" cy="4257720"/>
        </p:xfrm>
        <a:graphic>
          <a:graphicData uri="http://schemas.openxmlformats.org/drawingml/2006/table">
            <a:tbl>
              <a:tblPr/>
              <a:tblGrid>
                <a:gridCol w="3239640"/>
                <a:gridCol w="2448000"/>
                <a:gridCol w="28083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目根据实际情况调整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many…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, small, clean, beautiful, nice, good, large, tall, tidy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ground (tre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glish teach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0"/>
          <p:cNvSpPr/>
          <p:nvPr/>
        </p:nvSpPr>
        <p:spPr>
          <a:xfrm>
            <a:off x="804960" y="717480"/>
            <a:ext cx="6973200" cy="1557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A: Hello. How many…s are there in our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B: There ar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A: Are they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B: Yes, they are./  No, they aren’t. They ar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059480" y="692280"/>
            <a:ext cx="6995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Comic Sans MS"/>
              </a:rPr>
              <a:t>One, two,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tie your sho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Three, four,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close the doo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cc33"/>
                </a:solidFill>
                <a:latin typeface="Comic Sans MS"/>
              </a:rPr>
              <a:t>Five, six,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pick up stick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Comic Sans MS"/>
              </a:rPr>
              <a:t>Seven, eight,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don’t be la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Comic Sans MS"/>
              </a:rPr>
              <a:t>Nine, ten,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 start ag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122005323145614"/>
          <p:cNvPicPr/>
          <p:nvPr/>
        </p:nvPicPr>
        <p:blipFill>
          <a:blip r:embed="rId1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7"/>
          <p:cNvPicPr/>
          <p:nvPr/>
        </p:nvPicPr>
        <p:blipFill>
          <a:blip r:embed="rId2"/>
          <a:stretch/>
        </p:blipFill>
        <p:spPr>
          <a:xfrm>
            <a:off x="7451640" y="260280"/>
            <a:ext cx="1408320" cy="140832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250920" y="333360"/>
            <a:ext cx="2257200" cy="925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8000"/>
                </a:solidFill>
                <a:latin typeface="Comic Sans MS"/>
              </a:rPr>
              <a:t>Let's Chant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5125292_115606310159_2"/>
          <p:cNvPicPr/>
          <p:nvPr/>
        </p:nvPicPr>
        <p:blipFill>
          <a:blip r:embed="rId1"/>
          <a:srcRect l="0" t="0" r="467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3"/>
          <p:cNvSpPr/>
          <p:nvPr/>
        </p:nvSpPr>
        <p:spPr>
          <a:xfrm>
            <a:off x="250920" y="189000"/>
            <a:ext cx="4465440" cy="2519280"/>
          </a:xfrm>
          <a:prstGeom prst="cloudCallout">
            <a:avLst>
              <a:gd name="adj1" fmla="val 81138"/>
              <a:gd name="adj2" fmla="val 8509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11280" y="981000"/>
            <a:ext cx="40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Hello! My name is Luc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Welcome to see my sh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5125292_115606310159_2"/>
          <p:cNvPicPr/>
          <p:nvPr/>
        </p:nvPicPr>
        <p:blipFill>
          <a:blip r:embed="rId1"/>
          <a:srcRect l="0" t="0" r="467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3"/>
          <p:cNvSpPr/>
          <p:nvPr/>
        </p:nvSpPr>
        <p:spPr>
          <a:xfrm>
            <a:off x="250920" y="189000"/>
            <a:ext cx="4465440" cy="2519280"/>
          </a:xfrm>
          <a:prstGeom prst="cloudCallout">
            <a:avLst>
              <a:gd name="adj1" fmla="val 81138"/>
              <a:gd name="adj2" fmla="val 85097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11280" y="981000"/>
            <a:ext cx="403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Ha, ha ! Wha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can you s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5125292_115606310159_2"/>
          <p:cNvPicPr/>
          <p:nvPr/>
        </p:nvPicPr>
        <p:blipFill>
          <a:blip r:embed="rId1"/>
          <a:srcRect l="42404" t="0" r="4674" b="0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755640" y="1916280"/>
            <a:ext cx="2808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3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6 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7 e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20 tw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50 fif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40 fo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3 thir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10 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</a:rPr>
              <a:t>25 twenty-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66680" y="228600"/>
          <a:ext cx="6858000" cy="5195880"/>
        </p:xfrm>
        <a:graphic>
          <a:graphicData uri="http://schemas.openxmlformats.org/drawingml/2006/table">
            <a:tbl>
              <a:tblPr/>
              <a:tblGrid>
                <a:gridCol w="2286000"/>
                <a:gridCol w="2220840"/>
                <a:gridCol w="235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几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en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el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wen</a:t>
                      </a:r>
                      <a:r>
                        <a:rPr b="1" lang="en-US" sz="28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ty</a:t>
                      </a:r>
                      <a:r>
                        <a:rPr b="1" lang="zh-CN" sz="28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-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for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f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f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x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x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x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n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n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h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h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e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e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e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矩形 10287"/>
          <p:cNvSpPr txBox="1"/>
          <p:nvPr/>
        </p:nvSpPr>
        <p:spPr>
          <a:xfrm>
            <a:off x="1295280" y="5562720"/>
            <a:ext cx="6381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十几十几，</a:t>
            </a: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-teen,-teen,-teen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矩形 10288"/>
          <p:cNvSpPr txBox="1"/>
          <p:nvPr/>
        </p:nvSpPr>
        <p:spPr>
          <a:xfrm>
            <a:off x="1295280" y="6172200"/>
            <a:ext cx="53341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几十几十，</a:t>
            </a: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75000"/>
                    </a:srgbClr>
                  </a:outerShdw>
                </a:effectLst>
                <a:latin typeface="宋体"/>
              </a:rPr>
              <a:t>-ty,-ty,-ty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11265"/>
          <p:cNvSpPr/>
          <p:nvPr/>
        </p:nvSpPr>
        <p:spPr>
          <a:xfrm>
            <a:off x="1693800" y="40464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ut the numbers in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1266" descr="4"/>
          <p:cNvPicPr/>
          <p:nvPr/>
        </p:nvPicPr>
        <p:blipFill>
          <a:blip r:embed="rId1"/>
          <a:stretch/>
        </p:blipFill>
        <p:spPr>
          <a:xfrm>
            <a:off x="228600" y="457200"/>
            <a:ext cx="838080" cy="6825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1267" descr="09"/>
          <p:cNvPicPr/>
          <p:nvPr/>
        </p:nvPicPr>
        <p:blipFill>
          <a:blip r:embed="rId2"/>
          <a:stretch/>
        </p:blipFill>
        <p:spPr>
          <a:xfrm>
            <a:off x="0" y="5086440"/>
            <a:ext cx="1152360" cy="121896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11268"/>
          <p:cNvSpPr/>
          <p:nvPr/>
        </p:nvSpPr>
        <p:spPr>
          <a:xfrm>
            <a:off x="1187280" y="981000"/>
            <a:ext cx="770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28,18,47,96,16,69, 36,83,80,53,77,6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1269"/>
          <p:cNvSpPr/>
          <p:nvPr/>
        </p:nvSpPr>
        <p:spPr>
          <a:xfrm>
            <a:off x="612720" y="3357720"/>
            <a:ext cx="158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&lt;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1270"/>
          <p:cNvSpPr/>
          <p:nvPr/>
        </p:nvSpPr>
        <p:spPr>
          <a:xfrm>
            <a:off x="2052720" y="335772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1271"/>
          <p:cNvSpPr/>
          <p:nvPr/>
        </p:nvSpPr>
        <p:spPr>
          <a:xfrm>
            <a:off x="3419640" y="3286080"/>
            <a:ext cx="158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1272"/>
          <p:cNvSpPr/>
          <p:nvPr/>
        </p:nvSpPr>
        <p:spPr>
          <a:xfrm>
            <a:off x="4716360" y="32860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1273"/>
          <p:cNvSpPr/>
          <p:nvPr/>
        </p:nvSpPr>
        <p:spPr>
          <a:xfrm>
            <a:off x="5940360" y="335772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1274"/>
          <p:cNvSpPr/>
          <p:nvPr/>
        </p:nvSpPr>
        <p:spPr>
          <a:xfrm>
            <a:off x="7453440" y="335772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1275"/>
          <p:cNvSpPr/>
          <p:nvPr/>
        </p:nvSpPr>
        <p:spPr>
          <a:xfrm>
            <a:off x="2340000" y="486900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1276"/>
          <p:cNvSpPr/>
          <p:nvPr/>
        </p:nvSpPr>
        <p:spPr>
          <a:xfrm>
            <a:off x="539640" y="4869000"/>
            <a:ext cx="19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&lt;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1277"/>
          <p:cNvSpPr/>
          <p:nvPr/>
        </p:nvSpPr>
        <p:spPr>
          <a:xfrm>
            <a:off x="3708360" y="494172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77</a:t>
            </a: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1278"/>
          <p:cNvSpPr/>
          <p:nvPr/>
        </p:nvSpPr>
        <p:spPr>
          <a:xfrm>
            <a:off x="5003640" y="4941720"/>
            <a:ext cx="216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&lt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1279"/>
          <p:cNvSpPr/>
          <p:nvPr/>
        </p:nvSpPr>
        <p:spPr>
          <a:xfrm>
            <a:off x="6445080" y="494172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1280"/>
          <p:cNvSpPr/>
          <p:nvPr/>
        </p:nvSpPr>
        <p:spPr>
          <a:xfrm>
            <a:off x="7380360" y="4869000"/>
            <a:ext cx="201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99"/>
                </a:solidFill>
                <a:latin typeface="Arial"/>
              </a:rPr>
              <a:t>&lt;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9:57:48Z</dcterms:created>
  <dc:creator/>
  <dc:description/>
  <cp:keywords>http:/cai.7cxk.net 中小学课件网</cp:keywords>
  <dc:language>en-US</dc:language>
  <cp:lastModifiedBy>Administrator</cp:lastModifiedBy>
  <dcterms:modified xsi:type="dcterms:W3CDTF">2017-10-07T05:29:04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