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0.jpeg" ContentType="image/jpeg"/>
  <Override PartName="/ppt/media/image44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E7F-2F9B-4E34-8FEE-489C3A58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A46-8ED9-44EC-A07F-5B43F18E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0E8-231D-4228-8ACE-B7256FFB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F92-AFF1-4A41-A415-41335947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4BE-AA43-4326-A2B7-B0B80E16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7FF-7CBA-4AB9-B8F4-C35D830A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B12-6EF5-4450-9892-2EE8370C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C13-270F-47D6-A894-84EC5529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72C-CECF-4B2C-B89F-887E8F16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27B-C655-4865-A35A-F2A8D4B2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85B-987A-4ADA-966F-CD943B77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D1B-1187-4C09-973C-CBAF4313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5E92-B9F8-4BFB-BC5E-CAA5945DB2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维尼熊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268360" y="2276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84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矩形 6" descr=""/>
          <p:cNvPicPr/>
          <p:nvPr/>
        </p:nvPicPr>
        <p:blipFill>
          <a:blip r:embed="rId2"/>
          <a:stretch/>
        </p:blipFill>
        <p:spPr>
          <a:xfrm>
            <a:off x="993600" y="1616040"/>
            <a:ext cx="6918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小牛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1857240" y="1143000"/>
            <a:ext cx="621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抄今天学习的单词，一个两行，一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个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记单词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试着读一读课文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4" descr="维尼熊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268360" y="2276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484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矩形 6" descr=""/>
          <p:cNvPicPr/>
          <p:nvPr/>
        </p:nvPicPr>
        <p:blipFill>
          <a:blip r:embed="rId2"/>
          <a:stretch/>
        </p:blipFill>
        <p:spPr>
          <a:xfrm>
            <a:off x="1579680" y="1646280"/>
            <a:ext cx="4522680" cy="193824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7" descr=""/>
          <p:cNvPicPr/>
          <p:nvPr/>
        </p:nvPicPr>
        <p:blipFill>
          <a:blip r:embed="rId3"/>
          <a:stretch/>
        </p:blipFill>
        <p:spPr>
          <a:xfrm>
            <a:off x="2120760" y="3084480"/>
            <a:ext cx="37623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矩形 3" descr=""/>
          <p:cNvPicPr/>
          <p:nvPr/>
        </p:nvPicPr>
        <p:blipFill>
          <a:blip r:embed="rId1"/>
          <a:stretch/>
        </p:blipFill>
        <p:spPr>
          <a:xfrm>
            <a:off x="2206800" y="-225360"/>
            <a:ext cx="4657680" cy="290808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" descr=""/>
          <p:cNvPicPr/>
          <p:nvPr/>
        </p:nvPicPr>
        <p:blipFill>
          <a:blip r:embed="rId2"/>
          <a:stretch/>
        </p:blipFill>
        <p:spPr>
          <a:xfrm>
            <a:off x="2908440" y="1785960"/>
            <a:ext cx="305424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矩形 5" descr=""/>
          <p:cNvPicPr/>
          <p:nvPr/>
        </p:nvPicPr>
        <p:blipFill>
          <a:blip r:embed="rId3"/>
          <a:stretch/>
        </p:blipFill>
        <p:spPr>
          <a:xfrm>
            <a:off x="-231840" y="969840"/>
            <a:ext cx="3256200" cy="2438640"/>
          </a:xfrm>
          <a:prstGeom prst="rect">
            <a:avLst/>
          </a:prstGeom>
          <a:ln w="0">
            <a:noFill/>
          </a:ln>
        </p:spPr>
      </p:pic>
      <p:pic>
        <p:nvPicPr>
          <p:cNvPr id="114" name="矩形 6" descr=""/>
          <p:cNvPicPr/>
          <p:nvPr/>
        </p:nvPicPr>
        <p:blipFill>
          <a:blip r:embed="rId4"/>
          <a:stretch/>
        </p:blipFill>
        <p:spPr>
          <a:xfrm>
            <a:off x="5761080" y="914400"/>
            <a:ext cx="3468600" cy="3297240"/>
          </a:xfrm>
          <a:prstGeom prst="rect">
            <a:avLst/>
          </a:prstGeom>
          <a:ln w="0">
            <a:noFill/>
          </a:ln>
        </p:spPr>
      </p:pic>
      <p:pic>
        <p:nvPicPr>
          <p:cNvPr id="115" name="矩形 7" descr=""/>
          <p:cNvPicPr/>
          <p:nvPr/>
        </p:nvPicPr>
        <p:blipFill>
          <a:blip r:embed="rId5"/>
          <a:stretch/>
        </p:blipFill>
        <p:spPr>
          <a:xfrm>
            <a:off x="291960" y="3432240"/>
            <a:ext cx="3316320" cy="3054240"/>
          </a:xfrm>
          <a:prstGeom prst="rect">
            <a:avLst/>
          </a:prstGeom>
          <a:ln w="0">
            <a:noFill/>
          </a:ln>
        </p:spPr>
      </p:pic>
      <p:pic>
        <p:nvPicPr>
          <p:cNvPr id="116" name="矩形 8" descr=""/>
          <p:cNvPicPr/>
          <p:nvPr/>
        </p:nvPicPr>
        <p:blipFill>
          <a:blip r:embed="rId6"/>
          <a:stretch/>
        </p:blipFill>
        <p:spPr>
          <a:xfrm>
            <a:off x="4224240" y="4071960"/>
            <a:ext cx="499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矩形 1" descr=""/>
          <p:cNvPicPr/>
          <p:nvPr/>
        </p:nvPicPr>
        <p:blipFill>
          <a:blip r:embed="rId1"/>
          <a:stretch/>
        </p:blipFill>
        <p:spPr>
          <a:xfrm>
            <a:off x="2017800" y="-195120"/>
            <a:ext cx="5273640" cy="193824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/>
          <p:cNvSpPr/>
          <p:nvPr/>
        </p:nvSpPr>
        <p:spPr>
          <a:xfrm>
            <a:off x="1423440" y="3429000"/>
            <a:ext cx="57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1" lang="en-US" sz="8000" spc="-1" strike="noStrike">
                <a:solidFill>
                  <a:srgbClr val="002060"/>
                </a:solidFill>
                <a:latin typeface="Calibri"/>
              </a:rPr>
              <a:t>.blackb</a:t>
            </a:r>
            <a:r>
              <a:rPr b="1" lang="en-US" sz="8000" spc="-1" strike="noStrike">
                <a:solidFill>
                  <a:srgbClr val="c00000"/>
                </a:solidFill>
                <a:latin typeface="Calibri"/>
              </a:rPr>
              <a:t>___</a:t>
            </a:r>
            <a:r>
              <a:rPr b="1" lang="en-US" sz="8000" spc="-1" strike="noStrike">
                <a:solidFill>
                  <a:srgbClr val="002060"/>
                </a:solidFill>
                <a:latin typeface="Calibri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矩形 3" descr=""/>
          <p:cNvPicPr/>
          <p:nvPr/>
        </p:nvPicPr>
        <p:blipFill>
          <a:blip r:embed="rId2"/>
          <a:stretch/>
        </p:blipFill>
        <p:spPr>
          <a:xfrm>
            <a:off x="-66600" y="1695600"/>
            <a:ext cx="3571920" cy="1412640"/>
          </a:xfrm>
          <a:prstGeom prst="rect">
            <a:avLst/>
          </a:prstGeom>
          <a:ln w="0">
            <a:noFill/>
          </a:ln>
        </p:spPr>
      </p:pic>
      <p:pic>
        <p:nvPicPr>
          <p:cNvPr id="120" name="矩形 4" descr=""/>
          <p:cNvPicPr/>
          <p:nvPr/>
        </p:nvPicPr>
        <p:blipFill>
          <a:blip r:embed="rId3"/>
          <a:stretch/>
        </p:blipFill>
        <p:spPr>
          <a:xfrm>
            <a:off x="-219240" y="5052960"/>
            <a:ext cx="4291200" cy="141444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5" descr=""/>
          <p:cNvPicPr/>
          <p:nvPr/>
        </p:nvPicPr>
        <p:blipFill>
          <a:blip r:embed="rId4"/>
          <a:stretch/>
        </p:blipFill>
        <p:spPr>
          <a:xfrm>
            <a:off x="4705200" y="1530360"/>
            <a:ext cx="4194360" cy="1859040"/>
          </a:xfrm>
          <a:prstGeom prst="rect">
            <a:avLst/>
          </a:prstGeom>
          <a:ln w="0">
            <a:noFill/>
          </a:ln>
        </p:spPr>
      </p:pic>
      <p:pic>
        <p:nvPicPr>
          <p:cNvPr id="122" name="矩形 6" descr=""/>
          <p:cNvPicPr/>
          <p:nvPr/>
        </p:nvPicPr>
        <p:blipFill>
          <a:blip r:embed="rId5"/>
          <a:stretch/>
        </p:blipFill>
        <p:spPr>
          <a:xfrm>
            <a:off x="4621320" y="4718160"/>
            <a:ext cx="5035320" cy="2023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1577520" y="1928880"/>
            <a:ext cx="94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alibri"/>
              </a:rPr>
              <a:t>ac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7143840" y="1928880"/>
            <a:ext cx="107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000760" y="3357720"/>
            <a:ext cx="207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alibri"/>
              </a:rPr>
              <a:t>oa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1785960" y="528624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alibri"/>
              </a:rPr>
              <a:t>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7143840" y="514368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alibr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4" descr=""/>
          <p:cNvPicPr/>
          <p:nvPr/>
        </p:nvPicPr>
        <p:blipFill>
          <a:blip r:embed="rId2"/>
          <a:stretch/>
        </p:blipFill>
        <p:spPr>
          <a:xfrm>
            <a:off x="1511280" y="73080"/>
            <a:ext cx="6291360" cy="2566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1785960" y="335772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动词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in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赢得，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矩形 4" descr=""/>
          <p:cNvPicPr/>
          <p:nvPr/>
        </p:nvPicPr>
        <p:blipFill>
          <a:blip r:embed="rId2"/>
          <a:stretch/>
        </p:blipFill>
        <p:spPr>
          <a:xfrm>
            <a:off x="658800" y="73080"/>
            <a:ext cx="7991640" cy="2566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928800" y="278604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名词：中国人，汉语（语文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矩形 6" descr=""/>
          <p:cNvPicPr/>
          <p:nvPr/>
        </p:nvPicPr>
        <p:blipFill>
          <a:blip r:embed="rId3"/>
          <a:stretch/>
        </p:blipFill>
        <p:spPr>
          <a:xfrm>
            <a:off x="1871640" y="3608280"/>
            <a:ext cx="527220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矩形 4" descr=""/>
          <p:cNvPicPr/>
          <p:nvPr/>
        </p:nvPicPr>
        <p:blipFill>
          <a:blip r:embed="rId2"/>
          <a:stretch/>
        </p:blipFill>
        <p:spPr>
          <a:xfrm>
            <a:off x="1384200" y="365040"/>
            <a:ext cx="7004160" cy="1560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1714680" y="285768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数学书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ths 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2428920" y="1928880"/>
            <a:ext cx="378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athemati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1571760" y="3857760"/>
            <a:ext cx="60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语文书：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nese 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8" name="Picture 4" descr="维尼熊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484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2286000" y="18572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第二课时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矩形 7" descr=""/>
          <p:cNvPicPr/>
          <p:nvPr/>
        </p:nvPicPr>
        <p:blipFill>
          <a:blip r:embed="rId2"/>
          <a:stretch/>
        </p:blipFill>
        <p:spPr>
          <a:xfrm>
            <a:off x="835200" y="1852560"/>
            <a:ext cx="6864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p3.so.qhimg.com/sdr/_220_/t01ece60348f30b27ed.jpg"/>
          <p:cNvPicPr/>
          <p:nvPr/>
        </p:nvPicPr>
        <p:blipFill>
          <a:blip r:embed="rId1"/>
          <a:stretch/>
        </p:blipFill>
        <p:spPr>
          <a:xfrm>
            <a:off x="7542360" y="4376880"/>
            <a:ext cx="1601640" cy="2481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p1.so.qhimg.com/sdr/_220_/t01bfdcc664a0fd4096.jpg"/>
          <p:cNvPicPr/>
          <p:nvPr/>
        </p:nvPicPr>
        <p:blipFill>
          <a:blip r:embed="rId2"/>
          <a:stretch/>
        </p:blipFill>
        <p:spPr>
          <a:xfrm>
            <a:off x="-214200" y="3286080"/>
            <a:ext cx="3025800" cy="3262320"/>
          </a:xfrm>
          <a:prstGeom prst="rect">
            <a:avLst/>
          </a:prstGeom>
          <a:ln w="0">
            <a:noFill/>
          </a:ln>
        </p:spPr>
      </p:pic>
      <p:sp>
        <p:nvSpPr>
          <p:cNvPr id="154" name="云形标注 3"/>
          <p:cNvSpPr/>
          <p:nvPr/>
        </p:nvSpPr>
        <p:spPr>
          <a:xfrm>
            <a:off x="0" y="0"/>
            <a:ext cx="4572000" cy="2643120"/>
          </a:xfrm>
          <a:prstGeom prst="cloudCallout">
            <a:avLst>
              <a:gd name="adj1" fmla="val -4833"/>
              <a:gd name="adj2" fmla="val 76416"/>
            </a:avLst>
          </a:prstGeom>
          <a:solidFill>
            <a:srgbClr val="dbeef4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500040" y="71424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看看黑板。每组有多少颗星星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云形标注 5"/>
          <p:cNvSpPr/>
          <p:nvPr/>
        </p:nvSpPr>
        <p:spPr>
          <a:xfrm>
            <a:off x="2643120" y="1714680"/>
            <a:ext cx="5786640" cy="3500280"/>
          </a:xfrm>
          <a:prstGeom prst="cloudCallout">
            <a:avLst>
              <a:gd name="adj1" fmla="val 31638"/>
              <a:gd name="adj2" fmla="val 60212"/>
            </a:avLst>
          </a:prstGeom>
          <a:solidFill>
            <a:srgbClr val="dbeef4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3000240" y="2500200"/>
            <a:ext cx="50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让我看看。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组有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80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颗星星。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组有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66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颗星星。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组有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75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颗星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http://p3.so.qhimg.com/sdr/_220_/t01ece60348f30b27ed.jpg"/>
          <p:cNvPicPr/>
          <p:nvPr/>
        </p:nvPicPr>
        <p:blipFill>
          <a:blip r:embed="rId3"/>
          <a:stretch/>
        </p:blipFill>
        <p:spPr>
          <a:xfrm>
            <a:off x="7694640" y="4529160"/>
            <a:ext cx="16016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p1.so.qhimg.com/sdr/_220_/t01bfdcc664a0fd4096.jpg"/>
          <p:cNvPicPr/>
          <p:nvPr/>
        </p:nvPicPr>
        <p:blipFill>
          <a:blip r:embed="rId1"/>
          <a:stretch/>
        </p:blipFill>
        <p:spPr>
          <a:xfrm>
            <a:off x="-214200" y="3286080"/>
            <a:ext cx="3025800" cy="32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p3.so.qhimg.com/sdr/_220_/t01ece60348f30b27ed.jpg"/>
          <p:cNvPicPr/>
          <p:nvPr/>
        </p:nvPicPr>
        <p:blipFill>
          <a:blip r:embed="rId2"/>
          <a:stretch/>
        </p:blipFill>
        <p:spPr>
          <a:xfrm>
            <a:off x="7542360" y="4376880"/>
            <a:ext cx="1601640" cy="2481120"/>
          </a:xfrm>
          <a:prstGeom prst="rect">
            <a:avLst/>
          </a:prstGeom>
          <a:ln w="0">
            <a:noFill/>
          </a:ln>
        </p:spPr>
      </p:pic>
      <p:sp>
        <p:nvSpPr>
          <p:cNvPr id="161" name="云形标注 4"/>
          <p:cNvSpPr/>
          <p:nvPr/>
        </p:nvSpPr>
        <p:spPr>
          <a:xfrm>
            <a:off x="0" y="0"/>
            <a:ext cx="4572000" cy="2643120"/>
          </a:xfrm>
          <a:prstGeom prst="cloudCallout">
            <a:avLst>
              <a:gd name="adj1" fmla="val -4833"/>
              <a:gd name="adj2" fmla="val 76416"/>
            </a:avLst>
          </a:prstGeom>
          <a:solidFill>
            <a:srgbClr val="dbeef4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642960" y="571680"/>
            <a:ext cx="36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3.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因此第</a:t>
            </a: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组是获胜者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云形标注 6"/>
          <p:cNvSpPr/>
          <p:nvPr/>
        </p:nvSpPr>
        <p:spPr>
          <a:xfrm>
            <a:off x="3643200" y="1714680"/>
            <a:ext cx="4786560" cy="2857320"/>
          </a:xfrm>
          <a:prstGeom prst="cloudCallout">
            <a:avLst>
              <a:gd name="adj1" fmla="val 31638"/>
              <a:gd name="adj2" fmla="val 60212"/>
            </a:avLst>
          </a:prstGeom>
          <a:solidFill>
            <a:srgbClr val="dbeef4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286160" y="2428920"/>
            <a:ext cx="33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太棒了！那是我的组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201010915418474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矩形 4" descr=""/>
          <p:cNvPicPr/>
          <p:nvPr/>
        </p:nvPicPr>
        <p:blipFill>
          <a:blip r:embed="rId2"/>
          <a:stretch/>
        </p:blipFill>
        <p:spPr>
          <a:xfrm>
            <a:off x="-128520" y="1639800"/>
            <a:ext cx="9388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"/>
          <p:cNvSpPr/>
          <p:nvPr/>
        </p:nvSpPr>
        <p:spPr>
          <a:xfrm>
            <a:off x="2000160" y="214200"/>
            <a:ext cx="5429520" cy="285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428920" y="928800"/>
            <a:ext cx="47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12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支红色的蜡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428920" y="192888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50</a:t>
            </a: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支蓝色的蜡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2000160" y="3571920"/>
            <a:ext cx="5429520" cy="2714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000240" y="4000680"/>
            <a:ext cx="33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32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把长尺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000240" y="528624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41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把短尺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1785960" y="357120"/>
            <a:ext cx="5429160" cy="3500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500200" y="642960"/>
            <a:ext cx="37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13</a:t>
            </a:r>
            <a:r>
              <a:rPr b="1" lang="zh-CN" sz="5400" spc="-1" strike="noStrike">
                <a:solidFill>
                  <a:srgbClr val="7030a0"/>
                </a:solidFill>
                <a:latin typeface="Calibri"/>
              </a:rPr>
              <a:t>本语文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714760" y="1714680"/>
            <a:ext cx="36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15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本英语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643120" y="2643120"/>
            <a:ext cx="35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40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本数学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1714680" y="4500720"/>
            <a:ext cx="5429160" cy="157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500200" y="478620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80</a:t>
            </a:r>
            <a:r>
              <a:rPr b="1" lang="zh-CN" sz="6000" spc="-1" strike="noStrike">
                <a:solidFill>
                  <a:srgbClr val="7030a0"/>
                </a:solidFill>
                <a:latin typeface="Calibri"/>
              </a:rPr>
              <a:t>朵红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20091017183341395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矩形 4" descr=""/>
          <p:cNvPicPr/>
          <p:nvPr/>
        </p:nvPicPr>
        <p:blipFill>
          <a:blip r:embed="rId2"/>
          <a:stretch/>
        </p:blipFill>
        <p:spPr>
          <a:xfrm>
            <a:off x="1689120" y="311040"/>
            <a:ext cx="57052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t11.baidu.com/it/u=1376898296,214399011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矩形 2" descr=""/>
          <p:cNvPicPr/>
          <p:nvPr/>
        </p:nvPicPr>
        <p:blipFill>
          <a:blip r:embed="rId2"/>
          <a:stretch/>
        </p:blipFill>
        <p:spPr>
          <a:xfrm>
            <a:off x="2193840" y="596880"/>
            <a:ext cx="4846680" cy="22129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1071720" y="507204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时态：一般现在时、一般过去时、一般将来时、现在进行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1571760" y="228600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oup 1 has eighty   stars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组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颗星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70812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课文应用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714240" y="3500280"/>
            <a:ext cx="7715520" cy="825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一般现在时通常表示经常发生的动作或存在的状态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云形 7"/>
          <p:cNvSpPr/>
          <p:nvPr/>
        </p:nvSpPr>
        <p:spPr>
          <a:xfrm>
            <a:off x="214200" y="285840"/>
            <a:ext cx="7572600" cy="2786040"/>
          </a:xfrm>
          <a:custGeom>
            <a:avLst/>
            <a:gdLst>
              <a:gd name="textAreaLeft" fmla="*/ 1043640 w 7572600"/>
              <a:gd name="textAreaRight" fmla="*/ 5990400 w 7572600"/>
              <a:gd name="textAreaTop" fmla="*/ 420480 h 2786040"/>
              <a:gd name="textAreaBottom" fmla="*/ 2236320 h 27860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1071720" y="857160"/>
            <a:ext cx="564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习语法、我不怕难！    打倒难点！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t3.baidu.com/it/u=2442470269,3633199775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857160" y="5000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一、含有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动词的一般现在时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一人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+ 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二人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you)/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各种人称复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e/you/they)+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三人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he/he/it)+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000080" y="1714680"/>
            <a:ext cx="78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我是一名学生。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 am a stud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1000080" y="392904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我们是好朋友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 are good fri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1071720" y="5429160"/>
            <a:ext cx="72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她是一名教师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 is a teac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流程图: 准备 8"/>
          <p:cNvSpPr/>
          <p:nvPr/>
        </p:nvSpPr>
        <p:spPr>
          <a:xfrm>
            <a:off x="1000080" y="357120"/>
            <a:ext cx="7286760" cy="1428840"/>
          </a:xfrm>
          <a:prstGeom prst="flowChartPreparation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2214720" y="714240"/>
            <a:ext cx="471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一般现在时的形式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://t3.baidu.com/it/u=2442470269,3633199775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1143000" y="500040"/>
            <a:ext cx="7429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二、含实义动词的一般现在时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一、二人称单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 /you)/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各种人称复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e/you/they)+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三人称单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e/she/it)+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动词第三人称单数形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43000" y="2500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我喜欢苹果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like app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他们住在北京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y live in Beij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1428840" y="52149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她喜欢苹果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 lik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http://t11.baidu.com/it/u=1702571965,2918401399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般现在时的用法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表示经常性或习惯性动作，常用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lways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总是），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ften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经常），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very day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每天）等词连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y always help me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他们总是帮我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表示现在的动作或状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ok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am in white tod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表示事实或客观真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sun rises in the east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太阳从东方升起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用在格言、谚语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ilure is the mother of succe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失败乃成功之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t12.baidu.com/it/u=1588330435,82136434&amp;fm=23&amp;gp=0.jpg"/>
          <p:cNvPicPr/>
          <p:nvPr/>
        </p:nvPicPr>
        <p:blipFill>
          <a:blip r:embed="rId1"/>
          <a:stretch/>
        </p:blipFill>
        <p:spPr>
          <a:xfrm>
            <a:off x="0" y="-1440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714240" y="6429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当主语为第三人称单数时，后面的动词也要变成相应的第三人称单数形式，变化规则如下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一般在动词后面加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例如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ke—likes, know—know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以字母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 , x ,  ch  ,  sh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结尾的动词加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s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例如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atch—watches,push—pus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http://t10.baidu.com/it/u=194176676,2834891701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8769240" cy="471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http://t2.baidu.com/it/u=1546821189,1454074990&amp;fm=23&amp;gp=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1071720" y="1143000"/>
            <a:ext cx="6929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、以辅音字母加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结尾的动词，把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变为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,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再加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es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udy—studies, fly—fl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、不规则变化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例如：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ave—has , do—do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t3.baidu.com/it/u=2442470269,3633199775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矩形 4" descr=""/>
          <p:cNvPicPr/>
          <p:nvPr/>
        </p:nvPicPr>
        <p:blipFill>
          <a:blip r:embed="rId2"/>
          <a:stretch/>
        </p:blipFill>
        <p:spPr>
          <a:xfrm>
            <a:off x="1779480" y="347760"/>
            <a:ext cx="5011920" cy="2908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928800" y="364320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ook at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blackboard , plea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071880" y="285768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请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看</a:t>
            </a: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黑板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矩形 4" descr=""/>
          <p:cNvPicPr/>
          <p:nvPr/>
        </p:nvPicPr>
        <p:blipFill>
          <a:blip r:embed="rId2"/>
          <a:stretch/>
        </p:blipFill>
        <p:spPr>
          <a:xfrm>
            <a:off x="2639880" y="0"/>
            <a:ext cx="380376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428760" y="264312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其他意思：明星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vie star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电影明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857680" y="3357720"/>
            <a:ext cx="35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看</a:t>
            </a: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那些星星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2500200" y="400068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ook at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sta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矩形 4" descr=""/>
          <p:cNvPicPr/>
          <p:nvPr/>
        </p:nvPicPr>
        <p:blipFill>
          <a:blip r:embed="rId2"/>
          <a:stretch/>
        </p:blipFill>
        <p:spPr>
          <a:xfrm>
            <a:off x="1390680" y="324000"/>
            <a:ext cx="3321000" cy="2438280"/>
          </a:xfrm>
          <a:prstGeom prst="rect">
            <a:avLst/>
          </a:prstGeom>
          <a:ln w="0">
            <a:noFill/>
          </a:ln>
        </p:spPr>
      </p:pic>
      <p:pic>
        <p:nvPicPr>
          <p:cNvPr id="68" name="矩形 5" descr=""/>
          <p:cNvPicPr/>
          <p:nvPr/>
        </p:nvPicPr>
        <p:blipFill>
          <a:blip r:embed="rId3"/>
          <a:stretch/>
        </p:blipFill>
        <p:spPr>
          <a:xfrm>
            <a:off x="4748040" y="1243080"/>
            <a:ext cx="3883320" cy="1244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214720" y="40006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第一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矩形 7" descr=""/>
          <p:cNvPicPr/>
          <p:nvPr/>
        </p:nvPicPr>
        <p:blipFill>
          <a:blip r:embed="rId4"/>
          <a:stretch/>
        </p:blipFill>
        <p:spPr>
          <a:xfrm>
            <a:off x="3949560" y="3797280"/>
            <a:ext cx="3017880" cy="88416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571680" y="2928960"/>
            <a:ext cx="81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转化为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动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的时候意思是：归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矩形 4" descr=""/>
          <p:cNvPicPr/>
          <p:nvPr/>
        </p:nvPicPr>
        <p:blipFill>
          <a:blip r:embed="rId2"/>
          <a:stretch/>
        </p:blipFill>
        <p:spPr>
          <a:xfrm>
            <a:off x="1298520" y="285840"/>
            <a:ext cx="4992840" cy="2665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642960" y="364320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ach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海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286240" y="3071880"/>
            <a:ext cx="32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very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每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矩形 4" descr=""/>
          <p:cNvPicPr/>
          <p:nvPr/>
        </p:nvPicPr>
        <p:blipFill>
          <a:blip r:embed="rId2"/>
          <a:stretch/>
        </p:blipFill>
        <p:spPr>
          <a:xfrm>
            <a:off x="-291960" y="55440"/>
            <a:ext cx="4833720" cy="2932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1071720" y="3000240"/>
            <a:ext cx="50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其他词义：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see 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明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572080" y="121428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e a film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看电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85840" y="3857760"/>
            <a:ext cx="85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et' me see.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让我看看。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/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让我想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矩形 4" descr=""/>
          <p:cNvPicPr/>
          <p:nvPr/>
        </p:nvPicPr>
        <p:blipFill>
          <a:blip r:embed="rId2"/>
          <a:stretch/>
        </p:blipFill>
        <p:spPr>
          <a:xfrm>
            <a:off x="-23760" y="219240"/>
            <a:ext cx="9191520" cy="1566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571680" y="27860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es he like apple ?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喜欢苹果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500120" y="35002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肯定回答：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Yes, he do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1500120" y="42148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否定回答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 doesn’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矩形 8" descr=""/>
          <p:cNvPicPr/>
          <p:nvPr/>
        </p:nvPicPr>
        <p:blipFill>
          <a:blip r:embed="rId3"/>
          <a:stretch/>
        </p:blipFill>
        <p:spPr>
          <a:xfrm>
            <a:off x="1468440" y="1200240"/>
            <a:ext cx="4913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矩形 4" descr=""/>
          <p:cNvPicPr/>
          <p:nvPr/>
        </p:nvPicPr>
        <p:blipFill>
          <a:blip r:embed="rId2"/>
          <a:stretch/>
        </p:blipFill>
        <p:spPr>
          <a:xfrm>
            <a:off x="237960" y="0"/>
            <a:ext cx="4443480" cy="2567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1785960" y="3429000"/>
            <a:ext cx="542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联想：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eacher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教师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tudent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28760" y="250020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四年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班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ass five, Grade f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矩形 7" descr=""/>
          <p:cNvPicPr/>
          <p:nvPr/>
        </p:nvPicPr>
        <p:blipFill>
          <a:blip r:embed="rId3"/>
          <a:stretch/>
        </p:blipFill>
        <p:spPr>
          <a:xfrm>
            <a:off x="3925800" y="792000"/>
            <a:ext cx="513900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3:09:04Z</dcterms:created>
  <dc:creator/>
  <dc:description/>
  <cp:keywords>http:/cai.7cxk.net 中小学课件网</cp:keywords>
  <dc:language>en-US</dc:language>
  <cp:lastModifiedBy/>
  <dcterms:modified xsi:type="dcterms:W3CDTF">2016-05-08T14:17:58Z</dcterms:modified>
  <cp:revision>11</cp:revision>
  <dc:subject/>
  <dc:title/>
</cp:coreProperties>
</file>