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BC06-86EA-43A5-B538-0C5B3D50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013-8017-4306-B5D1-77173B56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578-CB91-439A-9E57-DB22E1D9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6ADD-FD04-4530-9937-8D692EF2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F40C-EAAD-4C58-9A23-F65E8697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D77-1ED3-48E2-8633-EC05711E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F7AA-6226-4741-B880-0EA65217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B4ED-C828-4A39-B465-C78F315A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42E-3133-48DF-9519-8987B47B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C768-5FE6-4248-BD8F-71F9DF45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1E4F-4A63-4A18-93A8-DD529978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27E-3852-4F93-BAF2-84A4AC54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AAD4-BB6A-4715-8EA8-8DA76ACA51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2f94d5a2b041b7e3deb192f8f8d8064ba5c93128a531db182661bf6af4b5ea2ac8731f2c23a643bc90689b82ae252c1d8eaf13961aa14a971bd71cf9434f3827e36e9e94&amp;a=24&amp;b=29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b24.photo.store.qq.com/http_imgload.cgi?/rurl4_b=f52733238bc189dd92eac1a168c98ddf48b3054ea4fa14903ecc65c728f0d3197f274af59aa8ec3f6b8cc84faf51778e8a71ad005b5acce9b357cdbba58cadee3c88ab1a124b710804c47dedba7ec1107b4778c2&amp;a=29&amp;b=24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12.photo.store.qq.com/http_imgload.cgi?/rurl4_b=f52733238bc189dd92eac1a168c98ddf6542b2d398acfcb4f1a5b914f5fca23935141b1a3956b03113ee758caf6deaa5de07f249cd30fa68404261d5a1335c42c96c2f73546178d1f2428bc7ffb782dbb05392e5&amp;a=29&amp;b=12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13fb39b0c49ce8ae3ccf2d6ead9d9a75aabce280e1b0edcffe5879465c4802a39e6a8a9707bd195268008459542f7484c77226aabde1b11918b78cb550abed0b603bb052&amp;a=10&amp;b=29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_large_wH2v_11dd000347cf2d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763200" y="1628640"/>
            <a:ext cx="7279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Unit </a:t>
            </a: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ook at th</a:t>
            </a: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is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T-shirt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8000" spc="-1" strike="noStrike">
                <a:solidFill>
                  <a:srgbClr val="ff0000"/>
                </a:solidFill>
                <a:latin typeface="Impac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"/>
          <p:cNvSpPr/>
          <p:nvPr/>
        </p:nvSpPr>
        <p:spPr>
          <a:xfrm>
            <a:off x="565920" y="3718080"/>
            <a:ext cx="562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colour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971640" y="4654440"/>
            <a:ext cx="38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412360" y="4581360"/>
            <a:ext cx="212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996633"/>
                </a:solidFill>
                <a:latin typeface="Times New Roman"/>
              </a:rPr>
              <a:t>brow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3566160" y="333360"/>
            <a:ext cx="39024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sweat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6633"/>
                </a:solidFill>
                <a:latin typeface="Times New Roman"/>
              </a:rPr>
              <a:t>毛线衣、卫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2293" descr=""/>
          <p:cNvPicPr/>
          <p:nvPr/>
        </p:nvPicPr>
        <p:blipFill>
          <a:blip r:embed="rId1"/>
          <a:srcRect l="0" t="0" r="0" b="17864"/>
          <a:stretch/>
        </p:blipFill>
        <p:spPr>
          <a:xfrm>
            <a:off x="611280" y="404640"/>
            <a:ext cx="1952640" cy="242604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/>
          <p:cNvSpPr/>
          <p:nvPr/>
        </p:nvSpPr>
        <p:spPr>
          <a:xfrm>
            <a:off x="2622240" y="2494080"/>
            <a:ext cx="616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6633"/>
                </a:solidFill>
                <a:latin typeface="Comic Sans MS"/>
              </a:rPr>
              <a:t>a brown swea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5"/>
          <p:cNvSpPr/>
          <p:nvPr/>
        </p:nvSpPr>
        <p:spPr>
          <a:xfrm>
            <a:off x="5219640" y="1054080"/>
            <a:ext cx="354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ca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p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帽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3314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924440" cy="2519280"/>
          </a:xfrm>
          <a:prstGeom prst="rect">
            <a:avLst/>
          </a:prstGeom>
          <a:ln w="0">
            <a:noFill/>
          </a:ln>
        </p:spPr>
      </p:pic>
      <p:sp>
        <p:nvSpPr>
          <p:cNvPr id="96" name="矩形 2"/>
          <p:cNvSpPr/>
          <p:nvPr/>
        </p:nvSpPr>
        <p:spPr>
          <a:xfrm>
            <a:off x="492840" y="4294080"/>
            <a:ext cx="562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colour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67280" y="5373720"/>
            <a:ext cx="38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908360" y="5445000"/>
            <a:ext cx="149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00ff"/>
                </a:solidFill>
                <a:latin typeface="Times New Roman"/>
              </a:rPr>
              <a:t>bl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4429440" y="2997360"/>
            <a:ext cx="383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Comic Sans MS"/>
              </a:rPr>
              <a:t>a blue c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21505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3046320" cy="21607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661320" y="2637000"/>
            <a:ext cx="398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6633"/>
                </a:solidFill>
                <a:latin typeface="Comic Sans MS"/>
              </a:rPr>
              <a:t>a brown h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</a:rPr>
              <a:t>at</a:t>
            </a:r>
            <a:r>
              <a:rPr b="0" lang="zh-CN" sz="4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zh-CN" sz="6000" spc="-1" strike="noStrike">
                <a:solidFill>
                  <a:srgbClr val="996633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1508"/>
          <p:cNvSpPr/>
          <p:nvPr/>
        </p:nvSpPr>
        <p:spPr>
          <a:xfrm>
            <a:off x="683640" y="3933720"/>
            <a:ext cx="562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colour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1509"/>
          <p:cNvSpPr/>
          <p:nvPr/>
        </p:nvSpPr>
        <p:spPr>
          <a:xfrm flipH="1">
            <a:off x="901800" y="508644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Brow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1510"/>
          <p:cNvSpPr/>
          <p:nvPr/>
        </p:nvSpPr>
        <p:spPr>
          <a:xfrm>
            <a:off x="5500800" y="644400"/>
            <a:ext cx="22730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8000" spc="-1" strike="noStrike">
                <a:solidFill>
                  <a:srgbClr val="996633"/>
                </a:solidFill>
                <a:latin typeface="Comic Sans MS"/>
              </a:rPr>
              <a:t>h</a:t>
            </a: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at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</a:rPr>
              <a:t>有边的帽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014480" y="404640"/>
            <a:ext cx="6647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use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衬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irt                    T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恤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-shirt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女衬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jacke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连衣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at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大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sweater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夹克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ress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毛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接箭头连接符 5"/>
          <p:cNvCxnSpPr/>
          <p:nvPr/>
        </p:nvCxnSpPr>
        <p:spPr>
          <a:xfrm>
            <a:off x="3214440" y="1071360"/>
            <a:ext cx="2429640" cy="1572120"/>
          </a:xfrm>
          <a:prstGeom prst="straightConnector1">
            <a:avLst/>
          </a:prstGeom>
          <a:ln w="2844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7" name="直接箭头连接符 7"/>
          <p:cNvCxnSpPr/>
          <p:nvPr/>
        </p:nvCxnSpPr>
        <p:spPr>
          <a:xfrm flipV="1">
            <a:off x="2071800" y="928080"/>
            <a:ext cx="3572640" cy="857880"/>
          </a:xfrm>
          <a:prstGeom prst="straightConnector1">
            <a:avLst/>
          </a:prstGeom>
          <a:ln w="2844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8" name="直接箭头连接符 9"/>
          <p:cNvCxnSpPr/>
          <p:nvPr/>
        </p:nvCxnSpPr>
        <p:spPr>
          <a:xfrm flipV="1">
            <a:off x="2643120" y="1856520"/>
            <a:ext cx="3215520" cy="786600"/>
          </a:xfrm>
          <a:prstGeom prst="straightConnector1">
            <a:avLst/>
          </a:prstGeom>
          <a:ln w="2844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9" name="直接箭头连接符 13"/>
          <p:cNvCxnSpPr/>
          <p:nvPr/>
        </p:nvCxnSpPr>
        <p:spPr>
          <a:xfrm>
            <a:off x="3347640" y="5013000"/>
            <a:ext cx="2275200" cy="857880"/>
          </a:xfrm>
          <a:prstGeom prst="straightConnector1">
            <a:avLst/>
          </a:prstGeom>
          <a:ln w="2844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10" name="箭头 194"/>
          <p:cNvSpPr/>
          <p:nvPr/>
        </p:nvSpPr>
        <p:spPr>
          <a:xfrm>
            <a:off x="2771640" y="3429000"/>
            <a:ext cx="3095640" cy="1512720"/>
          </a:xfrm>
          <a:prstGeom prst="line">
            <a:avLst/>
          </a:prstGeom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箭头 197"/>
          <p:cNvSpPr/>
          <p:nvPr/>
        </p:nvSpPr>
        <p:spPr>
          <a:xfrm flipV="1">
            <a:off x="2195640" y="4149720"/>
            <a:ext cx="3384360" cy="71280"/>
          </a:xfrm>
          <a:prstGeom prst="line">
            <a:avLst/>
          </a:prstGeom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箭头 198"/>
          <p:cNvSpPr/>
          <p:nvPr/>
        </p:nvSpPr>
        <p:spPr>
          <a:xfrm flipV="1">
            <a:off x="2771640" y="3357360"/>
            <a:ext cx="2737080" cy="2592360"/>
          </a:xfrm>
          <a:prstGeom prst="line">
            <a:avLst/>
          </a:prstGeom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图片">
            <a:hlinkClick r:id="rId1"/>
          </p:cNvPr>
          <p:cNvPicPr/>
          <p:nvPr/>
        </p:nvPicPr>
        <p:blipFill>
          <a:blip r:embed="rId2"/>
          <a:srcRect l="0" t="0" r="0" b="4330"/>
          <a:stretch/>
        </p:blipFill>
        <p:spPr>
          <a:xfrm>
            <a:off x="0" y="0"/>
            <a:ext cx="9144000" cy="7272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1069920" y="642960"/>
            <a:ext cx="5718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ok at th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-shir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t i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autifu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s. I like the red </a:t>
            </a:r>
            <a:r>
              <a:rPr b="0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on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071720" y="300024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Calibri"/>
              </a:rPr>
              <a:t>我的翻译结果是</a:t>
            </a: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3744360" y="3643200"/>
            <a:ext cx="189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看这些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恤。它们都很漂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是的。我喜欢红色的这件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-4320" y="0"/>
            <a:ext cx="8933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0000"/>
                </a:solidFill>
                <a:latin typeface="Arial"/>
              </a:rPr>
              <a:t>练一练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Look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 blue shor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They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autiful.(is/are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I like the T-shirt,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’s too bi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Is this your coat?(  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 Yes, it is.       B. Yes, they a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Your dress is beautiful.(  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 Here you are.  B. Thank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289600" y="71424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076120" y="1428840"/>
            <a:ext cx="9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4792320" y="2214720"/>
            <a:ext cx="9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5004360" y="292896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6433200" y="442908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357120" y="0"/>
            <a:ext cx="7989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读一读，记一记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ook at   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看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y  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他（她；它）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ut    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但是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oo big  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太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ike        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喜欢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eautiful 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漂亮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图片">
            <a:hlinkClick r:id="rId1"/>
          </p:cNvPr>
          <p:cNvPicPr/>
          <p:nvPr/>
        </p:nvPicPr>
        <p:blipFill>
          <a:blip r:embed="rId2"/>
          <a:srcRect l="0" t="0" r="0" b="6665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190800" y="500040"/>
            <a:ext cx="891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s this your dress,Hele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. My dress is blue and whit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1661760" y="171468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黑体"/>
                <a:ea typeface="黑体"/>
              </a:rPr>
              <a:t>海伦，这是你的裙子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321800" y="4000680"/>
            <a:ext cx="77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黑体"/>
                <a:ea typeface="黑体"/>
              </a:rPr>
              <a:t>不是的。我的裙子是蓝白相间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280440" y="857160"/>
            <a:ext cx="761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ook at my new T-shir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t’s very nic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293480" y="2071800"/>
            <a:ext cx="259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黑体"/>
                <a:ea typeface="黑体"/>
              </a:rPr>
              <a:t>看我的新</a:t>
            </a:r>
            <a:r>
              <a:rPr b="0" lang="en-US" sz="4800" spc="-1" strike="noStrike">
                <a:solidFill>
                  <a:srgbClr val="0070c0"/>
                </a:solidFill>
                <a:latin typeface="黑体"/>
                <a:ea typeface="黑体"/>
              </a:rPr>
              <a:t>T</a:t>
            </a:r>
            <a:r>
              <a:rPr b="0" lang="zh-CN" sz="4800" spc="-1" strike="noStrike">
                <a:solidFill>
                  <a:srgbClr val="0070c0"/>
                </a:solidFill>
                <a:latin typeface="黑体"/>
                <a:ea typeface="黑体"/>
              </a:rPr>
              <a:t>恤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2035080" y="471492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黑体"/>
                <a:ea typeface="黑体"/>
              </a:rPr>
              <a:t>它很漂亮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605520" y="571680"/>
            <a:ext cx="6954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我观察、我发现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his is my dres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Is this your dres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4294080" y="257184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b0f0"/>
                </a:solidFill>
                <a:latin typeface="Arial"/>
              </a:rPr>
              <a:t>这是我的裙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3143880" y="421488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b0f0"/>
                </a:solidFill>
                <a:latin typeface="Arial"/>
              </a:rPr>
              <a:t>这是你的裙子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7"/>
          <p:cNvSpPr/>
          <p:nvPr/>
        </p:nvSpPr>
        <p:spPr>
          <a:xfrm>
            <a:off x="1275840" y="260280"/>
            <a:ext cx="483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clo</a:t>
            </a:r>
            <a:r>
              <a:rPr b="0" lang="zh-CN" sz="9600" spc="-1" strike="noStrike">
                <a:solidFill>
                  <a:srgbClr val="ff00ff"/>
                </a:solidFill>
                <a:latin typeface="Times New Roman"/>
              </a:rPr>
              <a:t>thes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衣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4098" descr=""/>
          <p:cNvPicPr/>
          <p:nvPr/>
        </p:nvPicPr>
        <p:blipFill>
          <a:blip r:embed="rId1"/>
          <a:srcRect l="0" t="0" r="0" b="4094"/>
          <a:stretch/>
        </p:blipFill>
        <p:spPr>
          <a:xfrm>
            <a:off x="324000" y="3070080"/>
            <a:ext cx="3600360" cy="345312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2932200" y="1773360"/>
            <a:ext cx="444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new cloth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soso2.gtimg.cn/sosopic/0/3750530607085170082/200"/>
          <p:cNvPicPr/>
          <p:nvPr/>
        </p:nvPicPr>
        <p:blipFill>
          <a:blip r:embed="rId1"/>
          <a:stretch/>
        </p:blipFill>
        <p:spPr>
          <a:xfrm>
            <a:off x="357120" y="428760"/>
            <a:ext cx="3214800" cy="3027240"/>
          </a:xfrm>
          <a:prstGeom prst="rect">
            <a:avLst/>
          </a:prstGeom>
          <a:ln w="0">
            <a:noFill/>
          </a:ln>
        </p:spPr>
      </p:pic>
      <p:sp>
        <p:nvSpPr>
          <p:cNvPr id="47" name="矩形 2"/>
          <p:cNvSpPr/>
          <p:nvPr/>
        </p:nvSpPr>
        <p:spPr>
          <a:xfrm>
            <a:off x="240480" y="3714840"/>
            <a:ext cx="562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colour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543600" y="5072040"/>
            <a:ext cx="401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t is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020320" y="5072040"/>
            <a:ext cx="236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i="1" lang="en-US" sz="60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001040" y="476280"/>
            <a:ext cx="37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sh</a:t>
            </a:r>
            <a:r>
              <a:rPr b="0" lang="en-US" sz="9600" spc="-1" strike="noStrike">
                <a:solidFill>
                  <a:srgbClr val="ff00ff"/>
                </a:solidFill>
                <a:latin typeface="Times New Roman"/>
              </a:rPr>
              <a:t>ir</a:t>
            </a: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男衬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3807720" y="1989000"/>
            <a:ext cx="510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00"/>
                </a:solidFill>
                <a:latin typeface="Comic Sans MS"/>
              </a:rPr>
              <a:t>a yellow </a:t>
            </a:r>
            <a:r>
              <a:rPr b="0" lang="en-US" sz="6000" spc="-1" strike="noStrike">
                <a:solidFill>
                  <a:srgbClr val="ff9900"/>
                </a:solidFill>
                <a:latin typeface="Comic Sans MS"/>
              </a:rPr>
              <a:t>shirt</a:t>
            </a:r>
            <a:r>
              <a:rPr b="0" lang="zh-CN" sz="6000" spc="-1" strike="noStrike">
                <a:solidFill>
                  <a:srgbClr val="ff99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" descr="T恤1.gif"/>
          <p:cNvPicPr/>
          <p:nvPr/>
        </p:nvPicPr>
        <p:blipFill>
          <a:blip r:embed="rId1"/>
          <a:stretch/>
        </p:blipFill>
        <p:spPr>
          <a:xfrm>
            <a:off x="179280" y="117360"/>
            <a:ext cx="3500640" cy="4243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83400" y="4143240"/>
            <a:ext cx="562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Times New Roman"/>
              </a:rPr>
              <a:t>What colour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684000" y="5357880"/>
            <a:ext cx="34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Times New Roman"/>
              </a:rPr>
              <a:t>It is </a:t>
            </a:r>
            <a:r>
              <a:rPr b="0" lang="en-US" sz="6000" spc="-1" strike="noStrike" u="sng">
                <a:solidFill>
                  <a:srgbClr val="0070c0"/>
                </a:solidFill>
                <a:uFillTx/>
                <a:latin typeface="Times New Roman"/>
              </a:rPr>
              <a:t>        </a:t>
            </a:r>
            <a:r>
              <a:rPr b="0" lang="en-US" sz="6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937880" y="5357880"/>
            <a:ext cx="183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4933800" y="620640"/>
            <a:ext cx="3497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T-</a:t>
            </a:r>
            <a:r>
              <a:rPr b="0" lang="en-US" sz="9600" spc="-1" strike="noStrike">
                <a:solidFill>
                  <a:srgbClr val="ff00ff"/>
                </a:solidFill>
                <a:latin typeface="Times New Roman"/>
              </a:rPr>
              <a:t>sh</a:t>
            </a:r>
            <a:r>
              <a:rPr b="0" lang="en-US" sz="9600" spc="-1" strike="noStrike">
                <a:solidFill>
                  <a:srgbClr val="0000ff"/>
                </a:solidFill>
                <a:latin typeface="Times New Roman"/>
              </a:rPr>
              <a:t>ir</a:t>
            </a: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419640" y="3213000"/>
            <a:ext cx="54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a black T-shi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2"/>
          <p:cNvSpPr/>
          <p:nvPr/>
        </p:nvSpPr>
        <p:spPr>
          <a:xfrm>
            <a:off x="525960" y="4143240"/>
            <a:ext cx="562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colour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826920" y="5286240"/>
            <a:ext cx="34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2051280" y="5157720"/>
            <a:ext cx="187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ff"/>
                </a:solidFill>
                <a:latin typeface="Times New Roman"/>
              </a:rPr>
              <a:t>whi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970880" y="189000"/>
            <a:ext cx="33627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bl</a:t>
            </a:r>
            <a:r>
              <a:rPr b="0" lang="zh-CN" sz="9600" spc="-1" strike="noStrike">
                <a:solidFill>
                  <a:srgbClr val="ff00ff"/>
                </a:solidFill>
                <a:latin typeface="Times New Roman"/>
              </a:rPr>
              <a:t>ou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女衬衫，短上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7173" descr=""/>
          <p:cNvPicPr/>
          <p:nvPr/>
        </p:nvPicPr>
        <p:blipFill>
          <a:blip r:embed="rId1"/>
          <a:stretch/>
        </p:blipFill>
        <p:spPr>
          <a:xfrm>
            <a:off x="34920" y="117360"/>
            <a:ext cx="3600360" cy="360072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3562560" y="2997360"/>
            <a:ext cx="537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omic Sans MS"/>
              </a:rPr>
              <a:t>a white blou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5"/>
          <p:cNvSpPr/>
          <p:nvPr/>
        </p:nvSpPr>
        <p:spPr>
          <a:xfrm>
            <a:off x="5005080" y="333360"/>
            <a:ext cx="3089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jacke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夹克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819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286520" cy="2857320"/>
          </a:xfrm>
          <a:prstGeom prst="rect">
            <a:avLst/>
          </a:prstGeom>
          <a:ln w="0">
            <a:noFill/>
          </a:ln>
        </p:spPr>
      </p:pic>
      <p:sp>
        <p:nvSpPr>
          <p:cNvPr id="66" name="矩形 2"/>
          <p:cNvSpPr/>
          <p:nvPr/>
        </p:nvSpPr>
        <p:spPr>
          <a:xfrm>
            <a:off x="525960" y="4143240"/>
            <a:ext cx="562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colour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714240" y="5286240"/>
            <a:ext cx="400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2124000" y="515772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d60093"/>
                </a:solidFill>
                <a:latin typeface="Times New Roman"/>
              </a:rPr>
              <a:t>purp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157200" y="3141720"/>
            <a:ext cx="545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d60093"/>
                </a:solidFill>
                <a:latin typeface="Comic Sans MS"/>
              </a:rPr>
              <a:t>a purple jack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3"/>
          <p:cNvSpPr/>
          <p:nvPr/>
        </p:nvSpPr>
        <p:spPr>
          <a:xfrm>
            <a:off x="240480" y="3714840"/>
            <a:ext cx="562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colour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541080" y="5072040"/>
            <a:ext cx="34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1835640" y="5086440"/>
            <a:ext cx="191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9900"/>
                </a:solidFill>
                <a:latin typeface="Times New Roman"/>
              </a:rPr>
              <a:t>gre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722480" y="333360"/>
            <a:ext cx="407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dress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连衣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9221" descr=""/>
          <p:cNvPicPr/>
          <p:nvPr/>
        </p:nvPicPr>
        <p:blipFill>
          <a:blip r:embed="rId1"/>
          <a:srcRect l="0" t="0" r="0" b="24294"/>
          <a:stretch/>
        </p:blipFill>
        <p:spPr>
          <a:xfrm>
            <a:off x="971640" y="260280"/>
            <a:ext cx="2386080" cy="2725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3605760" y="2205000"/>
            <a:ext cx="506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00"/>
                </a:solidFill>
                <a:latin typeface="Comic Sans MS"/>
              </a:rPr>
              <a:t>a green dr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2"/>
          <p:cNvSpPr/>
          <p:nvPr/>
        </p:nvSpPr>
        <p:spPr>
          <a:xfrm>
            <a:off x="421200" y="4076640"/>
            <a:ext cx="562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colour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541080" y="5072040"/>
            <a:ext cx="34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715040" y="5072040"/>
            <a:ext cx="153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5f5f5f"/>
                </a:solidFill>
                <a:latin typeface="Times New Roman"/>
              </a:rPr>
              <a:t>gre</a:t>
            </a:r>
            <a:r>
              <a:rPr b="0" i="1" lang="zh-CN" sz="6000" spc="-1" strike="noStrike">
                <a:solidFill>
                  <a:srgbClr val="5f5f5f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4809240" y="404640"/>
            <a:ext cx="39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zh-CN" sz="9600" spc="-1" strike="noStrike">
                <a:solidFill>
                  <a:srgbClr val="5f5f5f"/>
                </a:solidFill>
                <a:latin typeface="Times New Roman"/>
              </a:rPr>
              <a:t>i</a:t>
            </a:r>
            <a:r>
              <a:rPr b="0" lang="en-US" sz="9600" spc="-1" strike="noStrike">
                <a:solidFill>
                  <a:srgbClr val="5f5f5f"/>
                </a:solidFill>
                <a:latin typeface="Times New Roman"/>
              </a:rPr>
              <a:t>r</a:t>
            </a: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短裙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10245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3600360" cy="3600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4079520" y="2133720"/>
            <a:ext cx="416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f5f5f"/>
                </a:solidFill>
                <a:latin typeface="Comic Sans MS"/>
              </a:rPr>
              <a:t>a gr</a:t>
            </a:r>
            <a:r>
              <a:rPr b="0" lang="en-US" sz="6000" spc="-1" strike="noStrike">
                <a:solidFill>
                  <a:srgbClr val="5f5f5f"/>
                </a:solidFill>
                <a:latin typeface="Comic Sans MS"/>
              </a:rPr>
              <a:t>ey ski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240480" y="3714840"/>
            <a:ext cx="562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colour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41080" y="5072040"/>
            <a:ext cx="34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992960" y="507204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3949920" y="333360"/>
            <a:ext cx="353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9600" spc="-1" strike="noStrike">
                <a:solidFill>
                  <a:srgbClr val="800080"/>
                </a:solidFill>
                <a:latin typeface="Times New Roman"/>
              </a:rPr>
              <a:t>oa</a:t>
            </a: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a50021"/>
                </a:solidFill>
                <a:latin typeface="Times New Roman"/>
              </a:rPr>
              <a:t>大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11269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770200" cy="2857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3588480" y="2060640"/>
            <a:ext cx="375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Comic Sans MS"/>
              </a:rPr>
              <a:t>a red co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4:45:33Z</dcterms:created>
  <dc:creator/>
  <dc:description/>
  <cp:keywords>http:/cai.7cxk.net 中小学课件网</cp:keywords>
  <dc:language>en-US</dc:language>
  <cp:lastModifiedBy>Administrator</cp:lastModifiedBy>
  <dcterms:modified xsi:type="dcterms:W3CDTF">2017-10-07T06:05:25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