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wmf" ContentType="image/x-wmf"/>
  <Override PartName="/ppt/media/image11.png" ContentType="image/png"/>
  <Override PartName="/ppt/media/image19.jpeg" ContentType="image/jpeg"/>
  <Override PartName="/ppt/media/image18.jpeg" ContentType="image/jpeg"/>
  <Override PartName="/ppt/media/image13.png" ContentType="image/png"/>
  <Override PartName="/ppt/media/chimes.wav" ContentType="audio/x-wav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C95-9938-4654-AA23-5FA15E10F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689-56AD-40F3-B167-DE1B2ECC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A05E-C714-49F9-B549-8C632CC9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6B62-BDCE-41E2-B253-69EEA873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5101-7EF0-4E9C-8AEC-230EFC7A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973-86CE-4D9D-9DA4-D5FEA9FC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C571-2247-4CB2-A53C-AB3F51DCB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55C4-4E25-4061-9967-800D67B5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499-5FFA-4375-91B1-79A989D4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76B6-20C7-4AFD-86DD-E654867A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B130-69E6-4C06-B443-B0A50F0E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650-050D-436C-8606-261F1824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F2957-92FF-442F-867E-06F5E82DE9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1440"/>
            <a:ext cx="9072720" cy="68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2"/>
          <p:cNvSpPr/>
          <p:nvPr/>
        </p:nvSpPr>
        <p:spPr>
          <a:xfrm>
            <a:off x="1187280" y="3286080"/>
            <a:ext cx="46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"/>
          <p:cNvSpPr/>
          <p:nvPr/>
        </p:nvSpPr>
        <p:spPr>
          <a:xfrm>
            <a:off x="1762560" y="4365720"/>
            <a:ext cx="52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</a:t>
            </a:r>
            <a:r>
              <a:rPr b="0" lang="zh-CN" sz="5400" spc="-1" strike="noStrike">
                <a:solidFill>
                  <a:srgbClr val="ff0000"/>
                </a:solidFill>
                <a:latin typeface="Times New Roman"/>
              </a:rPr>
              <a:t>fifteen yuan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876360" y="90972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2879640" cy="2879640"/>
          </a:xfrm>
          <a:prstGeom prst="rect">
            <a:avLst/>
          </a:prstGeom>
          <a:ln w="0">
            <a:noFill/>
          </a:ln>
        </p:spPr>
      </p:pic>
      <p:sp>
        <p:nvSpPr>
          <p:cNvPr id="82" name="TextBox 5"/>
          <p:cNvSpPr/>
          <p:nvPr/>
        </p:nvSpPr>
        <p:spPr>
          <a:xfrm>
            <a:off x="4572000" y="333360"/>
            <a:ext cx="43210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a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p(     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鸭舌帽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8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6560" y="549360"/>
            <a:ext cx="3048120" cy="2160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H="1">
            <a:off x="6732720" y="112536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3933720"/>
            <a:ext cx="519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900000" y="5086440"/>
            <a:ext cx="47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It's twenty yu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13080" y="765000"/>
            <a:ext cx="420084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en-US" sz="8000" spc="-1" strike="noStrike">
                <a:solidFill>
                  <a:srgbClr val="996633"/>
                </a:solidFill>
                <a:latin typeface="Comic Sans MS"/>
              </a:rPr>
              <a:t>h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at</a:t>
            </a:r>
            <a:r>
              <a:rPr b="0" lang="zh-CN" sz="8000" spc="-1" strike="noStrike">
                <a:solidFill>
                  <a:srgbClr val="ff0000"/>
                </a:solidFill>
                <a:latin typeface="Comic Sans MS"/>
              </a:rPr>
              <a:t> (    )</a:t>
            </a:r>
            <a:r>
              <a:rPr b="0" lang="en-US" sz="8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</a:rPr>
              <a:t>有边的帽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286520" cy="2857320"/>
          </a:xfrm>
          <a:prstGeom prst="rect">
            <a:avLst/>
          </a:prstGeom>
          <a:ln w="0">
            <a:noFill/>
          </a:ln>
        </p:spPr>
      </p:pic>
      <p:sp>
        <p:nvSpPr>
          <p:cNvPr id="89" name="矩形 2"/>
          <p:cNvSpPr/>
          <p:nvPr/>
        </p:nvSpPr>
        <p:spPr>
          <a:xfrm>
            <a:off x="466560" y="3718080"/>
            <a:ext cx="519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How much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66560" y="4797360"/>
            <a:ext cx="864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It's one hundred yu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7235280" y="981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3851280" y="406440"/>
            <a:ext cx="5113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jacket(     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4"/>
          <p:cNvSpPr/>
          <p:nvPr/>
        </p:nvSpPr>
        <p:spPr>
          <a:xfrm>
            <a:off x="357120" y="4143240"/>
            <a:ext cx="519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70c0"/>
                </a:solidFill>
                <a:latin typeface="Times New Roman"/>
              </a:rPr>
              <a:t>How much</a:t>
            </a:r>
            <a:r>
              <a:rPr b="0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252360" y="5373720"/>
            <a:ext cx="813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It's two</a:t>
            </a:r>
            <a:r>
              <a:rPr b="0" lang="en-US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hundred and fifty yuan.</a:t>
            </a:r>
            <a:r>
              <a:rPr b="0" lang="en-US" sz="6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</a:t>
            </a:r>
            <a:r>
              <a:rPr b="0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841480" cy="3600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227640" y="119700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2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3637440" y="549360"/>
            <a:ext cx="485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</a:t>
            </a:r>
            <a:r>
              <a:rPr b="0" lang="en-US" sz="9600" spc="-1" strike="noStrike">
                <a:solidFill>
                  <a:srgbClr val="800080"/>
                </a:solidFill>
                <a:latin typeface="Times New Roman"/>
                <a:ea typeface="Times New Roman"/>
              </a:rPr>
              <a:t>oa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(     )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2"/>
          <p:cNvSpPr/>
          <p:nvPr/>
        </p:nvSpPr>
        <p:spPr>
          <a:xfrm>
            <a:off x="500040" y="4143240"/>
            <a:ext cx="519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897120" y="5157720"/>
            <a:ext cx="331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It's fifty yu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2666880" cy="2667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 flipH="1">
            <a:off x="7020000" y="90972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3279240" y="333360"/>
            <a:ext cx="58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-</a:t>
            </a:r>
            <a:r>
              <a:rPr b="0" lang="en-US" sz="96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sh</a:t>
            </a:r>
            <a:r>
              <a:rPr b="0" lang="en-US" sz="9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ir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3"/>
          <p:cNvSpPr/>
          <p:nvPr/>
        </p:nvSpPr>
        <p:spPr>
          <a:xfrm>
            <a:off x="214200" y="3714840"/>
            <a:ext cx="519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-11160" y="4726080"/>
            <a:ext cx="93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It's one hundred and sixty yu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071960" y="477720"/>
            <a:ext cx="501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ess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(     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7019280" y="112536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 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2"/>
          <p:cNvSpPr/>
          <p:nvPr/>
        </p:nvSpPr>
        <p:spPr>
          <a:xfrm>
            <a:off x="395280" y="4076640"/>
            <a:ext cx="519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How much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96000" y="5086440"/>
            <a:ext cx="37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60640" y="5086440"/>
            <a:ext cx="560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's two hundred yuan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4430160" y="909720"/>
            <a:ext cx="49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zh-CN" sz="9600" spc="-1" strike="noStrike">
                <a:solidFill>
                  <a:srgbClr val="5f5f5f"/>
                </a:solidFill>
                <a:latin typeface="Times New Roman"/>
              </a:rPr>
              <a:t>i</a:t>
            </a:r>
            <a:r>
              <a:rPr b="0" lang="en-US" sz="9600" spc="-1" strike="noStrike">
                <a:solidFill>
                  <a:srgbClr val="5f5f5f"/>
                </a:solidFill>
                <a:latin typeface="Times New Roman"/>
                <a:ea typeface="Times New Roman"/>
              </a:rPr>
              <a:t>r</a:t>
            </a: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</a:t>
            </a: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(     )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7092360" y="1557360"/>
            <a:ext cx="165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¥ 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8000" y="117360"/>
            <a:ext cx="372888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-17640"/>
            <a:ext cx="910908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54160" y="2205000"/>
            <a:ext cx="4969080" cy="137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33cccc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Times New Roman"/>
              </a:rPr>
              <a:t>Show Time</a:t>
            </a:r>
            <a:endParaRPr b="1" lang="en-US" sz="1800" spc="-1" strike="noStrike">
              <a:ln w="9360">
                <a:solidFill>
                  <a:srgbClr val="33cccc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08000" y="260280"/>
            <a:ext cx="9217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把服装类单词家听两遍，签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背诵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U9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的单词和课文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p_large_wH2v_11dd000347cf2d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355320" y="428760"/>
            <a:ext cx="83142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6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Unit 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ook at th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 T-shirt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T恤1.gif"/>
          <p:cNvPicPr/>
          <p:nvPr/>
        </p:nvPicPr>
        <p:blipFill>
          <a:blip r:embed="rId1"/>
          <a:stretch/>
        </p:blipFill>
        <p:spPr>
          <a:xfrm>
            <a:off x="857160" y="0"/>
            <a:ext cx="3500640" cy="424332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383400" y="41432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684000" y="535788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t is </a:t>
            </a:r>
            <a:r>
              <a:rPr b="0" lang="en-US" sz="6000" spc="-1" strike="noStrike" u="sng">
                <a:solidFill>
                  <a:srgbClr val="0070c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1937880" y="535788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l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5106600" y="1214280"/>
            <a:ext cx="349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-shi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c0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2"/>
          <p:cNvSpPr/>
          <p:nvPr/>
        </p:nvSpPr>
        <p:spPr>
          <a:xfrm>
            <a:off x="525960" y="41432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714240" y="5286240"/>
            <a:ext cx="420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  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2340000" y="5229360"/>
            <a:ext cx="2169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4502880" y="1557360"/>
            <a:ext cx="3902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sweate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17360"/>
            <a:ext cx="39610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bd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2" descr="连衣裙.jpg"/>
          <p:cNvPicPr/>
          <p:nvPr/>
        </p:nvPicPr>
        <p:blipFill>
          <a:blip r:embed="rId1"/>
          <a:stretch/>
        </p:blipFill>
        <p:spPr>
          <a:xfrm>
            <a:off x="500040" y="500040"/>
            <a:ext cx="2786040" cy="2786040"/>
          </a:xfrm>
          <a:prstGeom prst="rect">
            <a:avLst/>
          </a:prstGeom>
          <a:ln w="0">
            <a:noFill/>
          </a:ln>
        </p:spPr>
      </p:pic>
      <p:sp>
        <p:nvSpPr>
          <p:cNvPr id="57" name="矩形 3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541080" y="50720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866240" y="5072040"/>
            <a:ext cx="183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516560" y="1285920"/>
            <a:ext cx="268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res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6360" y="-22320"/>
            <a:ext cx="4969080" cy="4200480"/>
          </a:xfrm>
          <a:prstGeom prst="rect">
            <a:avLst/>
          </a:prstGeom>
          <a:ln w="0">
            <a:noFill/>
          </a:ln>
        </p:spPr>
      </p:pic>
      <p:sp>
        <p:nvSpPr>
          <p:cNvPr id="62" name="矩形 2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"/>
          <p:cNvSpPr/>
          <p:nvPr/>
        </p:nvSpPr>
        <p:spPr>
          <a:xfrm>
            <a:off x="541080" y="50720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"/>
          <p:cNvSpPr/>
          <p:nvPr/>
        </p:nvSpPr>
        <p:spPr>
          <a:xfrm>
            <a:off x="1715040" y="507204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5"/>
          <p:cNvSpPr/>
          <p:nvPr/>
        </p:nvSpPr>
        <p:spPr>
          <a:xfrm>
            <a:off x="5437440" y="1197000"/>
            <a:ext cx="18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cap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ttp://soso2.gtimg.cn/sosopic/0/5423999745315759836/200"/>
          <p:cNvPicPr/>
          <p:nvPr/>
        </p:nvPicPr>
        <p:blipFill>
          <a:blip r:embed="rId1"/>
          <a:stretch/>
        </p:blipFill>
        <p:spPr>
          <a:xfrm>
            <a:off x="357120" y="214200"/>
            <a:ext cx="2978280" cy="307188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541080" y="5072040"/>
            <a:ext cx="34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1992960" y="507204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e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4870080" y="1000080"/>
            <a:ext cx="2210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a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soso2.gtimg.cn/sosopic/0/3750530607085170082/200"/>
          <p:cNvPicPr/>
          <p:nvPr/>
        </p:nvPicPr>
        <p:blipFill>
          <a:blip r:embed="rId1"/>
          <a:stretch/>
        </p:blipFill>
        <p:spPr>
          <a:xfrm>
            <a:off x="357120" y="428760"/>
            <a:ext cx="3214800" cy="302724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240480" y="3714840"/>
            <a:ext cx="5621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colour is it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543600" y="5072040"/>
            <a:ext cx="401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  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4"/>
          <p:cNvSpPr/>
          <p:nvPr/>
        </p:nvSpPr>
        <p:spPr>
          <a:xfrm>
            <a:off x="2020320" y="5072040"/>
            <a:ext cx="236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ellow</a:t>
            </a:r>
            <a:r>
              <a:rPr b="0" i="1" lang="en-US" sz="6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5"/>
          <p:cNvSpPr/>
          <p:nvPr/>
        </p:nvSpPr>
        <p:spPr>
          <a:xfrm>
            <a:off x="4871160" y="10000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ir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19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</a:rPr>
              <a:t>Sentences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5T14:45:33Z</dcterms:created>
  <dc:creator/>
  <dc:description/>
  <cp:keywords/>
  <dc:language>en-US</dc:language>
  <cp:lastModifiedBy>Administrator</cp:lastModifiedBy>
  <dcterms:modified xsi:type="dcterms:W3CDTF">2017-12-06T02:40:00Z</dcterms:modified>
  <cp:revision>36</cp:revision>
  <dc:subject/>
  <dc:title>幻灯片 1</dc:title>
</cp:coreProperties>
</file>