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98D-BF1B-4091-973F-09780E6C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81E-A3A6-4AFD-B018-E279A131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557-F56F-4AEF-BD3A-003DBDFD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CE3-DEBA-460F-AA80-4821FE20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48A6-A293-4FD6-BE1C-DFDA91CD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963C-C56A-45A5-8FB8-B5060276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2A6A-DDB8-4F52-9E02-B5E3DAD4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CA0C-D365-4F67-A9FF-BBD0CFD4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BFD4-D2A4-4C4E-8029-39736C1A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7485-FDD7-4B43-8983-4DB77939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93E2-CA3D-4181-9CA0-47ED24DD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2FC-7EDF-4EE6-A781-8A7F940B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345A-38E8-4B47-9740-979EA244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347C-3F57-4D7D-97B6-22866704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F060-05C1-437C-A78C-518FED17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E3D9-EF37-40FF-99C5-AAC3C10E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98CD-B88A-40BD-9BF6-5803C9D3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CD30C-45DB-4AD2-A928-BB4AD157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FDA94-BA94-4368-B5E7-9AFD0870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0ADFA-F554-4A79-8DC1-1060F3F8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E8C6-D158-4AE0-A716-2AD85B87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6924-77E8-4DDF-AC67-32B7BA0E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5B7-E324-43C3-9624-67530FED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849DD-C2BF-4755-A79D-4AD995FD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7469A-28BB-46BB-83DE-873F5B53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9D8E-B965-4F4D-8113-30A994CF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34D7-E2EE-40CF-B745-92F5A973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A852-C4BE-49F9-A72E-13F7DBC2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FE3F9-C184-46BA-A4B9-C63E494B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7CAE3-47D6-4378-AA40-A26780FE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4C38F-C832-4F16-9E19-70C1AD7C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E97C8-0177-47F3-995A-3CEE26CA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7CC26-5063-427E-B247-054CA362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B0F-942D-4EA8-AEA6-929419E8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77A84-A510-4162-B818-D52CB02D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30104-0189-45A4-8D3B-175A670E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30636-1922-4F03-8249-4B6DD6A5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03657-04AC-4E3B-9A99-009D0123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9A8F4-9934-4600-B96F-23EC4CDC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8D46-8C24-496D-B125-AA0C4C64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75386-02D9-4797-B41C-E0F8E811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FA3D6-4EA3-4240-A1E3-42217B22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F59E-ABBA-4DD1-93DC-C68B37D0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9AB-9D9F-4A0C-BED4-9649C59C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9C5-D0DB-478F-B514-D6C3AE2F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44C-B34A-4781-85D0-F86F94D2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5FD-9280-445D-8108-5D22AE1E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9AB-A842-4CE3-98E5-0E839D6D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DCCB-BB9C-4EE0-92B7-3956D426B2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1B0B-2DAB-4B91-8548-76F32BAEC8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8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2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4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5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7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8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9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1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1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3347-A9DD-42C4-9FE1-9E1914E5AD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7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8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0431-7A95-4574-8A34-1D3BAFF83C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3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cc"/>
                </a:solidFill>
                <a:latin typeface="Arial"/>
              </a:rPr>
              <a:t>unit 1 Go straight 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666880" y="129528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Module 1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971800" y="0"/>
            <a:ext cx="1523880" cy="2666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0"/>
            <a:ext cx="1600200" cy="304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743200" y="0"/>
            <a:ext cx="1905120" cy="304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4114800"/>
            <a:ext cx="1600200" cy="2743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743200" y="4114800"/>
            <a:ext cx="1905120" cy="2743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2520" y="4267080"/>
            <a:ext cx="4572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190760" y="4419720"/>
            <a:ext cx="7596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886200" y="464832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lak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202920" y="41148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o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240" y="25909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669040" y="8380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permarke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5360" y="304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rk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723920" y="990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Arial"/>
              </a:rPr>
              <a:t>A: Excuse me . </a:t>
            </a:r>
            <a:br>
              <a:rPr sz="4000"/>
            </a:br>
            <a:r>
              <a:rPr b="0" lang="zh-CN" sz="4000" spc="-1" strike="noStrike">
                <a:solidFill>
                  <a:srgbClr val="9900cc"/>
                </a:solidFill>
                <a:latin typeface="Arial"/>
              </a:rPr>
              <a:t>  Where’s the…,</a:t>
            </a:r>
            <a:br>
              <a:rPr sz="4000"/>
            </a:br>
            <a:r>
              <a:rPr b="0" lang="zh-CN" sz="4000" spc="-1" strike="noStrike">
                <a:solidFill>
                  <a:srgbClr val="9900cc"/>
                </a:solidFill>
                <a:latin typeface="Arial"/>
              </a:rPr>
              <a:t>   please ?</a:t>
            </a:r>
            <a:br>
              <a:rPr sz="4000"/>
            </a:br>
            <a:r>
              <a:rPr b="0" lang="zh-CN" sz="4000" spc="-1" strike="noStrike">
                <a:solidFill>
                  <a:srgbClr val="9900cc"/>
                </a:solidFill>
                <a:latin typeface="Arial"/>
              </a:rPr>
              <a:t>B: Go staight on…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800600" y="4038480"/>
            <a:ext cx="380880" cy="228600"/>
          </a:xfrm>
          <a:prstGeom prst="star5">
            <a:avLst/>
          </a:prstGeom>
          <a:solidFill>
            <a:srgbClr val="9900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3886200"/>
            <a:ext cx="407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</a:rPr>
              <a:t>   “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</a:rPr>
              <a:t>Excuse me.“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</a:rPr>
              <a:t>通常用来表示有礼貌地询问某事或客气地打断别人的话 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</a:rPr>
              <a:t>意为，对不起，打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57400" y="6248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760680" y="99072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oman: Thank you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 much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am and Amy: ______________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63240" y="1600200"/>
            <a:ext cx="31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’re welcome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2209680" y="2743200"/>
            <a:ext cx="37911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80880" y="993600"/>
            <a:ext cx="1039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mework: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.Repeat the text 5 times .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.Tell your friend where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r home is.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80892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990720" y="628200"/>
            <a:ext cx="541008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 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left   left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right   right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go turn around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go go go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2057400" y="533520"/>
            <a:ext cx="5411880" cy="46497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276720" y="54864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urn lef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04920" y="2438280"/>
            <a:ext cx="14475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Lef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左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5668920" cy="4900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981080" y="5791320"/>
            <a:ext cx="388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819520" y="54864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urn righ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10280" y="2590920"/>
            <a:ext cx="152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162920" y="2590920"/>
            <a:ext cx="16002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righ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右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5564160" cy="477684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133720" y="54100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 straight o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553080" y="2286000"/>
            <a:ext cx="25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Straigh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直的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6315120" cy="47401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734640" y="538812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ak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997440" cy="563904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252480" y="2975040"/>
            <a:ext cx="139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road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990720" y="152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2499480" y="560556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supermarke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441720" y="728640"/>
            <a:ext cx="770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Q1:Where does Doudou </a:t>
            </a:r>
            <a:r>
              <a:rPr b="0" lang="zh-CN" sz="3600" spc="-1" strike="noStrike">
                <a:solidFill>
                  <a:srgbClr val="9900cc"/>
                </a:solidFill>
                <a:latin typeface="Arial"/>
              </a:rPr>
              <a:t>live in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                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居住，住在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Q2:Where is No.2 West Lake </a:t>
            </a:r>
            <a:r>
              <a:rPr b="0" lang="zh-CN" sz="3600" spc="-1" strike="noStrike">
                <a:solidFill>
                  <a:srgbClr val="9900cc"/>
                </a:solidFill>
                <a:latin typeface="Arial"/>
              </a:rPr>
              <a:t>Road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                       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道路，街道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19320" y="2133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79800" y="1981080"/>
            <a:ext cx="80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oudou lives in No.2 West Lake Roa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441972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Turn left,go straight on,turn righ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It’s next to a supermarke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6-15T08:14:1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