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AA5-DA30-4009-8662-8E3533C2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1AD-708F-412E-9053-31E12444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F46-7834-49AC-A3C3-1F351F95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257-5C24-4F24-8B01-BF9FA47D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976-E312-4455-9B72-3F6B337F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D7B-3BE7-406F-ABF5-ACA6DD7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DE9-7E70-4DAD-B6DF-BA4F1067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2ED-E372-4CFF-9211-8263754F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1E5-39DF-4246-B0F1-9E81DFC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2FB-8564-4327-8041-51514135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25E-2074-4C8B-9E21-95482EF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F04-0454-446A-99BF-FA12BDF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06B-2441-453D-B888-B006E160EB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5.xml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" Target="slide7.xml"/><Relationship Id="rId8" Type="http://schemas.openxmlformats.org/officeDocument/2006/relationships/image" Target="../media/image7.png"/><Relationship Id="rId9" Type="http://schemas.openxmlformats.org/officeDocument/2006/relationships/slide" Target="slide8.xml"/><Relationship Id="rId10" Type="http://schemas.openxmlformats.org/officeDocument/2006/relationships/image" Target="../media/image8.png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image" Target="../media/image9.png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5445000"/>
            <a:ext cx="65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490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方正行楷简体"/>
              </a:rPr>
              <a:t>Unit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 Black"/>
                <a:ea typeface="新宋体"/>
              </a:rPr>
              <a:t>What  are  you  do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5157720"/>
            <a:ext cx="241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0640"/>
            <a:ext cx="64087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外研社新课标版小学英语第三册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MODULE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911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4674960" cy="494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79640" y="0"/>
            <a:ext cx="6732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  <a:ea typeface="宋体"/>
              </a:rPr>
              <a:t>What  are  you 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1989000"/>
            <a:ext cx="414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I’m watching  TV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1368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404640"/>
            <a:ext cx="22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listen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357336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580536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13080" y="-88920"/>
            <a:ext cx="4714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play basketbal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play football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play table tennis   listen to music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talk to friend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play with a toy train  fly a kit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running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swimming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reading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watch TV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take pictur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ride a bik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-17640"/>
            <a:ext cx="3542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打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踢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打乒乓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听音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与朋友交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玩玩具火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放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跑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游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看电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拍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  <a:ea typeface="黑体"/>
              </a:rPr>
              <a:t>骑自行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81080" y="262080"/>
            <a:ext cx="8424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I like play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foot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She like</a:t>
            </a:r>
            <a:r>
              <a:rPr b="0" lang="zh-CN" sz="48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play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basket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He like</a:t>
            </a:r>
            <a:r>
              <a:rPr b="0" lang="zh-CN" sz="48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swim</a:t>
            </a:r>
            <a:r>
              <a:rPr b="0" lang="zh-CN" sz="4800" spc="-1" strike="noStrike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ing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We like run</a:t>
            </a:r>
            <a:r>
              <a:rPr b="0" lang="zh-CN" sz="4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2133720"/>
            <a:ext cx="7128000" cy="1655640"/>
          </a:xfrm>
          <a:prstGeom prst="foldedCorner">
            <a:avLst>
              <a:gd name="adj" fmla="val 12500"/>
            </a:avLst>
          </a:prstGeom>
          <a:solidFill>
            <a:srgbClr val="fcd0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119700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like: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喜欢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v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6320" y="40464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1112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48040" y="2205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2276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2760" y="2201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2400" y="213372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27320" y="2997360"/>
            <a:ext cx="12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68560" y="2997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4200" y="29973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240" y="299736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53960" y="393372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Verdana"/>
                <a:ea typeface="宋体"/>
              </a:rPr>
              <a:t>我喜欢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472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lik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walk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     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17160" y="5445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30280" y="544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77080" y="4724280"/>
            <a:ext cx="9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76360" y="119700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sw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anc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8160" y="1163520"/>
            <a:ext cx="268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walk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read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play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watch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listen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run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宋体"/>
              </a:rPr>
              <a:t>n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swim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宋体"/>
              </a:rPr>
              <a:t>m</a:t>
            </a: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danc</a:t>
            </a:r>
            <a:r>
              <a:rPr b="1" lang="zh-CN" sz="36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26880" y="476280"/>
            <a:ext cx="37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喜欢跳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你喜欢唱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们喜欢跑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你们喜欢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喜欢玩电脑游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86280" y="476280"/>
            <a:ext cx="3876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 like danc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You like sing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We like run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  <a:ea typeface="宋体"/>
              </a:rPr>
              <a:t>n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You like swim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  <a:ea typeface="宋体"/>
              </a:rPr>
              <a:t>m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22936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 like play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  <a:ea typeface="宋体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computer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3311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istening to mus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2060640"/>
            <a:ext cx="331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playing 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357720"/>
            <a:ext cx="331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reading  a 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3429000"/>
            <a:ext cx="30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talking to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writing  a  le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4653000"/>
            <a:ext cx="367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doing my home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cademy Engraved LET"/>
              </a:rPr>
              <a:t>     </a:t>
            </a:r>
            <a:r>
              <a:rPr b="1" lang="en-US" sz="9600" spc="-1" strike="noStrike">
                <a:solidFill>
                  <a:srgbClr val="333399"/>
                </a:solidFill>
                <a:latin typeface="Times New Roman"/>
                <a:ea typeface="Gungsuh"/>
              </a:rPr>
              <a:t>bye-by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2997360"/>
            <a:ext cx="356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8000" y="259920"/>
            <a:ext cx="46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        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      wri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      liste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      rea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ch     watc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         talk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y        pla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"/>
              </a:rPr>
              <a:t>listening 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852640"/>
            <a:ext cx="331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"/>
                <a:ea typeface="宋体"/>
              </a:rPr>
              <a:t>r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14842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  <a:ea typeface="Gungsuh"/>
              </a:rPr>
              <a:t>—— </a:t>
            </a:r>
            <a:r>
              <a:rPr b="0" lang="zh-CN" sz="5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97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  <a:ea typeface="Gungsuh"/>
              </a:rPr>
              <a:t>—— </a:t>
            </a:r>
            <a:r>
              <a:rPr b="0" lang="zh-CN" sz="5400" spc="-1" strike="noStrike">
                <a:solidFill>
                  <a:srgbClr val="000000"/>
                </a:solidFill>
                <a:latin typeface="Arial Black"/>
                <a:ea typeface="楷体_GB2312"/>
              </a:rPr>
              <a:t>阅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99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799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99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99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32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  <a:ea typeface="Gungsuh"/>
              </a:rPr>
              <a:t>g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5084640"/>
            <a:ext cx="106848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1071360" cy="108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132000" y="3573360"/>
            <a:ext cx="1089000" cy="115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284720" y="2852640"/>
            <a:ext cx="1081080" cy="1074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92720" y="2133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1484280"/>
            <a:ext cx="10652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67327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What  are  you 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4341960" cy="4394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03280" y="1988640"/>
            <a:ext cx="4140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I’m  playing  foot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4330800" cy="439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0"/>
            <a:ext cx="6732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  <a:ea typeface="宋体"/>
              </a:rPr>
              <a:t>What  are  you 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1989000"/>
            <a:ext cx="41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I’m  playing  basket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4556160" cy="4829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79640" y="0"/>
            <a:ext cx="6732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  <a:ea typeface="宋体"/>
              </a:rPr>
              <a:t>What  are  you 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1700280"/>
            <a:ext cx="414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I’m  pla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table tenni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608360" cy="458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79640" y="0"/>
            <a:ext cx="6732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  <a:ea typeface="宋体"/>
              </a:rPr>
              <a:t>What  are  you 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1628640"/>
            <a:ext cx="43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I’m swimm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79640" y="0"/>
            <a:ext cx="6732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  <a:ea typeface="宋体"/>
              </a:rPr>
              <a:t>What  are  you 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1268280"/>
            <a:ext cx="47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宋体"/>
              </a:rPr>
              <a:t>I’m  doing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morning exerci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3:04:45Z</dcterms:created>
  <dc:creator>admin</dc:creator>
  <dc:description/>
  <cp:keywords/>
  <dc:language>en-US</dc:language>
  <cp:lastModifiedBy>微软用户</cp:lastModifiedBy>
  <dcterms:modified xsi:type="dcterms:W3CDTF">2016-07-25T09:13:41Z</dcterms:modified>
  <cp:revision>64</cp:revision>
  <dc:subject/>
  <dc:title>外研社新课标版小学英语第三册 MODULE 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