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C595-C2AC-4C78-9ABA-A47FF4D2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ABE2-9226-4FB7-8B1B-27452A82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70D9F-8C05-4DF5-B925-8D7FBDE1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561B6-6249-434E-8716-88218BD8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D0127-55D7-45BD-BB4E-98A4952C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83D53-788A-48B6-B300-2A94E3EC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F7726-7619-4FC6-9F70-32D08241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44D0C-4980-4D77-969C-9AB630B3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C0E5B-A3A8-43AD-BDC0-52302E47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CA7FB-B2A0-4842-AE0F-7D448600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DE7DE-B330-4FEE-B033-A831EEAD7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E5AC9-E8EE-494B-8C57-D3A0EF6C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911E-95A9-44AD-84F4-79D7EDA5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15DC2-271C-4F7F-AD3B-986E9785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22F1B-AAE8-47B4-921C-16813405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8DA5E-2652-4EA8-BAB9-32511A2A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4EE5F-A7F2-4078-99D9-E70C4C79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A2F70-1C1C-4F32-9B4E-7918245C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769F4-B060-4706-9A30-F12FB2B8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3AA88-E1EA-4704-B54D-79DB8E70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2497D-2278-48E0-8F9E-F40F7DDC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E85B5-2F38-4437-B778-E5632206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F71F9-AAAA-4B4A-A77A-2D9EF5D3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7548-C3BC-4607-B944-09E7B2FA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11605-F27E-4BB5-A6E2-55B4939A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DF973-20C0-4CB3-99B1-BB8BCC90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86933-F62C-481D-85B5-EC7C73DC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3E60A-A72F-44C3-8E7A-FAB87553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FA2A6-E946-4FB3-86CF-DAA73217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1DD9B-0363-448F-8477-1858E653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49DB2-2648-44D2-AB96-D4889667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6E35B-3AEC-43FC-BBB6-A760C885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75DCF-9712-4C31-AD15-16503E2C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340DB-FFDD-4CAE-97BD-7FC6EE54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D98F-8648-41E8-8FCB-3D618329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8728B-AC44-4BD9-BB53-028FD49B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500E8-7598-412D-8F89-4DD0480C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1E64E-93A8-4987-9201-3ACA31CA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59F99-7EFC-4850-8514-2421C89A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00349-8012-4332-A167-C82F537E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F724D-78E0-46A3-A8A6-DF9C2BAE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2CCE82-BC4D-4DB9-8C9F-2E2783D4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93991-224A-43CA-B290-2BAE087E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C070B-042E-4E8E-84CA-5ED7B57A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EA06F-AADE-4052-9DC7-83AD1E3B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E352-4557-4F95-80F6-D6575A97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E2240-B345-43B1-AAAA-5F3F76A1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09357-2008-4614-88D1-B7CE4F09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C3D0E-6358-414B-B9D9-9A54B434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9BA12-E055-42DD-9C58-E65D7FAD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8471C-874B-4830-8373-FAE85CB6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DF76-B5E0-4A80-BDD7-AD1D9E94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DB81-7853-4398-A2AB-9596C0B7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7AC3-F3E3-45D2-ABE0-2E2361A9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9E13-5ED4-4B7C-B58C-303CF8D4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D638-8DD7-4EEF-9911-59CCDD22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E696-6638-4325-860B-8C6E87DC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665D-FA86-4840-9ECA-C14801FF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B391-8623-4E23-AE2B-A40F4A44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5F65-9A5F-43A0-9DDB-6ECB82D4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4947-0CF3-476A-9436-18FBEEDA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4053-C454-4920-B086-4AED45A5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5B62B-C8D8-4DB8-8B57-E70A2124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23281-2538-4D11-A9DE-AA66A99A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CC6CE-1A82-469B-BDAE-3E184653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370F1-7693-4AFD-946C-47136F53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82632-16C2-47E5-BE6B-79B5E293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FBD9-151E-430B-97BD-D9EB0DDF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9DDAF-DF4E-40DA-A86E-E14273BC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E2CF3-1C23-4C3C-880B-7DD956F4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E8D35-5587-488A-9579-B52714D2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FB3D1-A25A-4AB5-B8B8-BB35C424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17AFC-38EF-4DD1-AFFB-964402B3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47650-3293-4E8E-B32C-444D023D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4639F-88C0-4F8F-BCC5-77C7B034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C40A6-596F-481B-A6FE-D9C5CE57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E70B7-5811-48DB-95DE-8BA5F2EF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456D5-F2A1-40E0-98F9-24F03EC3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661B-1F2D-4048-B446-55D22D85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D358D-439D-4469-B07B-50DCEEB3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526C5-5F64-401C-A1A2-40CE936F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D4A32-05E1-4964-B6B0-6643646F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D9232-600A-453E-84C2-151301A5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C6B10-75AB-4D1F-A651-C3236F28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C03BB-E50A-46D2-ADBE-B885B4F5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D1585-DB37-4B45-B383-1BB012FB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EC08D-737B-4871-97AC-29A0A195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FE2A8-00A7-4C0D-A9BF-990DF04B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D430E-3D9D-402E-B9B9-290B317D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3009-EAF2-4376-B224-92904D44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EFF67-A516-4B50-9B30-4C3B1B1B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873AE-FF75-467D-982D-2896B678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F90C6-8ADF-4236-9C87-F2D84605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C2F42-4542-462E-AEF7-060530AF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E123D-046A-4228-B748-4258B1E7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77339-63B1-4106-9A3B-C6B0331B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33FCF-AAD3-4A27-A724-7A939838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BCFD6-C4D6-4C01-A19F-B490BE3D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A6AE1-89BE-40AF-BF83-E500BA1B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97FFC-C209-4361-9943-3554E637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BE21-C320-4BC0-83AA-4FAA905F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BF1E2-F2F8-4AB5-A700-BC0BA0DE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395DC-F461-4BE5-ABB2-52F17545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89478-D8A9-412E-AAB9-37E4D47C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B4D90-04EE-4051-B9A3-50312824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8102A-D640-4A9F-9F1B-B4C6342C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82582-D312-4E20-9D35-B2BC1A57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2D042-702A-4F52-8CB2-36F30CF7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26F1B-3585-4769-9B68-BFC03202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5EA9E-F8A7-45F8-B6FF-C09DEA67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FFDC9-86C4-464F-9459-5B25C27D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A957-EC10-42B2-98DB-65190509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16FAC-9445-4E5D-B505-E114165E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60A16-E753-4AF7-95D4-6A63ADB2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51C7C-80CB-4546-AF14-222BAA5E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D1F20-9928-4694-B986-2F8F5289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CAE95-E46D-4147-932A-24DA349D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CD4AC-E256-439C-A856-7BAA6560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95930-D7B3-4DB0-A6B6-0DCF27AD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CFBB3-17D6-4305-AF25-2F1554F9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D8345-7110-48A0-9203-F41AE898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117F4-5E30-4A45-8EA3-29E9190E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E9EB-2F1A-4316-B367-0F360D64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1F99D-7890-4777-86CE-59D97128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DD90C-ACF5-42D2-9CF1-1D1A1150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80023-B8C0-46AD-9353-2524D1C6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58AED-785F-4A63-880E-9CAA7BF2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C0D80-DB6B-42D4-BD6E-1017E8D7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C3574-6FD9-41F7-826C-AD6F6ECD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13092-2E68-4F7D-9697-68379AD2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6EBED-80BE-47E9-AB3A-7EFCFCCE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890FE-E501-4463-9502-D62A92B1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A59B7-1BE7-40E3-B7F9-E754ED8C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2B44-8499-484D-A99A-CA5DBBAA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5B008-ECA6-4808-8E1F-7A7A56D0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E3DB3-2DFE-4E32-94DD-CFBA672B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DFACF-9646-448B-9671-7EBD727B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3B0EC-6A12-4FA3-A9C4-22C343F4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2301F-1E10-49CD-86DD-5A2611B1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E6868-895F-4F93-B00F-C45FC0ED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0674C-0F7A-4FE1-8153-3F4458C0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5549A-0366-4E07-AA8B-254AA39F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7693E-7CDC-4454-A210-7C299E80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617FA-9672-4DBD-B54C-78604E9C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3D2E-81E2-449E-9ADA-A555B4D1709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A584-B7E3-4EAF-9695-D75EF2E1BD0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E2BA-438D-4E8D-B51D-880E97DE373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52AB-D5FE-4DF4-88E9-986158908F6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4656-57A5-422E-8EE9-A5CDF681F23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1777-130D-467F-B41E-94807D33D43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7023-C575-4867-B051-277771850F7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F717-068F-429A-8B29-680CD37227D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5E7D-04C0-444B-8E03-D653C2AC36F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EE6C-DEE1-4499-B4A9-1B29002AC34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6B5A-DB8B-4537-95B9-1EAE3B69DFF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142A-594B-413F-B4E7-521443BC73F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F0A5-F335-468E-85E1-31038EF8FB7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911C-9D54-4D52-9CCA-D988392E393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3FDE-C5D2-41DF-9392-9A4532DE3C0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556A-E0BF-49A9-A143-AF11A405DC0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2CE2-2BE1-47D3-8A0D-18C34F97FC8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6E38-EC6D-4F05-B807-94C31B36D09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146E-3A8E-478F-A10B-96F327302E9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3B99-A437-4ABC-AA93-D858A89B810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4843-FD4F-44CA-BB1E-69F79B78924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08AF-FEC4-410C-9757-7B80879072C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619B-6880-4FFC-A6F4-BD87A80D663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B176-4B9A-435C-B44D-DC4329DDCDD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272,9,&#24187;&#28783;&#29255; 9" TargetMode="External"/><Relationship Id="rId2" Type="http://schemas.openxmlformats.org/officeDocument/2006/relationships/hyperlink" Target="266,10,&#24187;&#28783;&#29255; 10" TargetMode="External"/><Relationship Id="rId3" Type="http://schemas.openxmlformats.org/officeDocument/2006/relationships/hyperlink" Target="275,12,&#24187;&#28783;&#29255; 12" TargetMode="External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Box 2"/>
          <p:cNvSpPr/>
          <p:nvPr/>
        </p:nvSpPr>
        <p:spPr>
          <a:xfrm>
            <a:off x="2571840" y="3857760"/>
            <a:ext cx="4143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2298240" y="1916280"/>
            <a:ext cx="4714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Arial Black"/>
                <a:ea typeface="微软雅黑"/>
              </a:rPr>
              <a:t>Unit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Arial Black"/>
                <a:ea typeface="微软雅黑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Lesson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What day i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121B-7EC2-4B46-A0ED-32B5E540A91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" descr="U_2877~1"/>
          <p:cNvPicPr/>
          <p:nvPr/>
        </p:nvPicPr>
        <p:blipFill>
          <a:blip r:embed="rId1"/>
          <a:stretch/>
        </p:blipFill>
        <p:spPr>
          <a:xfrm>
            <a:off x="250920" y="403200"/>
            <a:ext cx="4033800" cy="301932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6"/>
          <p:cNvSpPr/>
          <p:nvPr/>
        </p:nvSpPr>
        <p:spPr>
          <a:xfrm>
            <a:off x="4759200" y="1989000"/>
            <a:ext cx="28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It’s 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8" descr="200810~1"/>
          <p:cNvPicPr/>
          <p:nvPr/>
        </p:nvPicPr>
        <p:blipFill>
          <a:blip r:embed="rId2"/>
          <a:srcRect l="0" t="0" r="0" b="7863"/>
          <a:stretch/>
        </p:blipFill>
        <p:spPr>
          <a:xfrm>
            <a:off x="3924360" y="3141720"/>
            <a:ext cx="4406760" cy="2973240"/>
          </a:xfrm>
          <a:prstGeom prst="rect">
            <a:avLst/>
          </a:prstGeom>
          <a:ln w="0">
            <a:noFill/>
          </a:ln>
        </p:spPr>
      </p:pic>
      <p:sp>
        <p:nvSpPr>
          <p:cNvPr id="555" name="Oval 9"/>
          <p:cNvSpPr/>
          <p:nvPr/>
        </p:nvSpPr>
        <p:spPr>
          <a:xfrm>
            <a:off x="4932360" y="4005360"/>
            <a:ext cx="504720" cy="43164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16"/>
          <p:cNvSpPr/>
          <p:nvPr/>
        </p:nvSpPr>
        <p:spPr>
          <a:xfrm>
            <a:off x="4932360" y="5013360"/>
            <a:ext cx="504720" cy="43164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8"/>
          <p:cNvSpPr/>
          <p:nvPr/>
        </p:nvSpPr>
        <p:spPr>
          <a:xfrm>
            <a:off x="5495760" y="191628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Book Antiqua"/>
              </a:rPr>
              <a:t>Mon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"/>
                            </p:stCondLst>
                            <p:childTnLst>
                              <p:par>
                                <p:cTn id="12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2B5F-C625-4925-9A39-610CD7DE190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4" descr="10DFA9~1"/>
          <p:cNvPicPr/>
          <p:nvPr/>
        </p:nvPicPr>
        <p:blipFill>
          <a:blip r:embed="rId1"/>
          <a:stretch/>
        </p:blipFill>
        <p:spPr>
          <a:xfrm>
            <a:off x="250920" y="18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5" descr="201012~1"/>
          <p:cNvPicPr/>
          <p:nvPr/>
        </p:nvPicPr>
        <p:blipFill>
          <a:blip r:embed="rId2"/>
          <a:stretch/>
        </p:blipFill>
        <p:spPr>
          <a:xfrm>
            <a:off x="4067280" y="3068640"/>
            <a:ext cx="4514760" cy="2708280"/>
          </a:xfrm>
          <a:prstGeom prst="rect">
            <a:avLst/>
          </a:prstGeom>
          <a:ln w="0">
            <a:noFill/>
          </a:ln>
        </p:spPr>
      </p:pic>
      <p:sp>
        <p:nvSpPr>
          <p:cNvPr id="561" name="Oval 6"/>
          <p:cNvSpPr/>
          <p:nvPr/>
        </p:nvSpPr>
        <p:spPr>
          <a:xfrm>
            <a:off x="1185840" y="1557360"/>
            <a:ext cx="432000" cy="43164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7"/>
          <p:cNvSpPr/>
          <p:nvPr/>
        </p:nvSpPr>
        <p:spPr>
          <a:xfrm>
            <a:off x="4861080" y="4149720"/>
            <a:ext cx="574560" cy="43164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4471920" y="1628640"/>
            <a:ext cx="28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It’s 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5206680" y="158580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Book Antiqua"/>
              </a:rPr>
              <a:t>Mon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6E7C-B77F-4ECD-B43E-01F65B9E596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5" descr="449963~1"/>
          <p:cNvPicPr/>
          <p:nvPr/>
        </p:nvPicPr>
        <p:blipFill>
          <a:blip r:embed="rId1"/>
          <a:srcRect l="0" t="0" r="0" b="5085"/>
          <a:stretch/>
        </p:blipFill>
        <p:spPr>
          <a:xfrm>
            <a:off x="0" y="763560"/>
            <a:ext cx="3718080" cy="53053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7" descr="101121~1"/>
          <p:cNvPicPr/>
          <p:nvPr/>
        </p:nvPicPr>
        <p:blipFill>
          <a:blip r:embed="rId2"/>
          <a:srcRect l="0" t="0" r="0" b="5554"/>
          <a:stretch/>
        </p:blipFill>
        <p:spPr>
          <a:xfrm>
            <a:off x="3924360" y="3068640"/>
            <a:ext cx="4948200" cy="3267000"/>
          </a:xfrm>
          <a:prstGeom prst="rect">
            <a:avLst/>
          </a:prstGeom>
          <a:ln w="0">
            <a:noFill/>
          </a:ln>
        </p:spPr>
      </p:pic>
      <p:sp>
        <p:nvSpPr>
          <p:cNvPr id="568" name="Oval 8"/>
          <p:cNvSpPr/>
          <p:nvPr/>
        </p:nvSpPr>
        <p:spPr>
          <a:xfrm>
            <a:off x="7453440" y="4870440"/>
            <a:ext cx="503280" cy="3603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4527360" y="1771560"/>
            <a:ext cx="333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It’s 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10"/>
          <p:cNvSpPr/>
          <p:nvPr/>
        </p:nvSpPr>
        <p:spPr>
          <a:xfrm>
            <a:off x="7453440" y="5446800"/>
            <a:ext cx="503280" cy="3603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1"/>
          <p:cNvSpPr/>
          <p:nvPr/>
        </p:nvSpPr>
        <p:spPr>
          <a:xfrm>
            <a:off x="5187960" y="177156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Book Antiqua"/>
              </a:rPr>
              <a:t>Thurs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6854-2E7E-45CE-A4EF-6760076190D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" descr="6843_0~1"/>
          <p:cNvPicPr/>
          <p:nvPr/>
        </p:nvPicPr>
        <p:blipFill>
          <a:blip r:embed="rId1"/>
          <a:srcRect l="0" t="6678" r="0" b="0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6"/>
          <p:cNvSpPr/>
          <p:nvPr/>
        </p:nvSpPr>
        <p:spPr>
          <a:xfrm>
            <a:off x="4975200" y="2924280"/>
            <a:ext cx="28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It’s 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8"/>
          <p:cNvSpPr/>
          <p:nvPr/>
        </p:nvSpPr>
        <p:spPr>
          <a:xfrm>
            <a:off x="754200" y="1555920"/>
            <a:ext cx="649080" cy="6490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9"/>
          <p:cNvSpPr/>
          <p:nvPr/>
        </p:nvSpPr>
        <p:spPr>
          <a:xfrm>
            <a:off x="2266920" y="2565360"/>
            <a:ext cx="649440" cy="64944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10"/>
          <p:cNvSpPr/>
          <p:nvPr/>
        </p:nvSpPr>
        <p:spPr>
          <a:xfrm>
            <a:off x="1114560" y="3213000"/>
            <a:ext cx="649080" cy="64944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11"/>
          <p:cNvSpPr/>
          <p:nvPr/>
        </p:nvSpPr>
        <p:spPr>
          <a:xfrm>
            <a:off x="1906560" y="979560"/>
            <a:ext cx="649440" cy="6490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12"/>
          <p:cNvSpPr/>
          <p:nvPr/>
        </p:nvSpPr>
        <p:spPr>
          <a:xfrm>
            <a:off x="104760" y="2276640"/>
            <a:ext cx="649440" cy="6490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3"/>
          <p:cNvSpPr/>
          <p:nvPr/>
        </p:nvSpPr>
        <p:spPr>
          <a:xfrm rot="20683800">
            <a:off x="2987280" y="3717720"/>
            <a:ext cx="51865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Book Antiqua"/>
              </a:rPr>
              <a:t>        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Sunday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Thur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Fr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Tue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Mon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Wedne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  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Satur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55D9-8A49-43FA-8AB9-8D1C575F294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1762200" y="1052640"/>
            <a:ext cx="648180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Sunday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Thurs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             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Fri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Tues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                   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Mon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Wednes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                       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Satur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WordArt 6"/>
          <p:cNvSpPr txBox="1"/>
          <p:nvPr/>
        </p:nvSpPr>
        <p:spPr>
          <a:xfrm>
            <a:off x="177840" y="260280"/>
            <a:ext cx="3673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Sharp eyes</a:t>
            </a:r>
            <a:endParaRPr b="1" lang="en-US" sz="32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77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77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dur="indefinite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" dur="10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dur="indefinite" nodeType="afterEffect" fill="hold" presetClass="exit" presetID="5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0" dur="100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dur="indefinite" nodeType="after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10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dur="indefinite" nodeType="afterEffect" fill="hold" presetClass="exit" presetID="16" presetSubtype="42">
                                  <p:stCondLst>
                                    <p:cond delay="0"/>
                                  </p:stCondLst>
                                  <p:childTnLst>
                                    <p:animEffect filter="barn(outHorizontal)" transition="out">
                                      <p:cBhvr additive="repl">
                                        <p:cTn id="295" dur="10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20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dur="indefinite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8E02-CE6F-4D3E-997F-AF61AEB1A809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WordArt 4"/>
          <p:cNvSpPr txBox="1"/>
          <p:nvPr/>
        </p:nvSpPr>
        <p:spPr>
          <a:xfrm>
            <a:off x="177840" y="260280"/>
            <a:ext cx="47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isten and fill.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1545840" y="1339920"/>
            <a:ext cx="66992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1.Liming :I like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We have______on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2.Guoyang : I like_______ and________.We have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3.Tom : I like_______and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4311720" y="1339920"/>
            <a:ext cx="209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Book Antiqua"/>
              </a:rPr>
              <a:t>Wedne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3650760" y="1955880"/>
            <a:ext cx="11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Book Antiqua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9"/>
          <p:cNvSpPr/>
          <p:nvPr/>
        </p:nvSpPr>
        <p:spPr>
          <a:xfrm>
            <a:off x="5189760" y="1916280"/>
            <a:ext cx="209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Book Antiqua"/>
              </a:rPr>
              <a:t>Wedne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0"/>
          <p:cNvSpPr/>
          <p:nvPr/>
        </p:nvSpPr>
        <p:spPr>
          <a:xfrm>
            <a:off x="4765320" y="254952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Book Antiqua"/>
              </a:rPr>
              <a:t>Tue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1"/>
          <p:cNvSpPr/>
          <p:nvPr/>
        </p:nvSpPr>
        <p:spPr>
          <a:xfrm>
            <a:off x="3075840" y="2997360"/>
            <a:ext cx="1201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Book Antiqua"/>
                <a:hlinkClick r:id="rId1"/>
              </a:rPr>
              <a:t>Fri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2"/>
          <p:cNvSpPr/>
          <p:nvPr/>
        </p:nvSpPr>
        <p:spPr>
          <a:xfrm>
            <a:off x="6216840" y="3021120"/>
            <a:ext cx="13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Book Antiqua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3983760" y="3557520"/>
            <a:ext cx="1535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Mon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6173640" y="3573360"/>
            <a:ext cx="1733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Book Antiqua"/>
                <a:hlinkClick r:id="rId3"/>
              </a:rPr>
              <a:t>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"/>
                            </p:stCondLst>
                            <p:childTnLst>
                              <p:par>
                                <p:cTn id="3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图片 2" descr=""/>
          <p:cNvPicPr/>
          <p:nvPr/>
        </p:nvPicPr>
        <p:blipFill>
          <a:blip r:embed="rId1"/>
          <a:stretch/>
        </p:blipFill>
        <p:spPr>
          <a:xfrm>
            <a:off x="1428840" y="500040"/>
            <a:ext cx="1323720" cy="47628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3" descr=""/>
          <p:cNvPicPr/>
          <p:nvPr/>
        </p:nvPicPr>
        <p:blipFill>
          <a:blip r:embed="rId2"/>
          <a:stretch/>
        </p:blipFill>
        <p:spPr>
          <a:xfrm>
            <a:off x="2786040" y="571680"/>
            <a:ext cx="1324080" cy="475920"/>
          </a:xfrm>
          <a:prstGeom prst="rect">
            <a:avLst/>
          </a:prstGeom>
          <a:ln w="0">
            <a:noFill/>
          </a:ln>
        </p:spPr>
      </p:pic>
      <p:pic>
        <p:nvPicPr>
          <p:cNvPr id="597" name="图片 4" descr=""/>
          <p:cNvPicPr/>
          <p:nvPr/>
        </p:nvPicPr>
        <p:blipFill>
          <a:blip r:embed="rId3"/>
          <a:stretch/>
        </p:blipFill>
        <p:spPr>
          <a:xfrm>
            <a:off x="407196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5" descr=""/>
          <p:cNvPicPr/>
          <p:nvPr/>
        </p:nvPicPr>
        <p:blipFill>
          <a:blip r:embed="rId4"/>
          <a:stretch/>
        </p:blipFill>
        <p:spPr>
          <a:xfrm>
            <a:off x="535788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6" descr=""/>
          <p:cNvPicPr/>
          <p:nvPr/>
        </p:nvPicPr>
        <p:blipFill>
          <a:blip r:embed="rId5"/>
          <a:stretch/>
        </p:blipFill>
        <p:spPr>
          <a:xfrm>
            <a:off x="6572160" y="500040"/>
            <a:ext cx="1324080" cy="47628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1402920" y="1915920"/>
            <a:ext cx="663588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  <a:ea typeface="幼圆"/>
              </a:rPr>
              <a:t>询问及回答今天是周几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 Box 13"/>
          <p:cNvSpPr/>
          <p:nvPr/>
        </p:nvSpPr>
        <p:spPr>
          <a:xfrm>
            <a:off x="1445040" y="1123920"/>
            <a:ext cx="15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MS Mincho"/>
              </a:rPr>
              <a:t>Tip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4"/>
          <p:cNvSpPr/>
          <p:nvPr/>
        </p:nvSpPr>
        <p:spPr>
          <a:xfrm>
            <a:off x="2442600" y="2637000"/>
            <a:ext cx="471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What day i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5"/>
          <p:cNvSpPr/>
          <p:nvPr/>
        </p:nvSpPr>
        <p:spPr>
          <a:xfrm>
            <a:off x="2886120" y="3429000"/>
            <a:ext cx="28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It’s 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44B5-981A-4541-B3A7-42980FE780F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690560" y="1844640"/>
            <a:ext cx="620424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  <a:ea typeface="幼圆"/>
              </a:rPr>
              <a:t>谈论周一到周五的课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幼圆"/>
              </a:rPr>
              <a:t>We have…… on ________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1445040" y="1123920"/>
            <a:ext cx="15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MS Mincho"/>
              </a:rPr>
              <a:t>Tip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7"/>
          <p:cNvSpPr/>
          <p:nvPr/>
        </p:nvSpPr>
        <p:spPr>
          <a:xfrm>
            <a:off x="3945600" y="3860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课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8"/>
          <p:cNvSpPr/>
          <p:nvPr/>
        </p:nvSpPr>
        <p:spPr>
          <a:xfrm>
            <a:off x="6250680" y="3860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周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9"/>
          <p:cNvSpPr/>
          <p:nvPr/>
        </p:nvSpPr>
        <p:spPr>
          <a:xfrm>
            <a:off x="4284720" y="3573360"/>
            <a:ext cx="0" cy="360360"/>
          </a:xfrm>
          <a:prstGeom prst="line">
            <a:avLst/>
          </a:prstGeom>
          <a:ln w="57240">
            <a:solidFill>
              <a:srgbClr val="ff33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0"/>
          <p:cNvSpPr/>
          <p:nvPr/>
        </p:nvSpPr>
        <p:spPr>
          <a:xfrm>
            <a:off x="6445080" y="3573360"/>
            <a:ext cx="0" cy="360360"/>
          </a:xfrm>
          <a:prstGeom prst="line">
            <a:avLst/>
          </a:prstGeom>
          <a:ln w="57240">
            <a:solidFill>
              <a:srgbClr val="ff33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D4E0-E9C0-438B-A3C8-664C9F08078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542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I like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1403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We have……on______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WordArt 6"/>
          <p:cNvSpPr txBox="1"/>
          <p:nvPr/>
        </p:nvSpPr>
        <p:spPr>
          <a:xfrm>
            <a:off x="393840" y="547560"/>
            <a:ext cx="2952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Let's talk.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DE31-ABB5-4B3D-A3F1-3F3B964D341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 Black"/>
              </a:rPr>
              <a:t>Days of the w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618920" y="1195200"/>
            <a:ext cx="59785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Sund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Mond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Tuesd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Wednesd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Thursd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Frid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Saturd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5437080" y="1123920"/>
            <a:ext cx="14828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Su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Mo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Tu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We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Thu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Fri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S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500"/>
                            </p:stCondLst>
                            <p:childTnLst>
                              <p:par>
                                <p:cTn id="45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3000"/>
                            </p:stCondLst>
                            <p:childTnLst>
                              <p:par>
                                <p:cTn id="46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6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2295-96F8-442C-8FD9-8F8C2F918F7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1" descr=""/>
          <p:cNvPicPr/>
          <p:nvPr/>
        </p:nvPicPr>
        <p:blipFill>
          <a:blip r:embed="rId1"/>
          <a:stretch/>
        </p:blipFill>
        <p:spPr>
          <a:xfrm>
            <a:off x="185724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496" name="图片 2" descr=""/>
          <p:cNvPicPr/>
          <p:nvPr/>
        </p:nvPicPr>
        <p:blipFill>
          <a:blip r:embed="rId2"/>
          <a:stretch/>
        </p:blipFill>
        <p:spPr>
          <a:xfrm>
            <a:off x="3214800" y="571680"/>
            <a:ext cx="1323720" cy="475920"/>
          </a:xfrm>
          <a:prstGeom prst="rect">
            <a:avLst/>
          </a:prstGeom>
          <a:ln w="0">
            <a:noFill/>
          </a:ln>
        </p:spPr>
      </p:pic>
      <p:pic>
        <p:nvPicPr>
          <p:cNvPr id="497" name="图片 3" descr=""/>
          <p:cNvPicPr/>
          <p:nvPr/>
        </p:nvPicPr>
        <p:blipFill>
          <a:blip r:embed="rId3"/>
          <a:stretch/>
        </p:blipFill>
        <p:spPr>
          <a:xfrm>
            <a:off x="4500720" y="500040"/>
            <a:ext cx="1323720" cy="476280"/>
          </a:xfrm>
          <a:prstGeom prst="rect">
            <a:avLst/>
          </a:prstGeom>
          <a:ln w="0">
            <a:noFill/>
          </a:ln>
        </p:spPr>
      </p:pic>
      <p:pic>
        <p:nvPicPr>
          <p:cNvPr id="498" name="图片 4" descr=""/>
          <p:cNvPicPr/>
          <p:nvPr/>
        </p:nvPicPr>
        <p:blipFill>
          <a:blip r:embed="rId4"/>
          <a:stretch/>
        </p:blipFill>
        <p:spPr>
          <a:xfrm>
            <a:off x="578628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499" name="图片 5" descr=""/>
          <p:cNvPicPr/>
          <p:nvPr/>
        </p:nvPicPr>
        <p:blipFill>
          <a:blip r:embed="rId5"/>
          <a:stretch/>
        </p:blipFill>
        <p:spPr>
          <a:xfrm>
            <a:off x="700092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7" descr="台历"/>
          <p:cNvPicPr/>
          <p:nvPr/>
        </p:nvPicPr>
        <p:blipFill>
          <a:blip r:embed="rId6"/>
          <a:srcRect l="0" t="5478" r="0" b="0"/>
          <a:stretch/>
        </p:blipFill>
        <p:spPr>
          <a:xfrm>
            <a:off x="1258920" y="1903320"/>
            <a:ext cx="6986520" cy="473256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8"/>
          <p:cNvSpPr/>
          <p:nvPr/>
        </p:nvSpPr>
        <p:spPr>
          <a:xfrm>
            <a:off x="1762200" y="1555920"/>
            <a:ext cx="1441440" cy="4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9"/>
          <p:cNvSpPr/>
          <p:nvPr/>
        </p:nvSpPr>
        <p:spPr>
          <a:xfrm>
            <a:off x="1598400" y="1195560"/>
            <a:ext cx="611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What </a:t>
            </a:r>
            <a:r>
              <a:rPr b="1" i="1" lang="en-US" sz="4000" spc="-1" strike="noStrike">
                <a:solidFill>
                  <a:srgbClr val="ff3300"/>
                </a:solidFill>
                <a:latin typeface="Book Antiqua"/>
              </a:rPr>
              <a:t>day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is today?</a:t>
            </a:r>
            <a:r>
              <a:rPr b="1" lang="zh-CN" sz="2800" spc="-1" strike="noStrike">
                <a:solidFill>
                  <a:srgbClr val="000000"/>
                </a:solidFill>
                <a:latin typeface="Book Antiqua"/>
                <a:ea typeface="宋体"/>
              </a:rPr>
              <a:t>今天星期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0"/>
          <p:cNvSpPr/>
          <p:nvPr/>
        </p:nvSpPr>
        <p:spPr>
          <a:xfrm>
            <a:off x="1216080" y="1700280"/>
            <a:ext cx="317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It’s </a:t>
            </a:r>
            <a:r>
              <a:rPr b="1" i="1" lang="en-US" sz="4000" spc="-1" strike="noStrike">
                <a:solidFill>
                  <a:srgbClr val="ff3300"/>
                </a:solidFill>
                <a:latin typeface="Book Antiqua"/>
              </a:rPr>
              <a:t>Tuesday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13"/>
          <p:cNvSpPr/>
          <p:nvPr/>
        </p:nvSpPr>
        <p:spPr>
          <a:xfrm>
            <a:off x="4211640" y="4510080"/>
            <a:ext cx="720720" cy="43164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图片 48140" descr="1_131011114255_1"/>
          <p:cNvPicPr/>
          <p:nvPr/>
        </p:nvPicPr>
        <p:blipFill>
          <a:blip r:embed="rId7"/>
          <a:stretch/>
        </p:blipFill>
        <p:spPr>
          <a:xfrm rot="21426000">
            <a:off x="2478240" y="2708280"/>
            <a:ext cx="4930560" cy="3062160"/>
          </a:xfrm>
          <a:prstGeom prst="rect">
            <a:avLst/>
          </a:prstGeom>
          <a:ln w="0">
            <a:noFill/>
          </a:ln>
        </p:spPr>
      </p:pic>
      <p:sp>
        <p:nvSpPr>
          <p:cNvPr id="506" name="椭圆 48141"/>
          <p:cNvSpPr/>
          <p:nvPr/>
        </p:nvSpPr>
        <p:spPr>
          <a:xfrm>
            <a:off x="5364000" y="3860640"/>
            <a:ext cx="720720" cy="43344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http_imgload (4)"/>
          <p:cNvPicPr/>
          <p:nvPr/>
        </p:nvPicPr>
        <p:blipFill>
          <a:blip r:embed="rId1"/>
          <a:srcRect l="0" t="0" r="0" b="8786"/>
          <a:stretch/>
        </p:blipFill>
        <p:spPr>
          <a:xfrm>
            <a:off x="0" y="0"/>
            <a:ext cx="9144000" cy="626112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0" name="Picture 7" descr="C:\Documents and Settings\Administrator\桌面\DVD-RAM 驱动器 (H)\Unit 3\image\bigpic\课文图片\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511" name="椭圆 9"/>
          <p:cNvSpPr/>
          <p:nvPr/>
        </p:nvSpPr>
        <p:spPr>
          <a:xfrm>
            <a:off x="106200" y="331920"/>
            <a:ext cx="6915240" cy="20574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385d8a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day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is today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椭圆 10"/>
          <p:cNvSpPr/>
          <p:nvPr/>
        </p:nvSpPr>
        <p:spPr>
          <a:xfrm>
            <a:off x="4716360" y="2924280"/>
            <a:ext cx="4103640" cy="1447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t’s </a:t>
            </a: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Wednesda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椭圆 11"/>
          <p:cNvSpPr/>
          <p:nvPr/>
        </p:nvSpPr>
        <p:spPr>
          <a:xfrm>
            <a:off x="380880" y="4267080"/>
            <a:ext cx="5415120" cy="1752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k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Wednes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e have music on 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http_imgload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图片 4" descr="03.JPG"/>
          <p:cNvPicPr/>
          <p:nvPr/>
        </p:nvPicPr>
        <p:blipFill>
          <a:blip r:embed="rId2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椭圆 5"/>
          <p:cNvSpPr/>
          <p:nvPr/>
        </p:nvSpPr>
        <p:spPr>
          <a:xfrm>
            <a:off x="322200" y="115920"/>
            <a:ext cx="7635960" cy="1728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like </a:t>
            </a: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Tuesday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Friday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e have Engli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4" descr="http_imgload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图片 4" descr="0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椭圆 6"/>
          <p:cNvSpPr/>
          <p:nvPr/>
        </p:nvSpPr>
        <p:spPr>
          <a:xfrm>
            <a:off x="609480" y="380880"/>
            <a:ext cx="5403960" cy="11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28d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like 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Monday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and  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Thursday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椭圆 7"/>
          <p:cNvSpPr/>
          <p:nvPr/>
        </p:nvSpPr>
        <p:spPr>
          <a:xfrm>
            <a:off x="2987640" y="4572000"/>
            <a:ext cx="5186520" cy="137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28d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 too, We have Science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084B-7FEA-4FE8-B173-80478B2A50A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4" descr="02"/>
          <p:cNvPicPr/>
          <p:nvPr/>
        </p:nvPicPr>
        <p:blipFill>
          <a:blip r:embed="rId1"/>
          <a:stretch/>
        </p:blipFill>
        <p:spPr>
          <a:xfrm>
            <a:off x="2914560" y="2492280"/>
            <a:ext cx="3745080" cy="280836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5"/>
          <p:cNvSpPr/>
          <p:nvPr/>
        </p:nvSpPr>
        <p:spPr>
          <a:xfrm>
            <a:off x="1294200" y="1123920"/>
            <a:ext cx="38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Book Antiqua"/>
              </a:rPr>
              <a:t>What day is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WordArt 6"/>
          <p:cNvSpPr txBox="1"/>
          <p:nvPr/>
        </p:nvSpPr>
        <p:spPr>
          <a:xfrm>
            <a:off x="177840" y="260280"/>
            <a:ext cx="47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isten and answer.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4785840" y="1700280"/>
            <a:ext cx="31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It’s </a:t>
            </a:r>
            <a:r>
              <a:rPr b="1" i="1" lang="en-US" sz="3200" spc="-1" strike="noStrike">
                <a:solidFill>
                  <a:srgbClr val="ff3300"/>
                </a:solidFill>
                <a:latin typeface="Book Antiqua"/>
              </a:rPr>
              <a:t>Wednesday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A729-D53A-4610-8629-EB07928073E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50DA81~1"/>
          <p:cNvPicPr/>
          <p:nvPr/>
        </p:nvPicPr>
        <p:blipFill>
          <a:blip r:embed="rId1"/>
          <a:stretch/>
        </p:blipFill>
        <p:spPr>
          <a:xfrm>
            <a:off x="4716360" y="3284640"/>
            <a:ext cx="4427640" cy="3321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6" descr="111429~1"/>
          <p:cNvPicPr/>
          <p:nvPr/>
        </p:nvPicPr>
        <p:blipFill>
          <a:blip r:embed="rId2"/>
          <a:srcRect l="0" t="0" r="0" b="9767"/>
          <a:stretch/>
        </p:blipFill>
        <p:spPr>
          <a:xfrm>
            <a:off x="0" y="187200"/>
            <a:ext cx="5238720" cy="2776680"/>
          </a:xfrm>
          <a:prstGeom prst="rect">
            <a:avLst/>
          </a:prstGeom>
          <a:ln w="0">
            <a:noFill/>
          </a:ln>
        </p:spPr>
      </p:pic>
      <p:sp>
        <p:nvSpPr>
          <p:cNvPr id="533" name="Oval 7"/>
          <p:cNvSpPr/>
          <p:nvPr/>
        </p:nvSpPr>
        <p:spPr>
          <a:xfrm>
            <a:off x="2122560" y="1771560"/>
            <a:ext cx="431640" cy="432000"/>
          </a:xfrm>
          <a:prstGeom prst="ellips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8"/>
          <p:cNvSpPr/>
          <p:nvPr/>
        </p:nvSpPr>
        <p:spPr>
          <a:xfrm>
            <a:off x="6300720" y="5013360"/>
            <a:ext cx="504720" cy="43344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9"/>
          <p:cNvSpPr/>
          <p:nvPr/>
        </p:nvSpPr>
        <p:spPr>
          <a:xfrm>
            <a:off x="4903560" y="2205000"/>
            <a:ext cx="28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It’s 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0"/>
          <p:cNvSpPr/>
          <p:nvPr/>
        </p:nvSpPr>
        <p:spPr>
          <a:xfrm>
            <a:off x="5684040" y="2131920"/>
            <a:ext cx="234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Book Antiqua"/>
              </a:rPr>
              <a:t>Tues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0AF9-857F-4495-AB05-3FFEEA35689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5" descr="866288~1"/>
          <p:cNvPicPr/>
          <p:nvPr/>
        </p:nvPicPr>
        <p:blipFill>
          <a:blip r:embed="rId1"/>
          <a:srcRect l="0" t="0" r="0" b="4246"/>
          <a:stretch/>
        </p:blipFill>
        <p:spPr>
          <a:xfrm>
            <a:off x="0" y="0"/>
            <a:ext cx="4710240" cy="4510080"/>
          </a:xfrm>
          <a:prstGeom prst="rect">
            <a:avLst/>
          </a:prstGeom>
          <a:ln w="0">
            <a:noFill/>
          </a:ln>
        </p:spPr>
      </p:pic>
      <p:sp>
        <p:nvSpPr>
          <p:cNvPr id="539" name="Oval 6"/>
          <p:cNvSpPr/>
          <p:nvPr/>
        </p:nvSpPr>
        <p:spPr>
          <a:xfrm>
            <a:off x="3059280" y="3068640"/>
            <a:ext cx="431640" cy="43164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4975200" y="1700280"/>
            <a:ext cx="28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It’s 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5" descr="F636AF~1"/>
          <p:cNvPicPr/>
          <p:nvPr/>
        </p:nvPicPr>
        <p:blipFill>
          <a:blip r:embed="rId2"/>
          <a:stretch/>
        </p:blipFill>
        <p:spPr>
          <a:xfrm>
            <a:off x="4500720" y="3429000"/>
            <a:ext cx="4394160" cy="3295800"/>
          </a:xfrm>
          <a:prstGeom prst="rect">
            <a:avLst/>
          </a:prstGeom>
          <a:ln w="0">
            <a:noFill/>
          </a:ln>
        </p:spPr>
      </p:pic>
      <p:sp>
        <p:nvSpPr>
          <p:cNvPr id="542" name="Oval 11"/>
          <p:cNvSpPr/>
          <p:nvPr/>
        </p:nvSpPr>
        <p:spPr>
          <a:xfrm>
            <a:off x="6084720" y="4221000"/>
            <a:ext cx="432000" cy="432000"/>
          </a:xfrm>
          <a:prstGeom prst="ellips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6"/>
          <p:cNvSpPr/>
          <p:nvPr/>
        </p:nvSpPr>
        <p:spPr>
          <a:xfrm>
            <a:off x="5649120" y="1700280"/>
            <a:ext cx="319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Book Antiqua"/>
              </a:rPr>
              <a:t>Wednes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4E53-EF27-4742-BF3C-A322365F0A9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8" descr="8435E5~1"/>
          <p:cNvPicPr/>
          <p:nvPr/>
        </p:nvPicPr>
        <p:blipFill>
          <a:blip r:embed="rId1"/>
          <a:stretch/>
        </p:blipFill>
        <p:spPr>
          <a:xfrm>
            <a:off x="4427640" y="357336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0" descr="365132~1"/>
          <p:cNvPicPr/>
          <p:nvPr/>
        </p:nvPicPr>
        <p:blipFill>
          <a:blip r:embed="rId2"/>
          <a:srcRect l="0" t="0" r="0" b="7604"/>
          <a:stretch/>
        </p:blipFill>
        <p:spPr>
          <a:xfrm>
            <a:off x="322200" y="979560"/>
            <a:ext cx="3637080" cy="461952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11"/>
          <p:cNvSpPr/>
          <p:nvPr/>
        </p:nvSpPr>
        <p:spPr>
          <a:xfrm>
            <a:off x="4471920" y="2060640"/>
            <a:ext cx="28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It’s 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2"/>
          <p:cNvSpPr/>
          <p:nvPr/>
        </p:nvSpPr>
        <p:spPr>
          <a:xfrm>
            <a:off x="2771640" y="3860640"/>
            <a:ext cx="5749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3"/>
          <p:cNvSpPr/>
          <p:nvPr/>
        </p:nvSpPr>
        <p:spPr>
          <a:xfrm>
            <a:off x="6805440" y="4437000"/>
            <a:ext cx="648000" cy="5032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4"/>
          <p:cNvSpPr/>
          <p:nvPr/>
        </p:nvSpPr>
        <p:spPr>
          <a:xfrm>
            <a:off x="5436000" y="1989000"/>
            <a:ext cx="183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Book Antiqua"/>
              </a:rPr>
              <a:t>Fri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00:51:00Z</dcterms:created>
  <dc:creator/>
  <dc:description>http://cai.7cxk.net 中小学课件站</dc:description>
  <cp:keywords>http:/cai.7cxk.net 中小学课件站</cp:keywords>
  <dc:language>en-US</dc:language>
  <cp:lastModifiedBy>Administrator</cp:lastModifiedBy>
  <dcterms:modified xsi:type="dcterms:W3CDTF">2017-10-07T08:47:15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