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1F3-04EC-41CD-B702-9EADC180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4FB-3771-4D87-95E2-FBFD0CE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F0C82-F7AD-44E4-969C-C02A64E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69885-D786-401E-ADAF-639B08F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304C9-31AD-4C52-A90C-D7312AF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04136-10AC-4D21-BF44-C39F78E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E418-3BAB-4DFD-A2F2-8E6D56E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6B403-6DA8-42D4-BFA1-53099FA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74B50-A112-4FC0-9675-7E8CCF0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94A64-0912-4E34-B042-3FEAA07A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438C1-3AB4-47CF-A019-3EED7386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0EF2F-1186-4E62-888D-C75C28BD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7B6-8938-4A14-87D6-A0768CAF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AFB70-7B95-4CFD-9663-FD89393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E4E5F-656C-4165-B4B4-0AF63FD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E4405-2749-4BC9-95BE-FD1BC4E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3695-6F8D-4685-B615-22F80A3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AF446-D46C-4331-8BA0-1F6914A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07A7-3611-425C-8696-A50A526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E64F4-151D-4049-9023-F2D50B0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99ADA-0879-420E-87E6-E0F1EEC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5876-2495-4F04-8A30-743471F3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8A7DE-062F-4BC2-A4E8-3E3C605D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E44-B2CF-49B7-A633-2A681B36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B8D03-D7AC-4094-819B-30FC586D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C920-D02C-4D3B-BAED-6246A873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A625-A984-41CC-93B7-895413F4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7D29-E695-4598-9529-0D312667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BBC12-2A2C-468E-ABC6-ED68565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D3033-9EEA-493F-BA95-CD73D02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3760-2E65-477B-8F68-EAAE5420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234F-7EB1-4E35-82C1-0D466C4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1DDD-0840-4DC4-84EB-AFAE2D6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8117-8F3D-47D5-BB13-FA69819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BC69-7E0D-499C-9B9B-9F8FFC5D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8C31D-67AD-4E6D-9D71-4023E71A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7390-A561-4C70-A43C-22B2DE95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73E7-CD73-4C59-82F2-1A0B0106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9BB9-0B07-4F36-A433-FE4515B1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6B610-9A1B-422A-8B4B-CCD9202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D9FF1-9192-444A-A9A5-5BF0ADDE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A9AE-94CF-425C-B40E-06F88EBD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DE16-CA36-4DB0-8A4E-BB664917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CD0A-75A5-48E7-B664-2E0ACC4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6A164-C8E1-4E56-B169-242C3BB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5B5C-D280-4181-8FEC-D5672DC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5AFCF-8404-40CC-976D-ADE7F1D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F02CE-596A-47F2-BF52-7EF2DC6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A0C43-B966-49A6-AE8D-B2409805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FAC3C-832D-46C1-9D70-A893700E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43CC1-523A-4895-BA5C-1CC86436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6F0-994D-4D54-A071-5A4EBBB1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6E19-DADC-4419-9C66-DBC9D00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4633-F31C-49C5-A05A-EEDA386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32E-6256-42FC-AA26-B1D054C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EC72-FB6B-4867-AFDD-5ED98961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D93-61E0-4377-ADDC-91DB13B3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76A4-D8D1-48C4-9493-BA15122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E1F-A6AA-4D6D-A764-711934C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1348-6EF1-404D-ACE0-FBE6742B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EDC2-C195-47E9-8FE8-C4419D02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5C43-499C-4AA0-8428-7CAA0827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E433-2B01-4F0B-A70D-B8B798A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B3AC-B1D4-469B-A4E4-D475A58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7F7B-C426-4E03-94BA-EA18576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55B0-2FD5-4087-97D3-9F17E758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196B-93DB-409D-A63A-F1F79C2A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F00-4C55-47DA-A1E9-C6F6479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EC47-5695-479D-A6FF-88756A0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F0C7-A868-4195-A083-9E189DC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4562-5DCE-4E7A-9985-2255221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445E-E956-4F39-A29F-F2CDC44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F2CF-BABB-4537-A35A-3A3D14B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126F-F862-4CB2-BD8A-C2E7B0B6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703C-24BF-40EF-A33A-35605372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7481-BD1F-4628-BD51-8FD7DC51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D7A3-BFBA-42E5-9C58-2B4C9EC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63CC-4206-426A-98EE-E646B14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D27-27EA-44EC-AB66-1D046B1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7749-8F85-4C98-8CC2-FC8940A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A537-BEA3-4A9D-8328-E8FDCEA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6EFA-F254-473D-8DEE-A3047783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EB91-1C0E-499B-9DFD-69126ED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198A-B5F0-4B10-AFF8-EFA1255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DAF6-02F0-4AD1-AF26-C686E58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63A2-E50B-4159-B70D-8C539388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4A79-2778-47E4-94A6-BF652EA2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DB13-353B-47CE-9673-F3867A8F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B274-1151-4ED4-89CC-57CBDDE1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216-E715-41FF-AC86-D8EE679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3D3A-8F8A-460F-8223-6EA8F62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30DA-DF4C-4887-8DAD-AA055D8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24F7-1160-4951-B57F-0DBE06A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F54C-8D04-4064-B193-5B6C4611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55F9-E0E8-4B6F-A5A5-4A6A73CB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1396-9018-43D6-8EA8-753A0E9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AF03-F5D2-44C4-B1E6-5CC5E59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C374-20CA-42A2-B67D-0578EBD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4FD6-F972-4A98-9EC1-CF52454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3D0C-3E66-4A54-911D-92E13C9E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275-19CB-435D-9A53-94B52FD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E7A2-EBEB-465A-A081-F81CD378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4AD6-1600-4371-91B1-EE68EAF2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9511-9E6A-4B5C-AEB0-9E4EC1D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0A44-28E9-4897-926B-76917D9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DD0D2-148C-4CB5-81F9-CAA198F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1293-0B38-498B-B7FB-67D40EA2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A65BC-AB3D-4FDA-8315-14857CC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8824-E661-4801-86F4-0F3566B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0A3A-9F67-4B73-BE0E-9FE097F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D2E8-C745-46BE-B7DB-1BA54AD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181-5035-4306-A68D-041C2EC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6115-5D2C-4E10-A9EF-4EE9754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686E-F6F8-4A51-B90D-0DDF5799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C3BC-8179-40D4-BD39-FCC1E28C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045E-C71C-4D4E-B2B1-29D32330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B793-E930-44A0-BA4A-27C38C89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9CA2-9D10-46BC-A945-91F46827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E353-72F0-4996-AE78-F4FFA3E5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1C75A-4287-44CA-86BC-72EF39D2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9F56A-361B-44FF-8D28-C1EA9245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80AB6-9591-4D19-9CC9-86E42A8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0DD-D88F-4BBD-A51B-1E31C29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7ECF5-E0B5-4F3D-9BF3-C186BA4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A57C-8C17-4B00-B452-F598139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4296-5C63-405E-A18D-2CB17E34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81CD-4045-4C2D-93EF-2A618A9D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09B1-88BD-4A5A-9153-C2AD0FD8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EA2A-9AB9-47C1-8B71-A8CEB15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564C-5B2A-41A8-9D91-0525101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06FC-9C22-4F76-98DA-D0759701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F1B2-BB99-40DA-BDD4-597303B9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0C7C4-6215-4ABC-912C-A5EA593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904-6FCD-4CD6-BDFD-91651DD9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00C4-F762-43EB-9C3F-C5F681B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FA54B-43E9-480F-8C91-214D98F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72298-B840-4D6A-9F8E-82D86FD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58607-E795-4BCE-898B-968DC48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C8DC-B475-4DE7-90CC-EFBB7AA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5D99-1C9B-4527-8C24-D6F06953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0D87-51EE-4013-94DE-83AE2640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4EE40-51D9-4EAD-9C7F-C33AE0AC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F32A2-4D77-4532-9894-E9CBFBC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B1A7-FC38-464E-8364-1F3875C3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25A-1AFF-4D75-9945-5BABDEAD5FC8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564-06E5-4F1E-A677-D877646587C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92A-6F9D-4FA8-BC50-C82ACF129F1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289F-C08C-4225-B44F-626D00E5A6B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FAE-ACA1-43D8-ABDA-5674F284B3B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CCED-8C3A-4BCF-B8B8-9D354E083CB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B7F-33B0-441D-B7E0-8A47081E7B5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D704-78C2-4C5B-AC94-9DB6E713CD4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A26-C645-46F1-8CAA-D591234EAEE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AD62-E396-457A-BC27-E9ECE58A7DC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955-3FFE-4794-8A79-B185DAFF9C8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6019-3AA8-4905-8839-2DCC550321B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15E-6474-4F4B-A429-975A4439802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75FA-D715-497A-8BB5-B6DC00F6409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052"/>
          <p:cNvSpPr/>
          <p:nvPr/>
        </p:nvSpPr>
        <p:spPr>
          <a:xfrm>
            <a:off x="684360" y="6922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ungsuh"/>
                <a:ea typeface="Gungsuh"/>
              </a:rPr>
              <a:t>Unit6 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2053"/>
          <p:cNvSpPr/>
          <p:nvPr/>
        </p:nvSpPr>
        <p:spPr>
          <a:xfrm>
            <a:off x="46080" y="3645000"/>
            <a:ext cx="102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Bodoni MT Black"/>
              </a:rPr>
              <a:t>My father has short ha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7173"/>
          <p:cNvSpPr/>
          <p:nvPr/>
        </p:nvSpPr>
        <p:spPr>
          <a:xfrm>
            <a:off x="324000" y="1844640"/>
            <a:ext cx="92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Gungsuh"/>
                <a:ea typeface="Gungsuh"/>
              </a:rPr>
              <a:t>Listen and circle the new wor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7174" descr="u=2070062523,2891019728&amp;fm=0&amp;gp=0"/>
          <p:cNvPicPr/>
          <p:nvPr/>
        </p:nvPicPr>
        <p:blipFill>
          <a:blip r:embed="rId1"/>
          <a:stretch/>
        </p:blipFill>
        <p:spPr>
          <a:xfrm>
            <a:off x="0" y="4365720"/>
            <a:ext cx="1366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34819" descr="010"/>
          <p:cNvPicPr/>
          <p:nvPr/>
        </p:nvPicPr>
        <p:blipFill>
          <a:blip r:embed="rId1"/>
          <a:stretch/>
        </p:blipFill>
        <p:spPr>
          <a:xfrm>
            <a:off x="539640" y="836640"/>
            <a:ext cx="7620120" cy="5300640"/>
          </a:xfrm>
          <a:prstGeom prst="rect">
            <a:avLst/>
          </a:prstGeom>
          <a:ln w="0">
            <a:noFill/>
          </a:ln>
        </p:spPr>
      </p:pic>
      <p:sp>
        <p:nvSpPr>
          <p:cNvPr id="529" name="椭圆形标注 34820"/>
          <p:cNvSpPr/>
          <p:nvPr/>
        </p:nvSpPr>
        <p:spPr>
          <a:xfrm>
            <a:off x="2916360" y="1341360"/>
            <a:ext cx="2232000" cy="1368360"/>
          </a:xfrm>
          <a:prstGeom prst="wedgeEllipseCallout">
            <a:avLst>
              <a:gd name="adj1" fmla="val -28023"/>
              <a:gd name="adj2" fmla="val 115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4821"/>
          <p:cNvSpPr/>
          <p:nvPr/>
        </p:nvSpPr>
        <p:spPr>
          <a:xfrm>
            <a:off x="3132000" y="1557360"/>
            <a:ext cx="33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形标注 34822"/>
          <p:cNvSpPr/>
          <p:nvPr/>
        </p:nvSpPr>
        <p:spPr>
          <a:xfrm>
            <a:off x="4572000" y="4581360"/>
            <a:ext cx="3457440" cy="1368720"/>
          </a:xfrm>
          <a:prstGeom prst="wedgeEllipseCallout">
            <a:avLst>
              <a:gd name="adj1" fmla="val -53583"/>
              <a:gd name="adj2" fmla="val -6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4823"/>
          <p:cNvSpPr/>
          <p:nvPr/>
        </p:nvSpPr>
        <p:spPr>
          <a:xfrm>
            <a:off x="4716360" y="4653000"/>
            <a:ext cx="30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My fath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and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34824"/>
          <p:cNvSpPr/>
          <p:nvPr/>
        </p:nvSpPr>
        <p:spPr>
          <a:xfrm>
            <a:off x="4932360" y="5300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34825"/>
          <p:cNvSpPr/>
          <p:nvPr/>
        </p:nvSpPr>
        <p:spPr>
          <a:xfrm>
            <a:off x="6443640" y="530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35843" descr="011"/>
          <p:cNvPicPr/>
          <p:nvPr/>
        </p:nvPicPr>
        <p:blipFill>
          <a:blip r:embed="rId1"/>
          <a:stretch/>
        </p:blipFill>
        <p:spPr>
          <a:xfrm>
            <a:off x="5396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36" name="椭圆形标注 35844"/>
          <p:cNvSpPr/>
          <p:nvPr/>
        </p:nvSpPr>
        <p:spPr>
          <a:xfrm>
            <a:off x="2916360" y="765000"/>
            <a:ext cx="2950920" cy="1368720"/>
          </a:xfrm>
          <a:prstGeom prst="wedgeEllipseCallout">
            <a:avLst>
              <a:gd name="adj1" fmla="val -33379"/>
              <a:gd name="adj2" fmla="val 115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形标注 35845"/>
          <p:cNvSpPr/>
          <p:nvPr/>
        </p:nvSpPr>
        <p:spPr>
          <a:xfrm>
            <a:off x="4140360" y="3933720"/>
            <a:ext cx="4105080" cy="1295640"/>
          </a:xfrm>
          <a:prstGeom prst="wedgeEllipseCallout">
            <a:avLst>
              <a:gd name="adj1" fmla="val -42500"/>
              <a:gd name="adj2" fmla="val -5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My father has ______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5846"/>
          <p:cNvSpPr/>
          <p:nvPr/>
        </p:nvSpPr>
        <p:spPr>
          <a:xfrm>
            <a:off x="5364000" y="4508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38916" descr="012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40" name="椭圆形标注 38914"/>
          <p:cNvSpPr/>
          <p:nvPr/>
        </p:nvSpPr>
        <p:spPr>
          <a:xfrm>
            <a:off x="3708360" y="981000"/>
            <a:ext cx="2303640" cy="1368360"/>
          </a:xfrm>
          <a:prstGeom prst="wedgeEllipseCallout">
            <a:avLst>
              <a:gd name="adj1" fmla="val -25601"/>
              <a:gd name="adj2" fmla="val 115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形标注 38915"/>
          <p:cNvSpPr/>
          <p:nvPr/>
        </p:nvSpPr>
        <p:spPr>
          <a:xfrm>
            <a:off x="3492360" y="4653000"/>
            <a:ext cx="3672000" cy="1512720"/>
          </a:xfrm>
          <a:prstGeom prst="wedgeEllipseCallout">
            <a:avLst>
              <a:gd name="adj1" fmla="val -43731"/>
              <a:gd name="adj2" fmla="val -71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My mother has _____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38917"/>
          <p:cNvSpPr/>
          <p:nvPr/>
        </p:nvSpPr>
        <p:spPr>
          <a:xfrm>
            <a:off x="3924360" y="1197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your m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38918"/>
          <p:cNvSpPr/>
          <p:nvPr/>
        </p:nvSpPr>
        <p:spPr>
          <a:xfrm>
            <a:off x="4788000" y="522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39940" descr="013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5" name="椭圆形标注 39937"/>
          <p:cNvSpPr/>
          <p:nvPr/>
        </p:nvSpPr>
        <p:spPr>
          <a:xfrm>
            <a:off x="3059280" y="1341360"/>
            <a:ext cx="2232000" cy="1656000"/>
          </a:xfrm>
          <a:prstGeom prst="wedgeEllipseCallout">
            <a:avLst>
              <a:gd name="adj1" fmla="val -3129"/>
              <a:gd name="adj2" fmla="val 57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39941"/>
          <p:cNvSpPr/>
          <p:nvPr/>
        </p:nvSpPr>
        <p:spPr>
          <a:xfrm>
            <a:off x="3134520" y="1341360"/>
            <a:ext cx="204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9942"/>
          <p:cNvSpPr/>
          <p:nvPr/>
        </p:nvSpPr>
        <p:spPr>
          <a:xfrm>
            <a:off x="3853080" y="1700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908000" y="1773000"/>
            <a:ext cx="5832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 that your f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ther i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ther is 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your mother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has long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0724"/>
          <p:cNvSpPr txBox="1"/>
          <p:nvPr/>
        </p:nvSpPr>
        <p:spPr>
          <a:xfrm>
            <a:off x="1619280" y="620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aramond"/>
              </a:rPr>
              <a:t>Let's chant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31747" descr="014"/>
          <p:cNvPicPr/>
          <p:nvPr/>
        </p:nvPicPr>
        <p:blipFill>
          <a:blip r:embed="rId1"/>
          <a:stretch/>
        </p:blipFill>
        <p:spPr>
          <a:xfrm>
            <a:off x="826920" y="2133720"/>
            <a:ext cx="7272360" cy="4392360"/>
          </a:xfrm>
          <a:prstGeom prst="rect">
            <a:avLst/>
          </a:prstGeom>
          <a:ln w="0">
            <a:noFill/>
          </a:ln>
        </p:spPr>
      </p:pic>
      <p:sp>
        <p:nvSpPr>
          <p:cNvPr id="551" name="文本框 31748"/>
          <p:cNvSpPr/>
          <p:nvPr/>
        </p:nvSpPr>
        <p:spPr>
          <a:xfrm>
            <a:off x="539640" y="2602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Let’s ta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形标注 31749"/>
          <p:cNvSpPr/>
          <p:nvPr/>
        </p:nvSpPr>
        <p:spPr>
          <a:xfrm>
            <a:off x="4788000" y="1052640"/>
            <a:ext cx="4356000" cy="1584360"/>
          </a:xfrm>
          <a:prstGeom prst="wedgeEllipseCallout">
            <a:avLst>
              <a:gd name="adj1" fmla="val -34185"/>
              <a:gd name="adj2" fmla="val 67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形标注 31750"/>
          <p:cNvSpPr/>
          <p:nvPr/>
        </p:nvSpPr>
        <p:spPr>
          <a:xfrm>
            <a:off x="0" y="1268280"/>
            <a:ext cx="4680000" cy="1511280"/>
          </a:xfrm>
          <a:prstGeom prst="wedgeEllipseCallout">
            <a:avLst>
              <a:gd name="adj1" fmla="val 21064"/>
              <a:gd name="adj2" fmla="val 83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31751"/>
          <p:cNvSpPr/>
          <p:nvPr/>
        </p:nvSpPr>
        <p:spPr>
          <a:xfrm>
            <a:off x="468360" y="1484280"/>
            <a:ext cx="46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!  This is my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has long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1752"/>
          <p:cNvSpPr/>
          <p:nvPr/>
        </p:nvSpPr>
        <p:spPr>
          <a:xfrm>
            <a:off x="4788000" y="1197000"/>
            <a:ext cx="435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y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tall. He has big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40963"/>
          <p:cNvSpPr txBox="1"/>
          <p:nvPr/>
        </p:nvSpPr>
        <p:spPr>
          <a:xfrm rot="249600">
            <a:off x="971280" y="76464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roup wor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7" name="矩形 40964"/>
          <p:cNvSpPr/>
          <p:nvPr/>
        </p:nvSpPr>
        <p:spPr>
          <a:xfrm>
            <a:off x="1692360" y="249228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\She i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\She ha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\She likes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图片 13315" descr="u=2548338790,1685621433&amp;fm=0&amp;gp=0"/>
          <p:cNvPicPr/>
          <p:nvPr/>
        </p:nvPicPr>
        <p:blipFill>
          <a:blip r:embed="rId1"/>
          <a:stretch/>
        </p:blipFill>
        <p:spPr>
          <a:xfrm>
            <a:off x="1619280" y="189000"/>
            <a:ext cx="2665440" cy="208764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13316"/>
          <p:cNvSpPr/>
          <p:nvPr/>
        </p:nvSpPr>
        <p:spPr>
          <a:xfrm>
            <a:off x="1547640" y="407664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13317" descr="01300000215739122007305464135"/>
          <p:cNvPicPr/>
          <p:nvPr/>
        </p:nvPicPr>
        <p:blipFill>
          <a:blip r:embed="rId2"/>
          <a:stretch/>
        </p:blipFill>
        <p:spPr>
          <a:xfrm>
            <a:off x="1692360" y="2349360"/>
            <a:ext cx="2601720" cy="20894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3318" descr="fabgirl"/>
          <p:cNvPicPr/>
          <p:nvPr/>
        </p:nvPicPr>
        <p:blipFill>
          <a:blip r:embed="rId3"/>
          <a:stretch/>
        </p:blipFill>
        <p:spPr>
          <a:xfrm>
            <a:off x="4932360" y="1052640"/>
            <a:ext cx="2895480" cy="430668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13319"/>
          <p:cNvSpPr/>
          <p:nvPr/>
        </p:nvSpPr>
        <p:spPr>
          <a:xfrm>
            <a:off x="586728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13320" descr="u=3609695632,835350349&amp;fm=0&amp;gp=0"/>
          <p:cNvPicPr/>
          <p:nvPr/>
        </p:nvPicPr>
        <p:blipFill>
          <a:blip r:embed="rId4"/>
          <a:stretch/>
        </p:blipFill>
        <p:spPr>
          <a:xfrm>
            <a:off x="1619280" y="4554360"/>
            <a:ext cx="2808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43011" descr="u=2548338790,1685621433&amp;fm=0&amp;gp=0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21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head  I have big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  eyes  I have small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 ears  I  have big 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28676" descr="u=2548338790,1685621433&amp;fm=0&amp;gp=0"/>
          <p:cNvPicPr/>
          <p:nvPr/>
        </p:nvPicPr>
        <p:blipFill>
          <a:blip r:embed="rId1"/>
          <a:stretch/>
        </p:blipFill>
        <p:spPr>
          <a:xfrm>
            <a:off x="250920" y="3645000"/>
            <a:ext cx="2376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44035" descr="01300000215739122007305464135"/>
          <p:cNvPicPr/>
          <p:nvPr/>
        </p:nvPicPr>
        <p:blipFill>
          <a:blip r:embed="rId1"/>
          <a:stretch/>
        </p:blipFill>
        <p:spPr>
          <a:xfrm>
            <a:off x="900000" y="404640"/>
            <a:ext cx="70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8435" descr="fabgirl"/>
          <p:cNvPicPr/>
          <p:nvPr/>
        </p:nvPicPr>
        <p:blipFill>
          <a:blip r:embed="rId1"/>
          <a:stretch/>
        </p:blipFill>
        <p:spPr>
          <a:xfrm>
            <a:off x="2627280" y="692280"/>
            <a:ext cx="3830760" cy="5113080"/>
          </a:xfrm>
          <a:prstGeom prst="rect">
            <a:avLst/>
          </a:prstGeom>
          <a:ln w="0">
            <a:noFill/>
          </a:ln>
        </p:spPr>
      </p:pic>
      <p:sp>
        <p:nvSpPr>
          <p:cNvPr id="567" name="矩形 18436"/>
          <p:cNvSpPr/>
          <p:nvPr/>
        </p:nvSpPr>
        <p:spPr>
          <a:xfrm>
            <a:off x="413964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5363" descr="u=3609695632,835350349&amp;fm=0&amp;gp=0"/>
          <p:cNvPicPr/>
          <p:nvPr/>
        </p:nvPicPr>
        <p:blipFill>
          <a:blip r:embed="rId1"/>
          <a:stretch/>
        </p:blipFill>
        <p:spPr>
          <a:xfrm>
            <a:off x="900000" y="189000"/>
            <a:ext cx="7380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41985" descr="u=2548338790,1685621433&amp;fm=0&amp;gp=0"/>
          <p:cNvPicPr/>
          <p:nvPr/>
        </p:nvPicPr>
        <p:blipFill>
          <a:blip r:embed="rId1"/>
          <a:stretch/>
        </p:blipFill>
        <p:spPr>
          <a:xfrm>
            <a:off x="1619280" y="189000"/>
            <a:ext cx="2665440" cy="2087640"/>
          </a:xfrm>
          <a:prstGeom prst="rect">
            <a:avLst/>
          </a:prstGeom>
          <a:ln w="0">
            <a:noFill/>
          </a:ln>
        </p:spPr>
      </p:pic>
      <p:sp>
        <p:nvSpPr>
          <p:cNvPr id="570" name="文本框 41986"/>
          <p:cNvSpPr/>
          <p:nvPr/>
        </p:nvSpPr>
        <p:spPr>
          <a:xfrm>
            <a:off x="1547640" y="407664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41987" descr="01300000215739122007305464135"/>
          <p:cNvPicPr/>
          <p:nvPr/>
        </p:nvPicPr>
        <p:blipFill>
          <a:blip r:embed="rId2"/>
          <a:stretch/>
        </p:blipFill>
        <p:spPr>
          <a:xfrm>
            <a:off x="1692360" y="2349360"/>
            <a:ext cx="2601720" cy="208944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41988" descr="fabgirl"/>
          <p:cNvPicPr/>
          <p:nvPr/>
        </p:nvPicPr>
        <p:blipFill>
          <a:blip r:embed="rId3"/>
          <a:stretch/>
        </p:blipFill>
        <p:spPr>
          <a:xfrm>
            <a:off x="4859280" y="404640"/>
            <a:ext cx="2895480" cy="430704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41989"/>
          <p:cNvSpPr/>
          <p:nvPr/>
        </p:nvSpPr>
        <p:spPr>
          <a:xfrm>
            <a:off x="586728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41990" descr="u=3609695632,835350349&amp;fm=0&amp;gp=0"/>
          <p:cNvPicPr/>
          <p:nvPr/>
        </p:nvPicPr>
        <p:blipFill>
          <a:blip r:embed="rId4"/>
          <a:stretch/>
        </p:blipFill>
        <p:spPr>
          <a:xfrm>
            <a:off x="1619280" y="4554360"/>
            <a:ext cx="2808360" cy="218772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41991"/>
          <p:cNvSpPr/>
          <p:nvPr/>
        </p:nvSpPr>
        <p:spPr>
          <a:xfrm>
            <a:off x="4932360" y="4869000"/>
            <a:ext cx="396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ik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\she  has 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45059"/>
          <p:cNvSpPr/>
          <p:nvPr/>
        </p:nvSpPr>
        <p:spPr>
          <a:xfrm>
            <a:off x="1547640" y="-32760"/>
            <a:ext cx="553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n animal. It’s big and str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four legs. It has two big ears. It has long n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 Gu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5060"/>
          <p:cNvSpPr/>
          <p:nvPr/>
        </p:nvSpPr>
        <p:spPr>
          <a:xfrm>
            <a:off x="2195640" y="292428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n animal. It’s sm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two long ears. It has two re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’s has a short 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 Gu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45061" descr="u=1090909446,4130883584&amp;fm=0&amp;gp=0"/>
          <p:cNvPicPr/>
          <p:nvPr/>
        </p:nvPicPr>
        <p:blipFill>
          <a:blip r:embed="rId1"/>
          <a:stretch/>
        </p:blipFill>
        <p:spPr>
          <a:xfrm>
            <a:off x="2987640" y="98100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45062" descr="u=1885121083,3358768631&amp;fm=0&amp;gp=0"/>
          <p:cNvPicPr/>
          <p:nvPr/>
        </p:nvPicPr>
        <p:blipFill>
          <a:blip r:embed="rId2"/>
          <a:stretch/>
        </p:blipFill>
        <p:spPr>
          <a:xfrm>
            <a:off x="2700360" y="4508640"/>
            <a:ext cx="2808360" cy="2089080"/>
          </a:xfrm>
          <a:prstGeom prst="rect">
            <a:avLst/>
          </a:prstGeom>
          <a:ln w="0">
            <a:noFill/>
          </a:ln>
        </p:spPr>
      </p:pic>
      <p:sp>
        <p:nvSpPr>
          <p:cNvPr id="580" name="矩形 45063"/>
          <p:cNvSpPr txBox="1"/>
          <p:nvPr/>
        </p:nvSpPr>
        <p:spPr>
          <a:xfrm rot="5400000">
            <a:off x="-1295640" y="2241360"/>
            <a:ext cx="4464000" cy="1222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你能猜到吗？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32775" descr="2009042318005246"/>
          <p:cNvPicPr/>
          <p:nvPr/>
        </p:nvPicPr>
        <p:blipFill>
          <a:blip r:embed="rId1"/>
          <a:srcRect l="0" t="0" r="14" b="7452"/>
          <a:stretch/>
        </p:blipFill>
        <p:spPr>
          <a:xfrm>
            <a:off x="1440" y="15840"/>
            <a:ext cx="9142560" cy="6346800"/>
          </a:xfrm>
          <a:prstGeom prst="rect">
            <a:avLst/>
          </a:prstGeom>
          <a:ln w="0">
            <a:noFill/>
          </a:ln>
        </p:spPr>
      </p:pic>
      <p:pic>
        <p:nvPicPr>
          <p:cNvPr id="582" name="矩形 32770" descr=""/>
          <p:cNvPicPr/>
          <p:nvPr/>
        </p:nvPicPr>
        <p:blipFill>
          <a:blip r:embed="rId2"/>
          <a:stretch/>
        </p:blipFill>
        <p:spPr>
          <a:xfrm>
            <a:off x="1116000" y="324000"/>
            <a:ext cx="4681440" cy="11937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32771"/>
          <p:cNvSpPr/>
          <p:nvPr/>
        </p:nvSpPr>
        <p:spPr>
          <a:xfrm>
            <a:off x="68436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erlin Sans FB Dem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Berlin Sans FB Demi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Berlin Sans FB Demi"/>
              </a:rPr>
              <a:t>、 </a:t>
            </a:r>
            <a:r>
              <a:rPr b="0" lang="en-US" sz="4000" spc="-1" strike="noStrike">
                <a:solidFill>
                  <a:srgbClr val="0000ff"/>
                </a:solidFill>
                <a:latin typeface="Berlin Sans FB Demi"/>
              </a:rPr>
              <a:t>Listen to the tape and     read after the t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2773"/>
          <p:cNvSpPr/>
          <p:nvPr/>
        </p:nvSpPr>
        <p:spPr>
          <a:xfrm>
            <a:off x="324000" y="5661000"/>
            <a:ext cx="54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2774"/>
          <p:cNvSpPr/>
          <p:nvPr/>
        </p:nvSpPr>
        <p:spPr>
          <a:xfrm>
            <a:off x="684360" y="350028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用今天所学的句型向你爸爸妈妈描述你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0244" descr="5890c6c3e1875905b219a8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矩形 10245"/>
          <p:cNvSpPr txBox="1"/>
          <p:nvPr/>
        </p:nvSpPr>
        <p:spPr>
          <a:xfrm>
            <a:off x="1692360" y="1341360"/>
            <a:ext cx="619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anks for your liste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8" name="矩形 10246"/>
          <p:cNvSpPr txBox="1"/>
          <p:nvPr/>
        </p:nvSpPr>
        <p:spPr>
          <a:xfrm rot="21168000">
            <a:off x="2556000" y="3715920"/>
            <a:ext cx="338436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1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1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文本框 21509"/>
          <p:cNvSpPr/>
          <p:nvPr/>
        </p:nvSpPr>
        <p:spPr>
          <a:xfrm>
            <a:off x="2987640" y="9079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g h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21510" descr="08"/>
          <p:cNvPicPr/>
          <p:nvPr/>
        </p:nvPicPr>
        <p:blipFill>
          <a:blip r:embed="rId1"/>
          <a:stretch/>
        </p:blipFill>
        <p:spPr>
          <a:xfrm>
            <a:off x="1979640" y="2060640"/>
            <a:ext cx="4524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33795" descr="022"/>
          <p:cNvPicPr/>
          <p:nvPr/>
        </p:nvPicPr>
        <p:blipFill>
          <a:blip r:embed="rId1"/>
          <a:stretch/>
        </p:blipFill>
        <p:spPr>
          <a:xfrm>
            <a:off x="2484360" y="620640"/>
            <a:ext cx="4027680" cy="388476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33796"/>
          <p:cNvSpPr/>
          <p:nvPr/>
        </p:nvSpPr>
        <p:spPr>
          <a:xfrm>
            <a:off x="30592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 that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33798" descr="u=2620216332,1926093372&amp;fm=0&amp;gp=0"/>
          <p:cNvPicPr/>
          <p:nvPr/>
        </p:nvPicPr>
        <p:blipFill>
          <a:blip r:embed="rId2"/>
          <a:stretch/>
        </p:blipFill>
        <p:spPr>
          <a:xfrm>
            <a:off x="2771640" y="549360"/>
            <a:ext cx="3313080" cy="3816360"/>
          </a:xfrm>
          <a:prstGeom prst="rect">
            <a:avLst/>
          </a:prstGeom>
          <a:ln w="0">
            <a:noFill/>
          </a:ln>
        </p:spPr>
      </p:pic>
      <p:sp>
        <p:nvSpPr>
          <p:cNvPr id="501" name="矩形 33799"/>
          <p:cNvSpPr txBox="1"/>
          <p:nvPr/>
        </p:nvSpPr>
        <p:spPr>
          <a:xfrm rot="5400000">
            <a:off x="-566640" y="2805120"/>
            <a:ext cx="4098960" cy="1743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猜一猜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22531"/>
          <p:cNvSpPr/>
          <p:nvPr/>
        </p:nvSpPr>
        <p:spPr>
          <a:xfrm>
            <a:off x="719280" y="342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hat is Tom’s mo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2532"/>
          <p:cNvSpPr/>
          <p:nvPr/>
        </p:nvSpPr>
        <p:spPr>
          <a:xfrm>
            <a:off x="2553840" y="4149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Tom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的爸爸是什么样子？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2533"/>
          <p:cNvSpPr txBox="1"/>
          <p:nvPr/>
        </p:nvSpPr>
        <p:spPr>
          <a:xfrm>
            <a:off x="684360" y="260280"/>
            <a:ext cx="49780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6148"/>
          <p:cNvSpPr txBox="1"/>
          <p:nvPr/>
        </p:nvSpPr>
        <p:spPr>
          <a:xfrm>
            <a:off x="395280" y="0"/>
            <a:ext cx="5689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6" name="矩形 6150"/>
          <p:cNvSpPr/>
          <p:nvPr/>
        </p:nvSpPr>
        <p:spPr>
          <a:xfrm>
            <a:off x="532440" y="321264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Lucida Console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Lucida Console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Lucida Console"/>
              </a:rPr>
              <a:t>What’s Tom’s mother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153"/>
          <p:cNvSpPr/>
          <p:nvPr/>
        </p:nvSpPr>
        <p:spPr>
          <a:xfrm>
            <a:off x="3228840" y="393372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m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的妈妈是什么样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6154"/>
          <p:cNvSpPr/>
          <p:nvPr/>
        </p:nvSpPr>
        <p:spPr>
          <a:xfrm>
            <a:off x="900000" y="479736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6155"/>
          <p:cNvSpPr/>
          <p:nvPr/>
        </p:nvSpPr>
        <p:spPr>
          <a:xfrm>
            <a:off x="1908000" y="4797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has long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文本框 23553"/>
          <p:cNvSpPr/>
          <p:nvPr/>
        </p:nvSpPr>
        <p:spPr>
          <a:xfrm>
            <a:off x="719280" y="342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hat’s Tom’s  f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3554"/>
          <p:cNvSpPr/>
          <p:nvPr/>
        </p:nvSpPr>
        <p:spPr>
          <a:xfrm>
            <a:off x="6009840" y="3645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Tom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的爸爸是什么样子？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23555"/>
          <p:cNvSpPr txBox="1"/>
          <p:nvPr/>
        </p:nvSpPr>
        <p:spPr>
          <a:xfrm>
            <a:off x="684360" y="260280"/>
            <a:ext cx="49780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25601"/>
          <p:cNvSpPr/>
          <p:nvPr/>
        </p:nvSpPr>
        <p:spPr>
          <a:xfrm>
            <a:off x="719280" y="342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hat’s Tom’s  f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5602"/>
          <p:cNvSpPr/>
          <p:nvPr/>
        </p:nvSpPr>
        <p:spPr>
          <a:xfrm>
            <a:off x="6009840" y="3645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Tom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的爸爸是什么样子？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5603"/>
          <p:cNvSpPr txBox="1"/>
          <p:nvPr/>
        </p:nvSpPr>
        <p:spPr>
          <a:xfrm>
            <a:off x="684360" y="260280"/>
            <a:ext cx="49780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文本框 25604"/>
          <p:cNvSpPr/>
          <p:nvPr/>
        </p:nvSpPr>
        <p:spPr>
          <a:xfrm>
            <a:off x="1619280" y="458136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_______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5605"/>
          <p:cNvSpPr/>
          <p:nvPr/>
        </p:nvSpPr>
        <p:spPr>
          <a:xfrm>
            <a:off x="2843280" y="465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25606"/>
          <p:cNvSpPr/>
          <p:nvPr/>
        </p:nvSpPr>
        <p:spPr>
          <a:xfrm>
            <a:off x="5003640" y="46530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5607"/>
          <p:cNvSpPr/>
          <p:nvPr/>
        </p:nvSpPr>
        <p:spPr>
          <a:xfrm>
            <a:off x="2916360" y="530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26627"/>
          <p:cNvSpPr/>
          <p:nvPr/>
        </p:nvSpPr>
        <p:spPr>
          <a:xfrm>
            <a:off x="1403280" y="2565360"/>
            <a:ext cx="23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26628"/>
          <p:cNvSpPr/>
          <p:nvPr/>
        </p:nvSpPr>
        <p:spPr>
          <a:xfrm>
            <a:off x="755640" y="256536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26629"/>
          <p:cNvSpPr/>
          <p:nvPr/>
        </p:nvSpPr>
        <p:spPr>
          <a:xfrm>
            <a:off x="971640" y="2565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26631" descr="05300001021215129076796369060"/>
          <p:cNvPicPr/>
          <p:nvPr/>
        </p:nvPicPr>
        <p:blipFill>
          <a:blip r:embed="rId1"/>
          <a:stretch/>
        </p:blipFill>
        <p:spPr>
          <a:xfrm>
            <a:off x="3419640" y="404640"/>
            <a:ext cx="3524040" cy="523908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26632"/>
          <p:cNvSpPr/>
          <p:nvPr/>
        </p:nvSpPr>
        <p:spPr>
          <a:xfrm>
            <a:off x="3635280" y="5877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6633"/>
          <p:cNvSpPr/>
          <p:nvPr/>
        </p:nvSpPr>
        <p:spPr>
          <a:xfrm>
            <a:off x="558000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8:17Z</dcterms:created>
  <dc:creator>微软用户</dc:creator>
  <dc:description/>
  <cp:keywords/>
  <dc:language>en-US</dc:language>
  <cp:lastModifiedBy>chicken君</cp:lastModifiedBy>
  <dcterms:modified xsi:type="dcterms:W3CDTF">2017-11-17T14:26:0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