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173-174C-4679-836E-1F66050D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CD5-E1D8-445C-8DEB-42F15BE4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4BE-8B50-44BA-8BD3-9F9F491F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CB2-8AC0-42AD-AE53-80253300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5C3-07CE-40A6-AD4B-47F2DA79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A3B-CFE1-4103-82F7-B9BA6700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C77-686E-49A5-A78C-45DC7DAE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366-5EAE-4281-A103-73D2F007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AD2-8149-49C9-9578-5B9741DA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DC5-40F5-4A23-B0ED-FA8C450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0B0-A6B9-42C1-96FB-0B504E59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534-4AE9-4B9E-9309-52272FD5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AFEE-8A57-46A3-8FE4-3994CE177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804081241402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33520" y="5335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鲁科版英语四年级上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矩形 6" descr=""/>
          <p:cNvPicPr/>
          <p:nvPr/>
        </p:nvPicPr>
        <p:blipFill>
          <a:blip r:embed="rId2"/>
          <a:stretch/>
        </p:blipFill>
        <p:spPr>
          <a:xfrm>
            <a:off x="1758960" y="1324080"/>
            <a:ext cx="4968720" cy="923760"/>
          </a:xfrm>
          <a:prstGeom prst="rect">
            <a:avLst/>
          </a:prstGeom>
          <a:ln w="0">
            <a:noFill/>
          </a:ln>
        </p:spPr>
      </p:pic>
      <p:pic>
        <p:nvPicPr>
          <p:cNvPr id="44" name="矩形 3" descr=""/>
          <p:cNvPicPr/>
          <p:nvPr/>
        </p:nvPicPr>
        <p:blipFill>
          <a:blip r:embed="rId3"/>
          <a:stretch/>
        </p:blipFill>
        <p:spPr>
          <a:xfrm>
            <a:off x="150840" y="2514600"/>
            <a:ext cx="89517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1600200" y="55627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beautiful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600200" y="4419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’s my mother’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著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GNSCU]{$FK5SPU`0A0U1}`L"/>
          <p:cNvPicPr/>
          <p:nvPr/>
        </p:nvPicPr>
        <p:blipFill>
          <a:blip r:embed="rId1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T}9R]9QXZ$J~]E3X5$3FPCR"/>
          <p:cNvPicPr/>
          <p:nvPr/>
        </p:nvPicPr>
        <p:blipFill>
          <a:blip r:embed="rId2"/>
          <a:stretch/>
        </p:blipFill>
        <p:spPr>
          <a:xfrm>
            <a:off x="152280" y="4191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228600" y="60480"/>
            <a:ext cx="8763120" cy="70344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is is Wang Hong’s family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6O_)QX4XB2A`G4%TD3%@TXH"/>
          <p:cNvPicPr/>
          <p:nvPr/>
        </p:nvPicPr>
        <p:blipFill>
          <a:blip r:embed="rId1"/>
          <a:stretch/>
        </p:blipFill>
        <p:spPr>
          <a:xfrm>
            <a:off x="228600" y="762120"/>
            <a:ext cx="8763120" cy="586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5@~LVBX[P3L~S0386MDU811"/>
          <p:cNvPicPr/>
          <p:nvPr/>
        </p:nvPicPr>
        <p:blipFill>
          <a:blip r:embed="rId2"/>
          <a:stretch/>
        </p:blipFill>
        <p:spPr>
          <a:xfrm>
            <a:off x="838080" y="2057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GNSCU]{$FK5SPU`0A0U1}`L"/>
          <p:cNvPicPr/>
          <p:nvPr/>
        </p:nvPicPr>
        <p:blipFill>
          <a:blip r:embed="rId3"/>
          <a:stretch/>
        </p:blipFill>
        <p:spPr>
          <a:xfrm>
            <a:off x="1219320" y="426708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3"/>
          <p:cNvGrpSpPr/>
          <p:nvPr/>
        </p:nvGrpSpPr>
        <p:grpSpPr>
          <a:xfrm>
            <a:off x="380880" y="152280"/>
            <a:ext cx="5028840" cy="1676160"/>
            <a:chOff x="380880" y="152280"/>
            <a:chExt cx="5028840" cy="1676160"/>
          </a:xfrm>
        </p:grpSpPr>
        <p:pic>
          <p:nvPicPr>
            <p:cNvPr id="107" name="Picture 4" descr="2006651812473333(1)"/>
            <p:cNvPicPr/>
            <p:nvPr/>
          </p:nvPicPr>
          <p:blipFill>
            <a:blip r:embed="rId1"/>
            <a:stretch/>
          </p:blipFill>
          <p:spPr>
            <a:xfrm>
              <a:off x="380880" y="152280"/>
              <a:ext cx="4583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4"/>
            <p:cNvSpPr/>
            <p:nvPr/>
          </p:nvSpPr>
          <p:spPr>
            <a:xfrm>
              <a:off x="728280" y="804240"/>
              <a:ext cx="468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I can repeat.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31"/>
          <p:cNvSpPr/>
          <p:nvPr/>
        </p:nvSpPr>
        <p:spPr>
          <a:xfrm>
            <a:off x="228600" y="2514600"/>
            <a:ext cx="868680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 your books and turn to page 66, let’s listen and repeat 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打开书听音跟读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762120" y="2192400"/>
            <a:ext cx="784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it by yourselve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己试读，你能行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it in pair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同桌分角色读，互相学习。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7"/>
          <p:cNvGrpSpPr/>
          <p:nvPr/>
        </p:nvGrpSpPr>
        <p:grpSpPr>
          <a:xfrm>
            <a:off x="395280" y="0"/>
            <a:ext cx="4100040" cy="1523520"/>
            <a:chOff x="395280" y="0"/>
            <a:chExt cx="4100040" cy="1523520"/>
          </a:xfrm>
        </p:grpSpPr>
        <p:pic>
          <p:nvPicPr>
            <p:cNvPr id="112" name="Picture 4" descr="2006651812473333(1)"/>
            <p:cNvPicPr/>
            <p:nvPr/>
          </p:nvPicPr>
          <p:blipFill>
            <a:blip r:embed="rId1"/>
            <a:stretch/>
          </p:blipFill>
          <p:spPr>
            <a:xfrm>
              <a:off x="395280" y="0"/>
              <a:ext cx="3737160" cy="152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4"/>
            <p:cNvSpPr/>
            <p:nvPr/>
          </p:nvSpPr>
          <p:spPr>
            <a:xfrm>
              <a:off x="676800" y="592560"/>
              <a:ext cx="381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 can read.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7"/>
          <p:cNvGrpSpPr/>
          <p:nvPr/>
        </p:nvGrpSpPr>
        <p:grpSpPr>
          <a:xfrm>
            <a:off x="0" y="-152280"/>
            <a:ext cx="5714640" cy="1143000"/>
            <a:chOff x="0" y="-152280"/>
            <a:chExt cx="5714640" cy="1143000"/>
          </a:xfrm>
        </p:grpSpPr>
        <p:pic>
          <p:nvPicPr>
            <p:cNvPr id="115" name="Picture 4" descr="2006651812473333(1)"/>
            <p:cNvPicPr/>
            <p:nvPr/>
          </p:nvPicPr>
          <p:blipFill>
            <a:blip r:embed="rId1"/>
            <a:stretch/>
          </p:blipFill>
          <p:spPr>
            <a:xfrm>
              <a:off x="0" y="-152280"/>
              <a:ext cx="5208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4"/>
            <p:cNvSpPr/>
            <p:nvPr/>
          </p:nvSpPr>
          <p:spPr>
            <a:xfrm>
              <a:off x="392760" y="291960"/>
              <a:ext cx="532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 can retell.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复述课文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0"/>
          <p:cNvSpPr/>
          <p:nvPr/>
        </p:nvSpPr>
        <p:spPr>
          <a:xfrm>
            <a:off x="304920" y="1066680"/>
            <a:ext cx="541008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llo, I’m Wang Ho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ok, this is my fami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m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She’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m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e’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Huanhuan. She’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ok, this is my mother’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beautiful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love my parents. I love my famil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0" descr="6O_)QX4XB2A`G4%TD3%@TXH"/>
          <p:cNvPicPr/>
          <p:nvPr/>
        </p:nvPicPr>
        <p:blipFill>
          <a:blip r:embed="rId2"/>
          <a:stretch/>
        </p:blipFill>
        <p:spPr>
          <a:xfrm>
            <a:off x="5181480" y="990720"/>
            <a:ext cx="3962520" cy="480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5@~LVBX[P3L~S0386MDU811"/>
          <p:cNvPicPr/>
          <p:nvPr/>
        </p:nvPicPr>
        <p:blipFill>
          <a:blip r:embed="rId3"/>
          <a:stretch/>
        </p:blipFill>
        <p:spPr>
          <a:xfrm>
            <a:off x="5410080" y="342900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GNSCU]{$FK5SPU`0A0U1}`L"/>
          <p:cNvPicPr/>
          <p:nvPr/>
        </p:nvPicPr>
        <p:blipFill>
          <a:blip r:embed="rId4"/>
          <a:stretch/>
        </p:blipFill>
        <p:spPr>
          <a:xfrm>
            <a:off x="5867280" y="4648320"/>
            <a:ext cx="1752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152280" y="-76320"/>
            <a:ext cx="5714640" cy="1143000"/>
            <a:chOff x="152280" y="-76320"/>
            <a:chExt cx="5714640" cy="1143000"/>
          </a:xfrm>
        </p:grpSpPr>
        <p:pic>
          <p:nvPicPr>
            <p:cNvPr id="122" name="Picture 4" descr="2006651812473333(1)"/>
            <p:cNvPicPr/>
            <p:nvPr/>
          </p:nvPicPr>
          <p:blipFill>
            <a:blip r:embed="rId1"/>
            <a:stretch/>
          </p:blipFill>
          <p:spPr>
            <a:xfrm>
              <a:off x="152280" y="-76320"/>
              <a:ext cx="5208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4"/>
            <p:cNvSpPr/>
            <p:nvPr/>
          </p:nvSpPr>
          <p:spPr>
            <a:xfrm>
              <a:off x="545040" y="367920"/>
              <a:ext cx="532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We can retell.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复述课文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5"/>
          <p:cNvSpPr/>
          <p:nvPr/>
        </p:nvSpPr>
        <p:spPr>
          <a:xfrm>
            <a:off x="152280" y="1143000"/>
            <a:ext cx="54104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llo, I’m Wang Ho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ok, this is my fami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my             She’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my             He’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Huanhuan. She’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ok, this is my mother’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beautiful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love my parents. I love my famil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828800" y="24382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809880" y="30481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 businessma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828800" y="30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fa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038480" y="2438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n art teach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114800" y="3733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ut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114800" y="4357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5" descr="6O_)QX4XB2A`G4%TD3%@TXH"/>
          <p:cNvPicPr/>
          <p:nvPr/>
        </p:nvPicPr>
        <p:blipFill>
          <a:blip r:embed="rId2"/>
          <a:stretch/>
        </p:blipFill>
        <p:spPr>
          <a:xfrm>
            <a:off x="6477120" y="990720"/>
            <a:ext cx="2666880" cy="480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5@~LVBX[P3L~S0386MDU811"/>
          <p:cNvPicPr/>
          <p:nvPr/>
        </p:nvPicPr>
        <p:blipFill>
          <a:blip r:embed="rId3"/>
          <a:stretch/>
        </p:blipFill>
        <p:spPr>
          <a:xfrm>
            <a:off x="6324480" y="3581280"/>
            <a:ext cx="1219320" cy="129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GNSCU]{$FK5SPU`0A0U1}`L"/>
          <p:cNvPicPr/>
          <p:nvPr/>
        </p:nvPicPr>
        <p:blipFill>
          <a:blip r:embed="rId4"/>
          <a:stretch/>
        </p:blipFill>
        <p:spPr>
          <a:xfrm>
            <a:off x="6019920" y="5181480"/>
            <a:ext cx="1752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28600" y="990720"/>
            <a:ext cx="5486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: What does your mother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B: She’s a _______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: What does your father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B: He’s a _______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228600" y="-228600"/>
            <a:ext cx="4100040" cy="1189080"/>
            <a:chOff x="228600" y="-228600"/>
            <a:chExt cx="4100040" cy="1189080"/>
          </a:xfrm>
        </p:grpSpPr>
        <p:pic>
          <p:nvPicPr>
            <p:cNvPr id="136" name="Picture 4" descr="2006651812473333(1)"/>
            <p:cNvPicPr/>
            <p:nvPr/>
          </p:nvPicPr>
          <p:blipFill>
            <a:blip r:embed="rId1"/>
            <a:stretch/>
          </p:blipFill>
          <p:spPr>
            <a:xfrm>
              <a:off x="228600" y="-228600"/>
              <a:ext cx="37371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510120" y="233640"/>
              <a:ext cx="381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et’s talk.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16" descr="10025-120410213F154"/>
          <p:cNvPicPr/>
          <p:nvPr/>
        </p:nvPicPr>
        <p:blipFill>
          <a:blip r:embed="rId2"/>
          <a:stretch/>
        </p:blipFill>
        <p:spPr>
          <a:xfrm>
            <a:off x="3657600" y="4267080"/>
            <a:ext cx="190512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6975639_102308169000_2"/>
          <p:cNvPicPr/>
          <p:nvPr/>
        </p:nvPicPr>
        <p:blipFill>
          <a:blip r:embed="rId3"/>
          <a:srcRect l="0" t="0" r="0" b="4922"/>
          <a:stretch/>
        </p:blipFill>
        <p:spPr>
          <a:xfrm>
            <a:off x="2438280" y="4572000"/>
            <a:ext cx="1447920" cy="159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NZ344DY@GVFKL_O{E%NIEVJ"/>
          <p:cNvPicPr/>
          <p:nvPr/>
        </p:nvPicPr>
        <p:blipFill>
          <a:blip r:embed="rId4"/>
          <a:srcRect l="0" t="0" r="0" b="5947"/>
          <a:stretch/>
        </p:blipFill>
        <p:spPr>
          <a:xfrm>
            <a:off x="5638680" y="4572000"/>
            <a:ext cx="1371600" cy="1647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1" descr="]6(@]51OH$$Z5Y@E0{7KFV3"/>
          <p:cNvPicPr/>
          <p:nvPr/>
        </p:nvPicPr>
        <p:blipFill>
          <a:blip r:embed="rId5"/>
          <a:srcRect l="0" t="0" r="0" b="2879"/>
          <a:stretch/>
        </p:blipFill>
        <p:spPr>
          <a:xfrm>
            <a:off x="7391520" y="4572000"/>
            <a:ext cx="1347840" cy="1628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3"/>
          <p:cNvSpPr/>
          <p:nvPr/>
        </p:nvSpPr>
        <p:spPr>
          <a:xfrm>
            <a:off x="4191120" y="3824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2514600" y="3809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486400" y="3809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e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7543800" y="3824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9" descr="5BH`Q00NTVJIWWNO[)0)~NL"/>
          <p:cNvPicPr/>
          <p:nvPr/>
        </p:nvPicPr>
        <p:blipFill>
          <a:blip r:embed="rId6"/>
          <a:stretch/>
        </p:blipFill>
        <p:spPr>
          <a:xfrm>
            <a:off x="609480" y="45720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0"/>
          <p:cNvSpPr/>
          <p:nvPr/>
        </p:nvSpPr>
        <p:spPr>
          <a:xfrm>
            <a:off x="609480" y="3824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5791320" y="89676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rm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usiness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3"/>
          <p:cNvSpPr/>
          <p:nvPr/>
        </p:nvSpPr>
        <p:spPr>
          <a:xfrm>
            <a:off x="5791320" y="220968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rt/music/science/Maths teac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7"/>
          <p:cNvSpPr/>
          <p:nvPr/>
        </p:nvSpPr>
        <p:spPr>
          <a:xfrm>
            <a:off x="380880" y="2286000"/>
            <a:ext cx="5181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ct and guess the job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来做，你来猜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014"/>
          <p:cNvPicPr/>
          <p:nvPr/>
        </p:nvPicPr>
        <p:blipFill>
          <a:blip r:embed="rId1"/>
          <a:stretch/>
        </p:blipFill>
        <p:spPr>
          <a:xfrm>
            <a:off x="5562720" y="1447920"/>
            <a:ext cx="304776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0"/>
          <p:cNvGrpSpPr/>
          <p:nvPr/>
        </p:nvGrpSpPr>
        <p:grpSpPr>
          <a:xfrm>
            <a:off x="304920" y="587520"/>
            <a:ext cx="3504600" cy="1164960"/>
            <a:chOff x="304920" y="587520"/>
            <a:chExt cx="3504600" cy="1164960"/>
          </a:xfrm>
        </p:grpSpPr>
        <p:pic>
          <p:nvPicPr>
            <p:cNvPr id="153" name="Picture 4" descr="2006651812473333(1)"/>
            <p:cNvPicPr/>
            <p:nvPr/>
          </p:nvPicPr>
          <p:blipFill>
            <a:blip r:embed="rId2"/>
            <a:stretch/>
          </p:blipFill>
          <p:spPr>
            <a:xfrm>
              <a:off x="304920" y="587520"/>
              <a:ext cx="319428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4"/>
            <p:cNvSpPr/>
            <p:nvPr/>
          </p:nvSpPr>
          <p:spPr>
            <a:xfrm>
              <a:off x="545760" y="1040400"/>
              <a:ext cx="3263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Let’s do.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2057400" y="380880"/>
            <a:ext cx="525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Family Tree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6" name="Picture 5" descr="OP($YF6$1[J~]L5%PCU{2IJ"/>
          <p:cNvPicPr/>
          <p:nvPr/>
        </p:nvPicPr>
        <p:blipFill>
          <a:blip r:embed="rId1"/>
          <a:stretch/>
        </p:blipFill>
        <p:spPr>
          <a:xfrm>
            <a:off x="1219320" y="1600200"/>
            <a:ext cx="6629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8"/>
          <p:cNvSpPr txBox="1"/>
          <p:nvPr/>
        </p:nvSpPr>
        <p:spPr>
          <a:xfrm>
            <a:off x="2514600" y="457200"/>
            <a:ext cx="4191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Family Tree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304920" y="1765440"/>
            <a:ext cx="868680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ruction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Make your family tree in groups.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组合作制作家庭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Introduce your family in your group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小组内互相介绍家庭成员外貌以及职业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Step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Show time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展示成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019"/>
          <p:cNvPicPr/>
          <p:nvPr/>
        </p:nvPicPr>
        <p:blipFill>
          <a:blip r:embed="rId1"/>
          <a:stretch/>
        </p:blipFill>
        <p:spPr>
          <a:xfrm>
            <a:off x="762120" y="1028880"/>
            <a:ext cx="3429000" cy="262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020"/>
          <p:cNvPicPr/>
          <p:nvPr/>
        </p:nvPicPr>
        <p:blipFill>
          <a:blip r:embed="rId2"/>
          <a:stretch/>
        </p:blipFill>
        <p:spPr>
          <a:xfrm>
            <a:off x="4800600" y="990720"/>
            <a:ext cx="3352680" cy="2590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021"/>
          <p:cNvPicPr/>
          <p:nvPr/>
        </p:nvPicPr>
        <p:blipFill>
          <a:blip r:embed="rId3"/>
          <a:stretch/>
        </p:blipFill>
        <p:spPr>
          <a:xfrm>
            <a:off x="762120" y="3429000"/>
            <a:ext cx="327636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022"/>
          <p:cNvPicPr/>
          <p:nvPr/>
        </p:nvPicPr>
        <p:blipFill>
          <a:blip r:embed="rId4"/>
          <a:stretch/>
        </p:blipFill>
        <p:spPr>
          <a:xfrm>
            <a:off x="4876920" y="335268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838080" y="22860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Guo Yang’s famil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228600" y="1571760"/>
            <a:ext cx="4038480" cy="43599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roduc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介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my fami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my_______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 is ___and_____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 has _________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’s a __________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my_______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 has_________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’s a _________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m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 flipH="1" rot="10800000">
            <a:off x="4876920" y="2514240"/>
            <a:ext cx="4038480" cy="3809880"/>
          </a:xfrm>
          <a:prstGeom prst="wedgeRoundRectCallout">
            <a:avLst>
              <a:gd name="adj1" fmla="val -65648"/>
              <a:gd name="adj2" fmla="val 29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029200" y="2854440"/>
            <a:ext cx="3809880" cy="2669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外貌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ll strong beautiful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rt hair, long hai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doctor farmer teacher businessman nurse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护士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工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r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司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k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厨师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liceman 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警察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2514600" y="380880"/>
            <a:ext cx="4191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Family Tree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1981080" y="2133720"/>
            <a:ext cx="594360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Comic Sans MS"/>
              </a:rPr>
              <a:t>Love our family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Comic Sans MS"/>
              </a:rPr>
              <a:t>Love our life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Comic Sans MS"/>
                <a:ea typeface="华文新魏"/>
              </a:rPr>
              <a:t>热爱我们的家，热爱生活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"/>
          <p:cNvGrpSpPr/>
          <p:nvPr/>
        </p:nvGrpSpPr>
        <p:grpSpPr>
          <a:xfrm>
            <a:off x="304920" y="380880"/>
            <a:ext cx="2590200" cy="1447560"/>
            <a:chOff x="304920" y="380880"/>
            <a:chExt cx="2590200" cy="1447560"/>
          </a:xfrm>
        </p:grpSpPr>
        <p:pic>
          <p:nvPicPr>
            <p:cNvPr id="165" name="Picture 4" descr="2006651812473333(1)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236124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4"/>
            <p:cNvSpPr/>
            <p:nvPr/>
          </p:nvSpPr>
          <p:spPr>
            <a:xfrm>
              <a:off x="482760" y="943920"/>
              <a:ext cx="241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Tips: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38080" y="2340000"/>
            <a:ext cx="78487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Listen and repe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听音跟读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Find more words about jobs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搜集更多有关职业的单词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685800" y="304920"/>
            <a:ext cx="4100040" cy="1599840"/>
            <a:chOff x="685800" y="304920"/>
            <a:chExt cx="4100040" cy="1599840"/>
          </a:xfrm>
        </p:grpSpPr>
        <p:pic>
          <p:nvPicPr>
            <p:cNvPr id="169" name="Picture 4" descr="2006651812473333(1)"/>
            <p:cNvPicPr/>
            <p:nvPr/>
          </p:nvPicPr>
          <p:blipFill>
            <a:blip r:embed="rId1"/>
            <a:stretch/>
          </p:blipFill>
          <p:spPr>
            <a:xfrm>
              <a:off x="685800" y="304920"/>
              <a:ext cx="3737160" cy="15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4"/>
            <p:cNvSpPr/>
            <p:nvPr/>
          </p:nvSpPr>
          <p:spPr>
            <a:xfrm>
              <a:off x="967320" y="927000"/>
              <a:ext cx="381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Homework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9" descr="6O_)QX4XB2A`G4%TD3%@TXH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2"/>
          <p:cNvSpPr/>
          <p:nvPr/>
        </p:nvSpPr>
        <p:spPr>
          <a:xfrm>
            <a:off x="1295280" y="4267080"/>
            <a:ext cx="2438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1447920" y="3429000"/>
            <a:ext cx="2514600" cy="25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2057400" y="41911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228600" y="304920"/>
            <a:ext cx="4572000" cy="1218960"/>
            <a:chOff x="228600" y="304920"/>
            <a:chExt cx="4572000" cy="1218960"/>
          </a:xfrm>
        </p:grpSpPr>
        <p:pic>
          <p:nvPicPr>
            <p:cNvPr id="55" name="Picture 4" descr="2006651812473333(1)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4572000" cy="121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4"/>
            <p:cNvGrpSpPr/>
            <p:nvPr/>
          </p:nvGrpSpPr>
          <p:grpSpPr>
            <a:xfrm>
              <a:off x="512640" y="739080"/>
              <a:ext cx="4143240" cy="702360"/>
              <a:chOff x="512640" y="739080"/>
              <a:chExt cx="4143240" cy="702360"/>
            </a:xfrm>
          </p:grpSpPr>
          <p:sp>
            <p:nvSpPr>
              <p:cNvPr id="57" name="Text Box 4"/>
              <p:cNvSpPr/>
              <p:nvPr/>
            </p:nvSpPr>
            <p:spPr>
              <a:xfrm>
                <a:off x="512640" y="778680"/>
                <a:ext cx="4143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Watch and answer.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6"/>
              <p:cNvSpPr/>
              <p:nvPr/>
            </p:nvSpPr>
            <p:spPr>
              <a:xfrm>
                <a:off x="3752640" y="739080"/>
                <a:ext cx="39996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Text Box 7"/>
          <p:cNvSpPr/>
          <p:nvPr/>
        </p:nvSpPr>
        <p:spPr>
          <a:xfrm>
            <a:off x="609480" y="2392200"/>
            <a:ext cx="82296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any members are there in Wang Hong’s family? Who are the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王红家有几个家庭成员，他们分别是谁？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228600" y="304920"/>
            <a:ext cx="3962520" cy="1523520"/>
            <a:chOff x="228600" y="304920"/>
            <a:chExt cx="3962520" cy="1523520"/>
          </a:xfrm>
        </p:grpSpPr>
        <p:pic>
          <p:nvPicPr>
            <p:cNvPr id="61" name="Picture 4" descr="2006651812473333(1)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962520" cy="152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Group 4"/>
            <p:cNvGrpSpPr/>
            <p:nvPr/>
          </p:nvGrpSpPr>
          <p:grpSpPr>
            <a:xfrm>
              <a:off x="474840" y="847440"/>
              <a:ext cx="3591000" cy="701280"/>
              <a:chOff x="474840" y="847440"/>
              <a:chExt cx="3591000" cy="701280"/>
            </a:xfrm>
          </p:grpSpPr>
          <p:sp>
            <p:nvSpPr>
              <p:cNvPr id="63" name="Text Box 4"/>
              <p:cNvSpPr/>
              <p:nvPr/>
            </p:nvSpPr>
            <p:spPr>
              <a:xfrm>
                <a:off x="474840" y="896760"/>
                <a:ext cx="3591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I can answer.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6"/>
              <p:cNvSpPr/>
              <p:nvPr/>
            </p:nvSpPr>
            <p:spPr>
              <a:xfrm>
                <a:off x="3283200" y="847440"/>
                <a:ext cx="346680" cy="70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8"/>
          <p:cNvSpPr/>
          <p:nvPr/>
        </p:nvSpPr>
        <p:spPr>
          <a:xfrm>
            <a:off x="609480" y="2392200"/>
            <a:ext cx="82296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any members are there in Wang Hong’s family? Who are the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王红家有几个家庭成员，他们分别是谁？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4800600"/>
            <a:ext cx="91440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e’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ut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5638680"/>
            <a:ext cx="9144000" cy="70344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e’s lovely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5@~LVBX[P3L~S0386MDU811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3U~W]}UQ)FGU7TT]ZMQ9JT1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7{65~O%STY(C$_Z~$82]`@5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5"/>
          <p:cNvGrpSpPr/>
          <p:nvPr/>
        </p:nvGrpSpPr>
        <p:grpSpPr>
          <a:xfrm>
            <a:off x="228600" y="0"/>
            <a:ext cx="3962520" cy="1041120"/>
            <a:chOff x="228600" y="0"/>
            <a:chExt cx="3962520" cy="1041120"/>
          </a:xfrm>
        </p:grpSpPr>
        <p:pic>
          <p:nvPicPr>
            <p:cNvPr id="74" name="Picture 4" descr="2006651812473333(1)"/>
            <p:cNvPicPr/>
            <p:nvPr/>
          </p:nvPicPr>
          <p:blipFill>
            <a:blip r:embed="rId1"/>
            <a:stretch/>
          </p:blipFill>
          <p:spPr>
            <a:xfrm>
              <a:off x="228600" y="0"/>
              <a:ext cx="3962520" cy="95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17"/>
            <p:cNvGrpSpPr/>
            <p:nvPr/>
          </p:nvGrpSpPr>
          <p:grpSpPr>
            <a:xfrm>
              <a:off x="474840" y="340200"/>
              <a:ext cx="3591000" cy="700920"/>
              <a:chOff x="474840" y="340200"/>
              <a:chExt cx="3591000" cy="700920"/>
            </a:xfrm>
          </p:grpSpPr>
          <p:sp>
            <p:nvSpPr>
              <p:cNvPr id="76" name="Text Box 4"/>
              <p:cNvSpPr/>
              <p:nvPr/>
            </p:nvSpPr>
            <p:spPr>
              <a:xfrm>
                <a:off x="474840" y="372240"/>
                <a:ext cx="3591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Watch and answer.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9"/>
              <p:cNvSpPr/>
              <p:nvPr/>
            </p:nvSpPr>
            <p:spPr>
              <a:xfrm>
                <a:off x="3282480" y="340200"/>
                <a:ext cx="3474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8" name="Picture 21" descr="PN`WWSV4U7`IXS{AI}@SO]F"/>
          <p:cNvPicPr/>
          <p:nvPr/>
        </p:nvPicPr>
        <p:blipFill>
          <a:blip r:embed="rId2"/>
          <a:stretch/>
        </p:blipFill>
        <p:spPr>
          <a:xfrm>
            <a:off x="380880" y="1143000"/>
            <a:ext cx="205740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4"/>
          <p:cNvSpPr/>
          <p:nvPr/>
        </p:nvSpPr>
        <p:spPr>
          <a:xfrm>
            <a:off x="3505320" y="990720"/>
            <a:ext cx="5410080" cy="2286000"/>
          </a:xfrm>
          <a:prstGeom prst="cloudCallout">
            <a:avLst>
              <a:gd name="adj1" fmla="val -81337"/>
              <a:gd name="adj2" fmla="val 1868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971800" y="1523880"/>
            <a:ext cx="6477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What does your mother d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2.What does your father d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1676520" y="4191120"/>
            <a:ext cx="3124080" cy="1790640"/>
          </a:xfrm>
          <a:prstGeom prst="cloudCallout">
            <a:avLst>
              <a:gd name="adj1" fmla="val 107217"/>
              <a:gd name="adj2" fmla="val 850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T}9R]9QXZ$J~]E3X5$3FPCR"/>
          <p:cNvPicPr/>
          <p:nvPr/>
        </p:nvPicPr>
        <p:blipFill>
          <a:blip r:embed="rId3"/>
          <a:stretch/>
        </p:blipFill>
        <p:spPr>
          <a:xfrm>
            <a:off x="6705720" y="3581280"/>
            <a:ext cx="21142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"/>
          <p:cNvGrpSpPr/>
          <p:nvPr/>
        </p:nvGrpSpPr>
        <p:grpSpPr>
          <a:xfrm>
            <a:off x="380880" y="-76320"/>
            <a:ext cx="3429000" cy="1295640"/>
            <a:chOff x="380880" y="-76320"/>
            <a:chExt cx="3429000" cy="1295640"/>
          </a:xfrm>
        </p:grpSpPr>
        <p:pic>
          <p:nvPicPr>
            <p:cNvPr id="84" name="Picture 4" descr="2006651812473333(1)"/>
            <p:cNvPicPr/>
            <p:nvPr/>
          </p:nvPicPr>
          <p:blipFill>
            <a:blip r:embed="rId1"/>
            <a:stretch/>
          </p:blipFill>
          <p:spPr>
            <a:xfrm>
              <a:off x="380880" y="-76320"/>
              <a:ext cx="3429000" cy="12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6"/>
            <p:cNvGrpSpPr/>
            <p:nvPr/>
          </p:nvGrpSpPr>
          <p:grpSpPr>
            <a:xfrm>
              <a:off x="594000" y="384840"/>
              <a:ext cx="3107520" cy="703080"/>
              <a:chOff x="594000" y="384840"/>
              <a:chExt cx="3107520" cy="703080"/>
            </a:xfrm>
          </p:grpSpPr>
          <p:sp>
            <p:nvSpPr>
              <p:cNvPr id="86" name="Text Box 4"/>
              <p:cNvSpPr/>
              <p:nvPr/>
            </p:nvSpPr>
            <p:spPr>
              <a:xfrm>
                <a:off x="594000" y="428400"/>
                <a:ext cx="3107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I can answer.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8"/>
              <p:cNvSpPr/>
              <p:nvPr/>
            </p:nvSpPr>
            <p:spPr>
              <a:xfrm>
                <a:off x="3023640" y="384840"/>
                <a:ext cx="299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8" name="Picture 9" descr="PN`WWSV4U7`IXS{AI}@SO]F"/>
          <p:cNvPicPr/>
          <p:nvPr/>
        </p:nvPicPr>
        <p:blipFill>
          <a:blip r:embed="rId2"/>
          <a:stretch/>
        </p:blipFill>
        <p:spPr>
          <a:xfrm>
            <a:off x="457200" y="1295280"/>
            <a:ext cx="1600200" cy="1219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2057400" y="1477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What does your mother d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T}9R]9QXZ$J~]E3X5$3FPCR"/>
          <p:cNvPicPr/>
          <p:nvPr/>
        </p:nvPicPr>
        <p:blipFill>
          <a:blip r:embed="rId3"/>
          <a:stretch/>
        </p:blipFill>
        <p:spPr>
          <a:xfrm>
            <a:off x="609480" y="2514600"/>
            <a:ext cx="1447920" cy="1295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2362320" y="228600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. She’s an art teacher.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She’s an English teach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33720" y="21337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057400" y="3733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What does your father d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362320" y="434340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. He’s a doctor.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He’s a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usinessma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133720" y="48769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" descr="OPQ2NHT}_PD314GX9Q`AAEM"/>
          <p:cNvPicPr/>
          <p:nvPr/>
        </p:nvPicPr>
        <p:blipFill>
          <a:blip r:embed="rId4"/>
          <a:stretch/>
        </p:blipFill>
        <p:spPr>
          <a:xfrm>
            <a:off x="7696080" y="380988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5" descr="XFH41NQB}OHEXZ63T72A`ZR"/>
          <p:cNvPicPr/>
          <p:nvPr/>
        </p:nvPicPr>
        <p:blipFill>
          <a:blip r:embed="rId5"/>
          <a:stretch/>
        </p:blipFill>
        <p:spPr>
          <a:xfrm>
            <a:off x="7696080" y="160020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7T07:32:54Z</dcterms:created>
  <dc:creator/>
  <dc:description/>
  <dc:language>en-US</dc:language>
  <cp:lastModifiedBy>Administrator</cp:lastModifiedBy>
  <dcterms:modified xsi:type="dcterms:W3CDTF">2017-10-07T07:33:44Z</dcterms:modified>
  <cp:revision>1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Version">
    <vt:r8>1</vt:r8>
  </property>
</Properties>
</file>