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11B-B9A9-4466-9818-CD0AB5DB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B55-22B1-4FB3-9D79-DDED5290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4EC-56A9-4B3B-AEC9-1971237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5C1-677A-49BF-B87B-62C6A4C2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C5D-2D5B-41C6-9D9D-62D6EB9A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2A7-B294-4AB7-95CA-26B066A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AE6-C2A0-407C-A04D-68F0EDC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4FC-C45F-41D4-B0EA-FF213005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02A-43D0-48AA-A671-C389D70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6EC-2230-4045-96AA-8F097A0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59B-650F-4EC2-8376-1CBFBB5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0B2-0E8A-4D8C-B52B-82F98BC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9483-D132-4386-8639-F0CDB5674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U6_L2_Listen and say.sw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581280" y="388620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图片1"/>
          <p:cNvPicPr/>
          <p:nvPr/>
        </p:nvPicPr>
        <p:blipFill>
          <a:blip r:embed="rId1"/>
          <a:srcRect l="0" t="20000" r="10243" b="0"/>
          <a:stretch/>
        </p:blipFill>
        <p:spPr>
          <a:xfrm>
            <a:off x="5638680" y="152280"/>
            <a:ext cx="3276720" cy="2376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600200" y="609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nit 6 lesson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0880" y="1828800"/>
            <a:ext cx="828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What does your mother d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j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238760" y="5105520"/>
            <a:ext cx="2328120" cy="1312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963760" y="5029200"/>
            <a:ext cx="2102400" cy="1312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美术作品"/>
          <p:cNvPicPr/>
          <p:nvPr/>
        </p:nvPicPr>
        <p:blipFill>
          <a:blip r:embed="rId1"/>
          <a:stretch/>
        </p:blipFill>
        <p:spPr>
          <a:xfrm>
            <a:off x="0" y="0"/>
            <a:ext cx="5029200" cy="47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tutu"/>
          <p:cNvPicPr/>
          <p:nvPr/>
        </p:nvPicPr>
        <p:blipFill>
          <a:blip r:embed="rId2"/>
          <a:srcRect l="0" t="0" r="0" b="10686"/>
          <a:stretch/>
        </p:blipFill>
        <p:spPr>
          <a:xfrm>
            <a:off x="4724280" y="0"/>
            <a:ext cx="4419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200802111523349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744280" y="60948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 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8240" y="3352680"/>
            <a:ext cx="81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. 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ang Hong’s mother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280" y="4724280"/>
            <a:ext cx="79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 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ang Hong’s father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666880" y="167652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 Wang H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5"/>
          <p:cNvPicPr/>
          <p:nvPr/>
        </p:nvPicPr>
        <p:blipFill>
          <a:blip r:embed="rId2"/>
          <a:srcRect l="63004" t="28667" r="19974" b="30000"/>
          <a:stretch/>
        </p:blipFill>
        <p:spPr>
          <a:xfrm>
            <a:off x="304920" y="22860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8"/>
          <p:cNvPicPr/>
          <p:nvPr/>
        </p:nvPicPr>
        <p:blipFill>
          <a:blip r:embed="rId1"/>
          <a:srcRect l="0" t="0" r="0" b="590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Listen and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8436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20080211152334906"/>
          <p:cNvPicPr/>
          <p:nvPr/>
        </p:nvPicPr>
        <p:blipFill>
          <a:blip r:embed="rId1"/>
          <a:srcRect l="0" t="0" r="6666" b="13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-360" y="3200400"/>
            <a:ext cx="81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ang Hong’s mother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4648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ang Hong’s father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839160" y="388620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’s 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t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2209680" y="5562720"/>
            <a:ext cx="2743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85440" y="548640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 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businessm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05"/>
          <p:cNvPicPr/>
          <p:nvPr/>
        </p:nvPicPr>
        <p:blipFill>
          <a:blip r:embed="rId2"/>
          <a:srcRect l="63004" t="28667" r="19974" b="30000"/>
          <a:stretch/>
        </p:blipFill>
        <p:spPr>
          <a:xfrm>
            <a:off x="1219320" y="22860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6"/>
          <p:cNvPicPr/>
          <p:nvPr/>
        </p:nvPicPr>
        <p:blipFill>
          <a:blip r:embed="rId1"/>
          <a:srcRect l="5768" t="55104" r="36577" b="30065"/>
          <a:stretch/>
        </p:blipFill>
        <p:spPr>
          <a:xfrm>
            <a:off x="0" y="10666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54800" y="228600"/>
            <a:ext cx="50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, ask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08040" y="5987880"/>
            <a:ext cx="80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… do?      He’s/ She’s 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752480" y="13716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296240" y="1904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运用所学，完成下列职业调查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2743200"/>
          <a:ext cx="6629400" cy="3108240"/>
        </p:xfrm>
        <a:graphic>
          <a:graphicData uri="http://schemas.openxmlformats.org/drawingml/2006/table">
            <a:tbl>
              <a:tblPr/>
              <a:tblGrid>
                <a:gridCol w="1616040"/>
                <a:gridCol w="1014480"/>
                <a:gridCol w="1150920"/>
                <a:gridCol w="1082520"/>
                <a:gridCol w="17654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 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Line 205"/>
          <p:cNvSpPr/>
          <p:nvPr/>
        </p:nvSpPr>
        <p:spPr>
          <a:xfrm>
            <a:off x="1371600" y="27432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7:30:27Z</dcterms:created>
  <dc:creator/>
  <dc:description/>
  <dc:language>en-US</dc:language>
  <cp:lastModifiedBy>Administrator</cp:lastModifiedBy>
  <dcterms:modified xsi:type="dcterms:W3CDTF">2017-10-07T07:31:42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