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1263-E1C5-4261-AD1B-ED41651A0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933A-E92B-4528-A055-94744825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C8BD-FBE3-4734-943F-1107062C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A59-D15E-4B9A-8DDA-85F2B7A3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0E9-497A-46B4-88D0-5BF7EC5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0A6F-EDDB-4334-9462-5E80589A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80099-DBBA-4EFE-88E6-948DE01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CE26A-15D6-437D-9879-F6FB4B3C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E21FB-CEC6-4701-880B-BAA50ACD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ED183-8697-4980-9748-668F049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2C005-4EE0-4648-8568-FDD220F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4B3A5-449C-41E7-A425-1F410DD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26EEF-6DE6-4D21-82A6-DD46FC57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76A85-CF60-4909-BABA-524247A5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2163D-4A01-47F8-A1C7-AA15D67E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16D-B17A-42EB-BF4D-91E9A5FA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FCB25-C588-406E-95BB-3522D36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14379-582D-4762-BAEF-BC7F9B74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AF48C-0881-49F0-9C79-E5C84A55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72ED2-6482-4B7B-86AF-1CDD6EF6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4CB94-56C3-43E4-912A-F4C184F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0F331-D8D6-415C-9DE1-6B0E0A4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E5397-6230-4F7B-A9E0-DEA16D9D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92341-D744-40E4-8D59-2F1DF43F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6BC92-541F-4EB5-B5A2-E1A7E53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CB7AE-A6A2-490D-8A14-1B30F058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9B1-9D43-47F0-98EC-81016E97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3B80F-5EF3-4690-AB08-2167B6EC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20062-0A51-4F64-9253-981D3AD7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FED4-18B6-4607-B211-98E6CA68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B75F8-F881-4665-8671-D320014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8B4BD-4A3A-4CE4-AFE7-9211292E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ABA91-CA46-4918-BF60-A00BAE7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F9EE2-DC64-484F-8107-902A5CC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9E35-5B86-4B02-B9EC-E54901E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4ACE6-930B-4093-9C81-564BE36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850F-876B-40B4-99A2-7139D55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FE7F-29A2-43D4-B895-56B5CD93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0CF3-7442-400A-AAB1-3DF9A02E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D171D-41E1-4AAE-B1DE-B469D61C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3E374-4ABE-47D1-9EF2-E5566C45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7544E-628D-40C1-8F02-E3EA1688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951F-EE65-4440-9D0F-ECD586BD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F2798-FDC7-4285-B33C-D098EA47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DF56-9EC7-4561-B691-3A9B07A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C745A-A957-43B0-A99F-5FA02B7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B1EA3-2728-4EEA-9A70-AB51C1F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1BED2-C0D4-4C0F-A95C-76AB9AC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FEE0-0618-422A-95D3-A9852F91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348AF-A65D-404B-A478-0B10F74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8FF44-38C8-4535-85DF-87E077D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B286B-C18A-47F6-AB37-8FAF4180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13AF-EECC-48BC-81B8-1E3C2A7D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9A869-7646-4197-A16E-9257B213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8D0E-2A60-4EA6-BC61-F6FB9EEE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799D-1927-426A-AC65-665B99EB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04A7-DDE9-404F-B589-1B57DA2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13B-3E88-4A31-8DE8-581EAAB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BCC7-8F8C-41EE-A92C-54A45900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050-EB2E-4123-A276-16F744A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808-8482-441A-BBA9-0F34C34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0CA5-E8D1-49F9-9EE4-EC75DC6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B486-3D07-467C-A7A4-B8CF080F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A406-3131-493A-B8CA-C4A2924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A505-4CF4-4338-A53E-7FFE5C16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B66B-0898-4D68-82B0-3A110E51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49FC-C9A8-40FF-AAF8-CD7744F0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38EA-9FD9-4DBF-AFF8-0068111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EF89-7A1C-4170-A0A1-34A2310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C7AD-257E-466D-A922-720D50E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2A7-B79C-4A27-A77F-31314EDE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85337-8142-477D-9C05-5EBB1B3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2D4F-4434-4F9B-9CC4-26912CC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F6E2-1CBC-4E6B-97EF-BABB9FA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BB04-EE73-4C8D-8246-5F3AC37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3767-1C8E-41F4-A477-64B0AD1E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1AA1-6EE6-482A-9C61-ED5460F3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1A41-71FB-4F50-B0AC-4F3E96C4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EC5F-61D3-4DBB-B83D-908EEC3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3D69-130B-449B-9711-563AFF8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355D-E0F1-4093-9932-53202453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5DA-AC0F-4FF8-BD62-89770CE6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AE99-1169-4759-A66F-7DF81055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F3C9-8985-4F6C-9DDC-694A288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1162-A2FD-4939-89A1-C03ED4D7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C8A0-C92F-4241-8A76-9912FFD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F291-A8BB-4AC6-BE85-654988F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9E08-C7F9-41B0-A438-2D5C53C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EC57-7351-465B-9C1A-2F4B7A0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1692-2F7A-4264-984D-AE1DA239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953F-09F3-42ED-843B-BA931C64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D7FE-2794-418E-8B62-64350356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31A-3C2B-4F48-B493-9846A3D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CE71-B0A0-4575-BD9D-105AAA5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36A5-1F7F-42D6-B3D0-07490798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58D62-989C-4799-A4B5-70888D6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7D57-2CF4-400E-8B58-6CC8A33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64D5-56B3-455C-AAFB-9F401ED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CB3B9-42E1-4744-B6E6-593FFFC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70AA-25D8-4052-B41A-E896110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4FB8F-36E3-4DD6-BBA8-F829C37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4CFD-A366-4DC1-8392-F5AF9F3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C0EB-6203-435C-B94B-4B7687AE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9A3-8B44-4533-9B0F-31311A6F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86F5-4753-4C3D-9011-7FDD027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8454-F353-455B-89A2-B8E7BB37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ABEAE-8463-46ED-9C05-F89A1E5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556D-8DF7-4F73-83C4-757FBF4B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71C4-6E17-4666-BA6B-C0679515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949D-C3C3-49AF-91C4-2FF9FC17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48AEA-96EB-4258-80C7-9DC23BB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B338-6431-4C53-9097-65A42E6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B31F-FD4C-47C2-8351-7EB8E64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B3DF-4CCE-4B60-A17F-EA84370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72D-874B-4659-BFEF-6207217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FDFEA-31E0-43E4-A7E6-7D97475F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3C0BE-3708-48C8-A4FC-6F85F03E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8414-1583-4422-A04A-877B07A1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898E8-5780-43A2-99C0-9DB0378D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2E61-3144-498E-8751-DDA20E09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A6411-44B1-43CF-8234-509DCC0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AA9A1-C350-406A-912B-E6ACB3A8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3FEDD-F0EC-491A-B594-645EC0D9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33359-6483-453A-8FDA-A5771BD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A2FF-C910-4EFD-89DA-8F67406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029-54D2-4DFD-8667-C000A41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19AB-3A40-41F6-90FE-D5073D32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E4361-59A2-4572-B7E7-ACA5F793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92821-394F-422E-9CF7-10530A79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7BE3-8FCA-4D8B-9AFE-012B4512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4E51A-B68D-4628-B33D-BD8CA382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88846-3AC2-41C2-8BA9-0691C92B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74A0-D8AD-4B31-BC37-7E1BE841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F646D-6F4B-468E-A9DD-A76BBFC3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6826-34C1-44C9-97BF-D4861E20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8352B-2146-4E40-A812-C06C381D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87B-9622-4440-B19F-BB3E9F2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D7ED-2D1C-4830-9502-FC8C6904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6E81A-2A33-4567-AC15-BD8528C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2566-0F87-440D-B74C-470691F7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9801-02D6-4762-800E-577164E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6D4CE-034D-42E9-B4DA-DE8EADD2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52B2-1058-4E97-81CC-381606DF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AC6BE-4C7E-4EF6-A84E-674E9AEC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46366-BD91-47C1-87AE-CF256A52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3276A-37AC-4480-BF89-A4E3E2E2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9364C-7DDE-4AFB-9C00-798FF298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2A21-AD5A-4EB8-8C43-342A0A3D3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E68-B043-43B7-8E93-5988497D5E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1AFA-A64E-4AFE-9F57-88CA54C96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D16B-62C7-4AAD-90D1-3EAEEFC4AD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A249-4922-43F7-9AE0-C54FDD514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353-20DC-4CD1-A7F8-BD9F55AE6C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5ECB-7139-49E4-8852-9B41BE858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4DA8-D034-4DAA-9D2D-4A10B2BAFF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8EB-8ABD-48E2-AD5A-AB09E44BF2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2ED5-72CC-423F-9903-B02503DA85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7E14-DA0A-49A1-A026-DCCC71FE75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50A-952F-4480-813B-F73CE1CE54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-396720" y="1527120"/>
            <a:ext cx="110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Jokerman"/>
                <a:ea typeface="宋体"/>
              </a:rPr>
              <a:t>I live in a big ho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2786040" y="2858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Jokerman"/>
              </a:rPr>
              <a:t>Unit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3" descr="house"/>
          <p:cNvPicPr/>
          <p:nvPr/>
        </p:nvPicPr>
        <p:blipFill>
          <a:blip r:embed="rId1"/>
          <a:stretch/>
        </p:blipFill>
        <p:spPr>
          <a:xfrm>
            <a:off x="-19080" y="2500200"/>
            <a:ext cx="6697800" cy="4357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0" descr="82"/>
          <p:cNvPicPr/>
          <p:nvPr/>
        </p:nvPicPr>
        <p:blipFill>
          <a:blip r:embed="rId2"/>
          <a:stretch/>
        </p:blipFill>
        <p:spPr>
          <a:xfrm>
            <a:off x="7642080" y="0"/>
            <a:ext cx="1501920" cy="208764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4859280" y="4292640"/>
            <a:ext cx="49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Jokerman"/>
              </a:rPr>
              <a:t>Module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餐厅"/>
          <p:cNvPicPr/>
          <p:nvPr/>
        </p:nvPicPr>
        <p:blipFill>
          <a:blip r:embed="rId1"/>
          <a:stretch/>
        </p:blipFill>
        <p:spPr>
          <a:xfrm>
            <a:off x="1547640" y="2421000"/>
            <a:ext cx="2881440" cy="225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客厅"/>
          <p:cNvPicPr/>
          <p:nvPr/>
        </p:nvPicPr>
        <p:blipFill>
          <a:blip r:embed="rId2"/>
          <a:stretch/>
        </p:blipFill>
        <p:spPr>
          <a:xfrm>
            <a:off x="4859280" y="2421000"/>
            <a:ext cx="2951280" cy="2303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书房"/>
          <p:cNvPicPr/>
          <p:nvPr/>
        </p:nvPicPr>
        <p:blipFill>
          <a:blip r:embed="rId3"/>
          <a:stretch/>
        </p:blipFill>
        <p:spPr>
          <a:xfrm>
            <a:off x="6232680" y="0"/>
            <a:ext cx="2911320" cy="22114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卧室"/>
          <p:cNvPicPr/>
          <p:nvPr/>
        </p:nvPicPr>
        <p:blipFill>
          <a:blip r:embed="rId4"/>
          <a:stretch/>
        </p:blipFill>
        <p:spPr>
          <a:xfrm>
            <a:off x="0" y="0"/>
            <a:ext cx="3056040" cy="2292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浴室"/>
          <p:cNvPicPr/>
          <p:nvPr/>
        </p:nvPicPr>
        <p:blipFill>
          <a:blip r:embed="rId5"/>
          <a:stretch/>
        </p:blipFill>
        <p:spPr>
          <a:xfrm>
            <a:off x="3203640" y="0"/>
            <a:ext cx="2881080" cy="22683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8"/>
          <p:cNvSpPr/>
          <p:nvPr/>
        </p:nvSpPr>
        <p:spPr>
          <a:xfrm>
            <a:off x="142920" y="4857840"/>
            <a:ext cx="2268360" cy="5814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re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2484360" y="4941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42764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h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6443640" y="4941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908000" y="5805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n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356000" y="5877000"/>
            <a:ext cx="86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5435640" y="58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5"/>
          <p:cNvSpPr/>
          <p:nvPr/>
        </p:nvSpPr>
        <p:spPr>
          <a:xfrm>
            <a:off x="2571840" y="54291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6"/>
          <p:cNvSpPr/>
          <p:nvPr/>
        </p:nvSpPr>
        <p:spPr>
          <a:xfrm>
            <a:off x="4587840" y="54291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6388200" y="54291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1979640" y="2060640"/>
            <a:ext cx="5905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at’s in her new h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2071800" y="628668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9"/>
          <p:cNvSpPr/>
          <p:nvPr/>
        </p:nvSpPr>
        <p:spPr>
          <a:xfrm>
            <a:off x="5572080" y="62866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8" descr="餐厅"/>
          <p:cNvPicPr/>
          <p:nvPr/>
        </p:nvPicPr>
        <p:blipFill>
          <a:blip r:embed="rId1"/>
          <a:stretch/>
        </p:blipFill>
        <p:spPr>
          <a:xfrm>
            <a:off x="6000840" y="2997360"/>
            <a:ext cx="3143160" cy="172692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re do you watch TV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1062000" y="18572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200320" y="18572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500040" y="21430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135540~1"/>
          <p:cNvPicPr/>
          <p:nvPr/>
        </p:nvPicPr>
        <p:blipFill>
          <a:blip r:embed="rId2"/>
          <a:stretch/>
        </p:blipFill>
        <p:spPr>
          <a:xfrm>
            <a:off x="6000840" y="1214280"/>
            <a:ext cx="3143160" cy="1656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2"/>
          <p:cNvSpPr/>
          <p:nvPr/>
        </p:nvSpPr>
        <p:spPr>
          <a:xfrm>
            <a:off x="0" y="3000240"/>
            <a:ext cx="6012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re do you have lunch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500040" y="400356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1042920" y="37209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2484360" y="379260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963800" y="369108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n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0" y="4724280"/>
            <a:ext cx="619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re do you go to b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428760" y="6072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971640" y="57942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3"/>
          <p:cNvSpPr/>
          <p:nvPr/>
        </p:nvSpPr>
        <p:spPr>
          <a:xfrm>
            <a:off x="2340000" y="59500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4" descr="卧室"/>
          <p:cNvPicPr/>
          <p:nvPr/>
        </p:nvPicPr>
        <p:blipFill>
          <a:blip r:embed="rId3"/>
          <a:stretch/>
        </p:blipFill>
        <p:spPr>
          <a:xfrm>
            <a:off x="6000840" y="4797360"/>
            <a:ext cx="3000240" cy="19162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25"/>
          <p:cNvSpPr/>
          <p:nvPr/>
        </p:nvSpPr>
        <p:spPr>
          <a:xfrm>
            <a:off x="2122560" y="57643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21"/>
          <p:cNvSpPr/>
          <p:nvPr/>
        </p:nvSpPr>
        <p:spPr>
          <a:xfrm>
            <a:off x="285840" y="214200"/>
            <a:ext cx="43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Jokerman"/>
              </a:rPr>
              <a:t>Look and 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119882~1"/>
          <p:cNvPicPr/>
          <p:nvPr/>
        </p:nvPicPr>
        <p:blipFill>
          <a:blip r:embed="rId1"/>
          <a:stretch/>
        </p:blipFill>
        <p:spPr>
          <a:xfrm>
            <a:off x="4857840" y="0"/>
            <a:ext cx="3809880" cy="48578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250920" y="5084640"/>
            <a:ext cx="5321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’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s in your new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201202~1"/>
          <p:cNvPicPr/>
          <p:nvPr/>
        </p:nvPicPr>
        <p:blipFill>
          <a:blip r:embed="rId2"/>
          <a:stretch/>
        </p:blipFill>
        <p:spPr>
          <a:xfrm>
            <a:off x="285840" y="0"/>
            <a:ext cx="4324320" cy="23572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7"/>
          <p:cNvSpPr/>
          <p:nvPr/>
        </p:nvSpPr>
        <p:spPr>
          <a:xfrm>
            <a:off x="324000" y="5877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Ther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2340000" y="587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wo bedroom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5075280" y="58579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6072120" y="585792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bathro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C:\Users\yuluo\Desktop\图片1.jpg"/>
          <p:cNvPicPr/>
          <p:nvPr/>
        </p:nvPicPr>
        <p:blipFill>
          <a:blip r:embed="rId3"/>
          <a:stretch/>
        </p:blipFill>
        <p:spPr>
          <a:xfrm>
            <a:off x="285840" y="2428920"/>
            <a:ext cx="4286160" cy="245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3"/>
          <p:cNvSpPr/>
          <p:nvPr/>
        </p:nvSpPr>
        <p:spPr>
          <a:xfrm>
            <a:off x="0" y="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Jokerman"/>
              </a:rPr>
              <a:t>Let’s t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C:\Users\yuluo\Desktop\2419558_185452003323_2.jpg"/>
          <p:cNvPicPr/>
          <p:nvPr/>
        </p:nvPicPr>
        <p:blipFill>
          <a:blip r:embed="rId1"/>
          <a:stretch/>
        </p:blipFill>
        <p:spPr>
          <a:xfrm>
            <a:off x="1785960" y="928800"/>
            <a:ext cx="4968720" cy="35384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F:\小朋友对话图\Y7(N7_LAVMF$%`E}MX4ED_C.jpg"/>
          <p:cNvPicPr/>
          <p:nvPr/>
        </p:nvPicPr>
        <p:blipFill>
          <a:blip r:embed="rId2"/>
          <a:stretch/>
        </p:blipFill>
        <p:spPr>
          <a:xfrm>
            <a:off x="0" y="4592520"/>
            <a:ext cx="1857240" cy="2265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F:\小朋友对话图\U)%QA8S(T]5[A~70]UD]9}M.jpg"/>
          <p:cNvPicPr/>
          <p:nvPr/>
        </p:nvPicPr>
        <p:blipFill>
          <a:blip r:embed="rId3"/>
          <a:stretch/>
        </p:blipFill>
        <p:spPr>
          <a:xfrm>
            <a:off x="7143840" y="4237200"/>
            <a:ext cx="1633320" cy="2620800"/>
          </a:xfrm>
          <a:prstGeom prst="rect">
            <a:avLst/>
          </a:prstGeom>
          <a:ln w="0">
            <a:noFill/>
          </a:ln>
        </p:spPr>
      </p:pic>
      <p:sp>
        <p:nvSpPr>
          <p:cNvPr id="590" name="圆角矩形标注 8"/>
          <p:cNvSpPr/>
          <p:nvPr/>
        </p:nvSpPr>
        <p:spPr>
          <a:xfrm>
            <a:off x="3786120" y="4500720"/>
            <a:ext cx="3000600" cy="857160"/>
          </a:xfrm>
          <a:prstGeom prst="wedgeRoundRectCallout">
            <a:avLst>
              <a:gd name="adj1" fmla="val 66375"/>
              <a:gd name="adj2" fmla="val 32962"/>
              <a:gd name="adj3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y, what’s in your new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标注 9"/>
          <p:cNvSpPr/>
          <p:nvPr/>
        </p:nvSpPr>
        <p:spPr>
          <a:xfrm>
            <a:off x="2143080" y="5500800"/>
            <a:ext cx="3857760" cy="1214280"/>
          </a:xfrm>
          <a:prstGeom prst="wedgeRoundRectCallout">
            <a:avLst>
              <a:gd name="adj1" fmla="val -58541"/>
              <a:gd name="adj2" fmla="val -42527"/>
              <a:gd name="adj3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athroom, a bedroom, a dining room and a liv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C:\Users\yuluo\Desktop\2419558_204305341347_2.jpg"/>
          <p:cNvPicPr/>
          <p:nvPr/>
        </p:nvPicPr>
        <p:blipFill>
          <a:blip r:embed="rId1"/>
          <a:stretch/>
        </p:blipFill>
        <p:spPr>
          <a:xfrm>
            <a:off x="3286080" y="214200"/>
            <a:ext cx="2795760" cy="2428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C:\Users\yuluo\Desktop\2419558_200752612312_2.jpg"/>
          <p:cNvPicPr/>
          <p:nvPr/>
        </p:nvPicPr>
        <p:blipFill>
          <a:blip r:embed="rId2"/>
          <a:stretch/>
        </p:blipFill>
        <p:spPr>
          <a:xfrm>
            <a:off x="142920" y="214200"/>
            <a:ext cx="3092400" cy="2428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C:\Users\yuluo\Desktop\2457331_175401748000_2.jpg"/>
          <p:cNvPicPr/>
          <p:nvPr/>
        </p:nvPicPr>
        <p:blipFill>
          <a:blip r:embed="rId3"/>
          <a:stretch/>
        </p:blipFill>
        <p:spPr>
          <a:xfrm>
            <a:off x="6215040" y="214200"/>
            <a:ext cx="2714760" cy="2428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F:\卡通人物\untitled58_副本.png"/>
          <p:cNvPicPr/>
          <p:nvPr/>
        </p:nvPicPr>
        <p:blipFill>
          <a:blip r:embed="rId4"/>
          <a:stretch/>
        </p:blipFill>
        <p:spPr>
          <a:xfrm>
            <a:off x="285840" y="3714840"/>
            <a:ext cx="1990800" cy="2923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F:\卡通人物\657987987_副本.png"/>
          <p:cNvPicPr/>
          <p:nvPr/>
        </p:nvPicPr>
        <p:blipFill>
          <a:blip r:embed="rId5"/>
          <a:stretch/>
        </p:blipFill>
        <p:spPr>
          <a:xfrm>
            <a:off x="6700680" y="3714840"/>
            <a:ext cx="2443320" cy="2981160"/>
          </a:xfrm>
          <a:prstGeom prst="rect">
            <a:avLst/>
          </a:prstGeom>
          <a:ln w="0">
            <a:noFill/>
          </a:ln>
        </p:spPr>
      </p:pic>
      <p:sp>
        <p:nvSpPr>
          <p:cNvPr id="597" name="圆角矩形标注 9"/>
          <p:cNvSpPr/>
          <p:nvPr/>
        </p:nvSpPr>
        <p:spPr>
          <a:xfrm>
            <a:off x="2571840" y="3071880"/>
            <a:ext cx="3000240" cy="857160"/>
          </a:xfrm>
          <a:prstGeom prst="wedgeRoundRectCallout">
            <a:avLst>
              <a:gd name="adj1" fmla="val -65842"/>
              <a:gd name="adj2" fmla="val 42810"/>
              <a:gd name="adj3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a, what’s in your new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圆角矩形标注 10"/>
          <p:cNvSpPr/>
          <p:nvPr/>
        </p:nvSpPr>
        <p:spPr>
          <a:xfrm>
            <a:off x="3214800" y="4857840"/>
            <a:ext cx="3143160" cy="1214280"/>
          </a:xfrm>
          <a:prstGeom prst="wedgeRoundRectCallout">
            <a:avLst>
              <a:gd name="adj1" fmla="val 62527"/>
              <a:gd name="adj2" fmla="val -40208"/>
              <a:gd name="adj3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bedrooms and a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5" descr="C:\Users\yuluo\Desktop\2457331_175401748000_2.jpg"/>
          <p:cNvPicPr/>
          <p:nvPr/>
        </p:nvPicPr>
        <p:blipFill>
          <a:blip r:embed="rId1"/>
          <a:stretch/>
        </p:blipFill>
        <p:spPr>
          <a:xfrm>
            <a:off x="285840" y="142920"/>
            <a:ext cx="2857320" cy="198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餐厅"/>
          <p:cNvPicPr/>
          <p:nvPr/>
        </p:nvPicPr>
        <p:blipFill>
          <a:blip r:embed="rId2"/>
          <a:stretch/>
        </p:blipFill>
        <p:spPr>
          <a:xfrm>
            <a:off x="3286080" y="1429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客厅"/>
          <p:cNvPicPr/>
          <p:nvPr/>
        </p:nvPicPr>
        <p:blipFill>
          <a:blip r:embed="rId3"/>
          <a:stretch/>
        </p:blipFill>
        <p:spPr>
          <a:xfrm>
            <a:off x="6215040" y="142920"/>
            <a:ext cx="2643120" cy="2000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F:\卡通人物\2268125362335740824.png"/>
          <p:cNvPicPr/>
          <p:nvPr/>
        </p:nvPicPr>
        <p:blipFill>
          <a:blip r:embed="rId4"/>
          <a:stretch/>
        </p:blipFill>
        <p:spPr>
          <a:xfrm>
            <a:off x="428760" y="3000240"/>
            <a:ext cx="2104920" cy="3543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F:\卡通人物\5c6a4baa7060b068f82ed4cf2361_325_322.png"/>
          <p:cNvPicPr/>
          <p:nvPr/>
        </p:nvPicPr>
        <p:blipFill>
          <a:blip r:embed="rId5"/>
          <a:stretch/>
        </p:blipFill>
        <p:spPr>
          <a:xfrm>
            <a:off x="6643800" y="2571840"/>
            <a:ext cx="2276280" cy="4133880"/>
          </a:xfrm>
          <a:prstGeom prst="rect">
            <a:avLst/>
          </a:prstGeom>
          <a:ln w="0">
            <a:noFill/>
          </a:ln>
        </p:spPr>
      </p:pic>
      <p:sp>
        <p:nvSpPr>
          <p:cNvPr id="604" name="圆角矩形标注 8"/>
          <p:cNvSpPr/>
          <p:nvPr/>
        </p:nvSpPr>
        <p:spPr>
          <a:xfrm>
            <a:off x="3571920" y="2428920"/>
            <a:ext cx="3000240" cy="857160"/>
          </a:xfrm>
          <a:prstGeom prst="wedgeRoundRectCallout">
            <a:avLst>
              <a:gd name="adj1" fmla="val 66375"/>
              <a:gd name="adj2" fmla="val 32962"/>
              <a:gd name="adj3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, what’s in your new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圆角矩形标注 9"/>
          <p:cNvSpPr/>
          <p:nvPr/>
        </p:nvSpPr>
        <p:spPr>
          <a:xfrm>
            <a:off x="2643120" y="4000680"/>
            <a:ext cx="3429000" cy="1444320"/>
          </a:xfrm>
          <a:prstGeom prst="wedgeRoundRectCallout">
            <a:avLst>
              <a:gd name="adj1" fmla="val -58541"/>
              <a:gd name="adj2" fmla="val -42527"/>
              <a:gd name="adj3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kitchen, a dining room and a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0" y="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0" y="7858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将左右两边对应起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3"/>
          <p:cNvSpPr/>
          <p:nvPr/>
        </p:nvSpPr>
        <p:spPr>
          <a:xfrm>
            <a:off x="428760" y="1571760"/>
            <a:ext cx="2714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t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圆角矩形 4"/>
          <p:cNvSpPr/>
          <p:nvPr/>
        </p:nvSpPr>
        <p:spPr>
          <a:xfrm>
            <a:off x="428760" y="2571840"/>
            <a:ext cx="2714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圆角矩形 5"/>
          <p:cNvSpPr/>
          <p:nvPr/>
        </p:nvSpPr>
        <p:spPr>
          <a:xfrm>
            <a:off x="428760" y="3571920"/>
            <a:ext cx="2714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圆角矩形 6"/>
          <p:cNvSpPr/>
          <p:nvPr/>
        </p:nvSpPr>
        <p:spPr>
          <a:xfrm>
            <a:off x="428760" y="4572000"/>
            <a:ext cx="27144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圆角矩形 7"/>
          <p:cNvSpPr/>
          <p:nvPr/>
        </p:nvSpPr>
        <p:spPr>
          <a:xfrm>
            <a:off x="428760" y="5643720"/>
            <a:ext cx="2714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d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图片 8" descr="QQ截图20140708145710.png"/>
          <p:cNvPicPr/>
          <p:nvPr/>
        </p:nvPicPr>
        <p:blipFill>
          <a:blip r:embed="rId1"/>
          <a:stretch/>
        </p:blipFill>
        <p:spPr>
          <a:xfrm>
            <a:off x="5572080" y="142920"/>
            <a:ext cx="1443240" cy="1332000"/>
          </a:xfrm>
          <a:prstGeom prst="rect">
            <a:avLst/>
          </a:prstGeom>
          <a:ln w="0">
            <a:noFill/>
          </a:ln>
        </p:spPr>
      </p:pic>
      <p:sp>
        <p:nvSpPr>
          <p:cNvPr id="614" name="TextBox 9"/>
          <p:cNvSpPr/>
          <p:nvPr/>
        </p:nvSpPr>
        <p:spPr>
          <a:xfrm>
            <a:off x="7000920" y="6429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10" descr="QQ截图20140708145754.png"/>
          <p:cNvPicPr/>
          <p:nvPr/>
        </p:nvPicPr>
        <p:blipFill>
          <a:blip r:embed="rId2"/>
          <a:stretch/>
        </p:blipFill>
        <p:spPr>
          <a:xfrm>
            <a:off x="5572080" y="1500120"/>
            <a:ext cx="1478160" cy="13035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1"/>
          <p:cNvSpPr/>
          <p:nvPr/>
        </p:nvSpPr>
        <p:spPr>
          <a:xfrm>
            <a:off x="7072200" y="18572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12" descr="QQ截图20140708145803.png"/>
          <p:cNvPicPr/>
          <p:nvPr/>
        </p:nvPicPr>
        <p:blipFill>
          <a:blip r:embed="rId3"/>
          <a:stretch/>
        </p:blipFill>
        <p:spPr>
          <a:xfrm>
            <a:off x="5572080" y="2857680"/>
            <a:ext cx="1514520" cy="128556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3"/>
          <p:cNvSpPr/>
          <p:nvPr/>
        </p:nvSpPr>
        <p:spPr>
          <a:xfrm>
            <a:off x="7072200" y="32860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ch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片 14" descr="QQ截图20140708145814.png"/>
          <p:cNvPicPr/>
          <p:nvPr/>
        </p:nvPicPr>
        <p:blipFill>
          <a:blip r:embed="rId4"/>
          <a:stretch/>
        </p:blipFill>
        <p:spPr>
          <a:xfrm>
            <a:off x="5572080" y="4214880"/>
            <a:ext cx="1500120" cy="1214280"/>
          </a:xfrm>
          <a:prstGeom prst="rect">
            <a:avLst/>
          </a:prstGeom>
          <a:ln w="0">
            <a:noFill/>
          </a:ln>
        </p:spPr>
      </p:pic>
      <p:sp>
        <p:nvSpPr>
          <p:cNvPr id="620" name="TextBox 15"/>
          <p:cNvSpPr/>
          <p:nvPr/>
        </p:nvSpPr>
        <p:spPr>
          <a:xfrm>
            <a:off x="7072200" y="450072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your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16" descr="QQ截图20140708145824.png"/>
          <p:cNvPicPr/>
          <p:nvPr/>
        </p:nvPicPr>
        <p:blipFill>
          <a:blip r:embed="rId5"/>
          <a:stretch/>
        </p:blipFill>
        <p:spPr>
          <a:xfrm>
            <a:off x="5572080" y="5500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17"/>
          <p:cNvSpPr/>
          <p:nvPr/>
        </p:nvSpPr>
        <p:spPr>
          <a:xfrm>
            <a:off x="7072200" y="585792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ush your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直接箭头连接符 19"/>
          <p:cNvCxnSpPr>
            <a:stCxn id="608" idx="3"/>
          </p:cNvCxnSpPr>
          <p:nvPr/>
        </p:nvCxnSpPr>
        <p:spPr>
          <a:xfrm>
            <a:off x="3142800" y="1857240"/>
            <a:ext cx="2429640" cy="421560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624" name="直接箭头连接符 21"/>
          <p:cNvCxnSpPr>
            <a:stCxn id="609" idx="3"/>
          </p:cNvCxnSpPr>
          <p:nvPr/>
        </p:nvCxnSpPr>
        <p:spPr>
          <a:xfrm>
            <a:off x="3142800" y="2857320"/>
            <a:ext cx="2429640" cy="196596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625" name="直接箭头连接符 23"/>
          <p:cNvCxnSpPr>
            <a:stCxn id="610" idx="3"/>
          </p:cNvCxnSpPr>
          <p:nvPr/>
        </p:nvCxnSpPr>
        <p:spPr>
          <a:xfrm flipV="1">
            <a:off x="3142800" y="3499560"/>
            <a:ext cx="2429640" cy="35820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626" name="直接箭头连接符 25"/>
          <p:cNvCxnSpPr>
            <a:stCxn id="611" idx="3"/>
          </p:cNvCxnSpPr>
          <p:nvPr/>
        </p:nvCxnSpPr>
        <p:spPr>
          <a:xfrm flipV="1">
            <a:off x="3142800" y="808920"/>
            <a:ext cx="2429640" cy="404892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627" name="直接箭头连接符 27"/>
          <p:cNvCxnSpPr>
            <a:stCxn id="612" idx="3"/>
          </p:cNvCxnSpPr>
          <p:nvPr/>
        </p:nvCxnSpPr>
        <p:spPr>
          <a:xfrm flipV="1">
            <a:off x="3142800" y="2150280"/>
            <a:ext cx="2429640" cy="377892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3" descr="house"/>
          <p:cNvPicPr/>
          <p:nvPr/>
        </p:nvPicPr>
        <p:blipFill>
          <a:blip r:embed="rId1"/>
          <a:stretch/>
        </p:blipFill>
        <p:spPr>
          <a:xfrm>
            <a:off x="0" y="2500200"/>
            <a:ext cx="6697800" cy="4357800"/>
          </a:xfrm>
          <a:prstGeom prst="rect">
            <a:avLst/>
          </a:prstGeom>
          <a:ln w="0">
            <a:noFill/>
          </a:ln>
        </p:spPr>
      </p:pic>
      <p:sp>
        <p:nvSpPr>
          <p:cNvPr id="629" name="TextBox 3"/>
          <p:cNvSpPr/>
          <p:nvPr/>
        </p:nvSpPr>
        <p:spPr>
          <a:xfrm>
            <a:off x="1285920" y="428760"/>
            <a:ext cx="7858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Joker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ff"/>
                </a:solidFill>
                <a:latin typeface="Jokerman"/>
              </a:rPr>
              <a:t>See you next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0" descr="82"/>
          <p:cNvPicPr/>
          <p:nvPr/>
        </p:nvPicPr>
        <p:blipFill>
          <a:blip r:embed="rId2"/>
          <a:stretch/>
        </p:blipFill>
        <p:spPr>
          <a:xfrm>
            <a:off x="7000920" y="3000240"/>
            <a:ext cx="1501560" cy="208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6"/>
          <p:cNvSpPr/>
          <p:nvPr/>
        </p:nvSpPr>
        <p:spPr>
          <a:xfrm>
            <a:off x="3394440" y="352440"/>
            <a:ext cx="55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Franklin Gothic Medium"/>
              </a:rPr>
              <a:t>Unit2 A new 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"/>
          <p:cNvSpPr/>
          <p:nvPr/>
        </p:nvSpPr>
        <p:spPr>
          <a:xfrm>
            <a:off x="2514600" y="3808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  new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0" y="1428840"/>
            <a:ext cx="9144000" cy="101592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Comic Sans MS"/>
              </a:rPr>
              <a:t>What’s in her new hous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0" descr="C:\Users\yuluo\Desktop\T1xFeSXfFkXXchfy7W_023829.jpg_310x310_副本.png"/>
          <p:cNvPicPr/>
          <p:nvPr/>
        </p:nvPicPr>
        <p:blipFill>
          <a:blip r:embed="rId2"/>
          <a:stretch/>
        </p:blipFill>
        <p:spPr>
          <a:xfrm>
            <a:off x="6286680" y="2428920"/>
            <a:ext cx="2500200" cy="385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卧室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1857240" y="574992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bedroom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卧室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书房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2714760" y="575928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study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书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1357200" y="574992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bathroom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浴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浴室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1857240" y="574992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kitchen</a:t>
            </a: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厨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C:\Users\yuluo\Desktop\2457331_175401748000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客厅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1143000" y="57499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living room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客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857160" y="5749920"/>
            <a:ext cx="771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dinning room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餐厅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C:\Documents and Settings\hp\桌面\P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1066680" y="4952880"/>
            <a:ext cx="129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3143160" y="5000760"/>
            <a:ext cx="2571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6572160" y="5429160"/>
            <a:ext cx="1676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it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6215040" y="4429080"/>
            <a:ext cx="230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n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500040" y="2786040"/>
            <a:ext cx="2071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ath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0"/>
          <p:cNvSpPr/>
          <p:nvPr/>
        </p:nvSpPr>
        <p:spPr>
          <a:xfrm>
            <a:off x="2928960" y="2643120"/>
            <a:ext cx="2000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0"/>
          <p:cNvSpPr/>
          <p:nvPr/>
        </p:nvSpPr>
        <p:spPr>
          <a:xfrm>
            <a:off x="6000840" y="2571840"/>
            <a:ext cx="1928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7:14:17Z</dcterms:created>
  <dc:creator/>
  <dc:description/>
  <dc:language>en-US</dc:language>
  <cp:lastModifiedBy/>
  <dcterms:modified xsi:type="dcterms:W3CDTF">2014-08-22T07:32:11Z</dcterms:modified>
  <cp:revision>264</cp:revision>
  <dc:subject/>
  <dc:title/>
</cp:coreProperties>
</file>