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C6CF-3C2A-40DC-802E-2FD82D8C61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A090-E64F-4A97-A69D-906DF0256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8D90-6593-4E53-BAA9-FFDB65DFC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9E1-B64F-433C-869B-8EE993EF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0C0-28A6-4227-AE82-29720D9C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323-577F-4EA5-A330-E3E58012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4E6-2DE7-4495-8ED2-F44888A8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F11-A40C-4A3A-A4DE-01CB2AE3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D9F-52BC-4DF1-AACE-D73ADF3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F18-D5C1-4671-8B91-E25C51FE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FE1-F22C-40F8-BF34-1C04BC5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A02-643E-444D-B507-36B88581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871-695A-42D5-80AD-9276463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E1B-735A-4E35-A144-EE6A68A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BF7-2A5B-4AFC-AD30-48D3F10B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8E36-5A48-4C7F-B349-7215642A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362320" y="9907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4 My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2840" y="198108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it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stars does each grou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C:\Users\yinghu\AppData\Roaming\Tencent\Users\1585676360\QQ\WinTemp\RichOle\`(I83%][P}$OAM$83WS92_J.jpg"/>
          <p:cNvPicPr/>
          <p:nvPr/>
        </p:nvPicPr>
        <p:blipFill>
          <a:blip r:embed="rId1"/>
          <a:stretch/>
        </p:blipFill>
        <p:spPr>
          <a:xfrm>
            <a:off x="0" y="5381640"/>
            <a:ext cx="144792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yinghu\AppData\Roaming\Tencent\Users\1585676360\QQ\WinTemp\RichOle\PX`9PVR5OZA6S$[U094N5~3.jpg"/>
          <p:cNvPicPr/>
          <p:nvPr/>
        </p:nvPicPr>
        <p:blipFill>
          <a:blip r:embed="rId2"/>
          <a:stretch/>
        </p:blipFill>
        <p:spPr>
          <a:xfrm>
            <a:off x="1828800" y="5324400"/>
            <a:ext cx="1380960" cy="153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:\Users\yinghu\AppData\Roaming\Tencent\Users\1585676360\QQ\WinTemp\RichOle\R9}~GVQ60~E(EUOS]VZH{K2.jpg"/>
          <p:cNvPicPr/>
          <p:nvPr/>
        </p:nvPicPr>
        <p:blipFill>
          <a:blip r:embed="rId3"/>
          <a:stretch/>
        </p:blipFill>
        <p:spPr>
          <a:xfrm>
            <a:off x="3733920" y="4038480"/>
            <a:ext cx="138096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:\Users\yinghu\AppData\Roaming\Tencent\Users\1585676360\QQ\WinTemp\RichOle\2}OLZXV[NM}MAG81PMSOZJU.jpg"/>
          <p:cNvPicPr/>
          <p:nvPr/>
        </p:nvPicPr>
        <p:blipFill>
          <a:blip r:embed="rId4"/>
          <a:stretch/>
        </p:blipFill>
        <p:spPr>
          <a:xfrm>
            <a:off x="5638680" y="3429000"/>
            <a:ext cx="145728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C:\Users\yinghu\AppData\Roaming\Tencent\Users\1585676360\QQ\WinTemp\RichOle\NV[A%RZ681[2{XPQQLZ01Y7.jpg"/>
          <p:cNvPicPr/>
          <p:nvPr/>
        </p:nvPicPr>
        <p:blipFill>
          <a:blip r:embed="rId5"/>
          <a:stretch/>
        </p:blipFill>
        <p:spPr>
          <a:xfrm>
            <a:off x="7620120" y="3352680"/>
            <a:ext cx="1523880" cy="13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573480" y="533520"/>
            <a:ext cx="241200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C:\Users\yinghu\AppData\Roaming\Tencent\Users\1585676360\QQ\WinTemp\RichOle\D}G~23W~VQ2MUMK`MDCNWND.jpg"/>
          <p:cNvPicPr/>
          <p:nvPr/>
        </p:nvPicPr>
        <p:blipFill>
          <a:blip r:embed="rId1"/>
          <a:stretch/>
        </p:blipFill>
        <p:spPr>
          <a:xfrm>
            <a:off x="6095880" y="2778120"/>
            <a:ext cx="2638440" cy="1758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304920" y="1981080"/>
            <a:ext cx="7924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      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769120" y="198108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ap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807840" y="3505320"/>
            <a:ext cx="46674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ve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app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691720" y="3581280"/>
            <a:ext cx="82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73480" y="533520"/>
            <a:ext cx="241200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C:\Users\yinghu\AppData\Roaming\Tencent\Users\1585676360\QQ\WinTemp\RichOle\D}G~23W~VQ2MUMK`MDCNWND.jpg"/>
          <p:cNvPicPr/>
          <p:nvPr/>
        </p:nvPicPr>
        <p:blipFill>
          <a:blip r:embed="rId1"/>
          <a:stretch/>
        </p:blipFill>
        <p:spPr>
          <a:xfrm>
            <a:off x="6477120" y="3048120"/>
            <a:ext cx="232236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0" y="1752480"/>
            <a:ext cx="76960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       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531160" y="1752480"/>
            <a:ext cx="19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fl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09320" y="3657600"/>
            <a:ext cx="529956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ve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flower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099880" y="3657600"/>
            <a:ext cx="15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s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573480" y="533520"/>
            <a:ext cx="241200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04920" y="1981080"/>
            <a:ext cx="7924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          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791080" y="198108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860760" y="3505320"/>
            <a:ext cx="430776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ve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551680" y="3581280"/>
            <a:ext cx="12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7763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573480" y="533520"/>
            <a:ext cx="241200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304920" y="1981080"/>
            <a:ext cx="81532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oranges       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735080" y="1981080"/>
            <a:ext cx="30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o you 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73760" y="3273480"/>
            <a:ext cx="523872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ve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ang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2331360" y="3303720"/>
            <a:ext cx="10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4724280" y="4041720"/>
            <a:ext cx="4138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矩形 1" descr=""/>
          <p:cNvPicPr/>
          <p:nvPr/>
        </p:nvPicPr>
        <p:blipFill>
          <a:blip r:embed="rId1"/>
          <a:stretch/>
        </p:blipFill>
        <p:spPr>
          <a:xfrm>
            <a:off x="36360" y="585720"/>
            <a:ext cx="4675320" cy="1133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228600" y="24908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和同一小组的同学参照身边物品练习本课句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2916360" cy="3429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940360" y="0"/>
            <a:ext cx="3203640" cy="3933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916360" y="0"/>
            <a:ext cx="3095640" cy="278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916360" y="2781360"/>
            <a:ext cx="3095640" cy="4076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12000" y="3500280"/>
            <a:ext cx="3132000" cy="335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3429000"/>
            <a:ext cx="2916360" cy="3429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矩形 39" descr=""/>
          <p:cNvPicPr/>
          <p:nvPr/>
        </p:nvPicPr>
        <p:blipFill>
          <a:blip r:embed="rId1"/>
          <a:stretch/>
        </p:blipFill>
        <p:spPr>
          <a:xfrm>
            <a:off x="792000" y="1639800"/>
            <a:ext cx="70596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36520" y="609480"/>
            <a:ext cx="7560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books 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501560" y="1981080"/>
            <a:ext cx="466272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oo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Users\yinghu\AppData\Roaming\Tencent\Users\1585676360\QQ\WinTemp\RichOle\3MC[4CWVIHSP)WGC]_PHPHI.jpg"/>
          <p:cNvPicPr/>
          <p:nvPr/>
        </p:nvPicPr>
        <p:blipFill>
          <a:blip r:embed="rId1"/>
          <a:stretch/>
        </p:blipFill>
        <p:spPr>
          <a:xfrm>
            <a:off x="7791480" y="152280"/>
            <a:ext cx="1352520" cy="1409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yinghu\AppData\Roaming\Tencent\Users\1585676360\QQ\WinTemp\RichOle\%}N9WTZLF39KT2PTV)9F0YJ.jpg"/>
          <p:cNvPicPr/>
          <p:nvPr/>
        </p:nvPicPr>
        <p:blipFill>
          <a:blip r:embed="rId2"/>
          <a:stretch/>
        </p:blipFill>
        <p:spPr>
          <a:xfrm>
            <a:off x="0" y="21337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3"/>
          <a:stretch/>
        </p:blipFill>
        <p:spPr>
          <a:xfrm>
            <a:off x="4710240" y="3416400"/>
            <a:ext cx="2941560" cy="28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4"/>
          <a:stretch/>
        </p:blipFill>
        <p:spPr>
          <a:xfrm>
            <a:off x="1434960" y="3273480"/>
            <a:ext cx="30736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54880" y="609480"/>
            <a:ext cx="79819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crayons 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525680" y="1720800"/>
            <a:ext cx="579204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v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v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ray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yinghu\AppData\Roaming\Tencent\Users\1585676360\QQ\WinTemp\RichOle\3MC[4CWVIHSP)WGC]_PHPHI.jpg"/>
          <p:cNvPicPr/>
          <p:nvPr/>
        </p:nvPicPr>
        <p:blipFill>
          <a:blip r:embed="rId1"/>
          <a:stretch/>
        </p:blipFill>
        <p:spPr>
          <a:xfrm>
            <a:off x="7791480" y="152280"/>
            <a:ext cx="1352520" cy="14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yinghu\AppData\Roaming\Tencent\Users\1585676360\QQ\WinTemp\RichOle\%}N9WTZLF39KT2PTV)9F0YJ.jpg"/>
          <p:cNvPicPr/>
          <p:nvPr/>
        </p:nvPicPr>
        <p:blipFill>
          <a:blip r:embed="rId2"/>
          <a:stretch/>
        </p:blipFill>
        <p:spPr>
          <a:xfrm>
            <a:off x="0" y="21337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3"/>
          <a:stretch/>
        </p:blipFill>
        <p:spPr>
          <a:xfrm>
            <a:off x="1828800" y="2666880"/>
            <a:ext cx="419724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9920" y="609480"/>
            <a:ext cx="78858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eraser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740600" y="2514600"/>
            <a:ext cx="550872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ve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eigh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eras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yinghu\AppData\Roaming\Tencent\Users\1585676360\QQ\WinTemp\RichOle\3MC[4CWVIHSP)WGC]_PHPHI.jpg"/>
          <p:cNvPicPr/>
          <p:nvPr/>
        </p:nvPicPr>
        <p:blipFill>
          <a:blip r:embed="rId1"/>
          <a:stretch/>
        </p:blipFill>
        <p:spPr>
          <a:xfrm>
            <a:off x="7791480" y="152280"/>
            <a:ext cx="135252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yinghu\AppData\Roaming\Tencent\Users\1585676360\QQ\WinTemp\RichOle\%}N9WTZLF39KT2PTV)9F0YJ.jpg"/>
          <p:cNvPicPr/>
          <p:nvPr/>
        </p:nvPicPr>
        <p:blipFill>
          <a:blip r:embed="rId2"/>
          <a:stretch/>
        </p:blipFill>
        <p:spPr>
          <a:xfrm>
            <a:off x="0" y="21337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738360" y="3994200"/>
            <a:ext cx="2819160" cy="2343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4"/>
          <a:stretch/>
        </p:blipFill>
        <p:spPr>
          <a:xfrm>
            <a:off x="3733920" y="3994200"/>
            <a:ext cx="2819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714240" y="1000080"/>
            <a:ext cx="6413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Comic Sans MS"/>
              </a:rPr>
              <a:t>How many … do you hav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85840" y="2209680"/>
            <a:ext cx="8858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这是对颜色的提问，意为：你有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本书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回答：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 have +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数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五角星 4"/>
          <p:cNvGrpSpPr/>
          <p:nvPr/>
        </p:nvGrpSpPr>
        <p:grpSpPr>
          <a:xfrm>
            <a:off x="-271440" y="3243240"/>
            <a:ext cx="1332000" cy="1090440"/>
            <a:chOff x="-271440" y="3243240"/>
            <a:chExt cx="1332000" cy="1090440"/>
          </a:xfrm>
        </p:grpSpPr>
        <p:pic>
          <p:nvPicPr>
            <p:cNvPr id="75" name="五角星 4" descr=""/>
            <p:cNvPicPr/>
            <p:nvPr/>
          </p:nvPicPr>
          <p:blipFill>
            <a:blip r:embed="rId1"/>
            <a:stretch/>
          </p:blipFill>
          <p:spPr>
            <a:xfrm>
              <a:off x="-271440" y="3243240"/>
              <a:ext cx="13320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6"/>
            <p:cNvSpPr/>
            <p:nvPr/>
          </p:nvSpPr>
          <p:spPr>
            <a:xfrm>
              <a:off x="208080" y="3700440"/>
              <a:ext cx="371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3"/>
          <p:cNvSpPr/>
          <p:nvPr/>
        </p:nvSpPr>
        <p:spPr>
          <a:xfrm>
            <a:off x="990720" y="3505320"/>
            <a:ext cx="7072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omic Sans MS"/>
              </a:rPr>
              <a:t>How many books do you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有几本书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omic Sans MS"/>
              </a:rPr>
              <a:t>I have seven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有七本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ectangle 5" descr=""/>
          <p:cNvPicPr/>
          <p:nvPr/>
        </p:nvPicPr>
        <p:blipFill>
          <a:blip r:embed="rId1"/>
          <a:stretch/>
        </p:blipFill>
        <p:spPr>
          <a:xfrm>
            <a:off x="316080" y="58680"/>
            <a:ext cx="8510400" cy="2441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500040" y="473400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Dotum"/>
              </a:rPr>
              <a:t>There are three glasses of sod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447920" y="2476440"/>
            <a:ext cx="1838160" cy="225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581280" y="2500200"/>
            <a:ext cx="1819440" cy="2235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5629320" y="2387520"/>
            <a:ext cx="19098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5" descr=""/>
          <p:cNvPicPr/>
          <p:nvPr/>
        </p:nvPicPr>
        <p:blipFill>
          <a:blip r:embed="rId1"/>
          <a:stretch/>
        </p:blipFill>
        <p:spPr>
          <a:xfrm>
            <a:off x="146160" y="-46080"/>
            <a:ext cx="8753400" cy="2441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500040" y="473400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Dotum"/>
              </a:rPr>
              <a:t>There are nine pieces of pizz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Dan\Local Settings\Temporary Internet Files\Content.IE5\S1E3SXUN\MCj02333470000[1].wmf"/>
          <p:cNvPicPr/>
          <p:nvPr/>
        </p:nvPicPr>
        <p:blipFill>
          <a:blip r:embed="rId2"/>
          <a:stretch/>
        </p:blipFill>
        <p:spPr>
          <a:xfrm>
            <a:off x="3643200" y="3719520"/>
            <a:ext cx="1317600" cy="116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Dan\Local Settings\Temporary Internet Files\Content.IE5\S1E3SXUN\MCj02333470000[1].wmf"/>
          <p:cNvPicPr/>
          <p:nvPr/>
        </p:nvPicPr>
        <p:blipFill>
          <a:blip r:embed="rId3"/>
          <a:stretch/>
        </p:blipFill>
        <p:spPr>
          <a:xfrm>
            <a:off x="5045040" y="3719520"/>
            <a:ext cx="1317600" cy="1168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Dan\Local Settings\Temporary Internet Files\Content.IE5\S1E3SXUN\MCj02333470000[1].wmf"/>
          <p:cNvPicPr/>
          <p:nvPr/>
        </p:nvPicPr>
        <p:blipFill>
          <a:blip r:embed="rId4"/>
          <a:stretch/>
        </p:blipFill>
        <p:spPr>
          <a:xfrm>
            <a:off x="2214720" y="3357720"/>
            <a:ext cx="1317600" cy="1168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Dan\Local Settings\Temporary Internet Files\Content.IE5\S1E3SXUN\MCj02333470000[1].wmf"/>
          <p:cNvPicPr/>
          <p:nvPr/>
        </p:nvPicPr>
        <p:blipFill>
          <a:blip r:embed="rId5"/>
          <a:stretch/>
        </p:blipFill>
        <p:spPr>
          <a:xfrm>
            <a:off x="4357800" y="2500200"/>
            <a:ext cx="1317600" cy="116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Dan\Local Settings\Temporary Internet Files\Content.IE5\S1E3SXUN\MCj02333470000[1].wmf"/>
          <p:cNvPicPr/>
          <p:nvPr/>
        </p:nvPicPr>
        <p:blipFill>
          <a:blip r:embed="rId6"/>
          <a:stretch/>
        </p:blipFill>
        <p:spPr>
          <a:xfrm>
            <a:off x="1000080" y="2643120"/>
            <a:ext cx="1317600" cy="116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Dan\Local Settings\Temporary Internet Files\Content.IE5\S1E3SXUN\MCj02333470000[1].wmf"/>
          <p:cNvPicPr/>
          <p:nvPr/>
        </p:nvPicPr>
        <p:blipFill>
          <a:blip r:embed="rId7"/>
          <a:stretch/>
        </p:blipFill>
        <p:spPr>
          <a:xfrm>
            <a:off x="6143760" y="2571840"/>
            <a:ext cx="1317600" cy="1168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Dan\Local Settings\Temporary Internet Files\Content.IE5\S1E3SXUN\MCj02333470000[1].wmf"/>
          <p:cNvPicPr/>
          <p:nvPr/>
        </p:nvPicPr>
        <p:blipFill>
          <a:blip r:embed="rId8"/>
          <a:stretch/>
        </p:blipFill>
        <p:spPr>
          <a:xfrm>
            <a:off x="7581960" y="2617920"/>
            <a:ext cx="1317600" cy="116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Dan\Local Settings\Temporary Internet Files\Content.IE5\S1E3SXUN\MCj02333470000[1].wmf"/>
          <p:cNvPicPr/>
          <p:nvPr/>
        </p:nvPicPr>
        <p:blipFill>
          <a:blip r:embed="rId9"/>
          <a:stretch/>
        </p:blipFill>
        <p:spPr>
          <a:xfrm>
            <a:off x="6477120" y="3746520"/>
            <a:ext cx="1317600" cy="116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Dan\Local Settings\Temporary Internet Files\Content.IE5\S1E3SXUN\MCj02333470000[1].wmf"/>
          <p:cNvPicPr/>
          <p:nvPr/>
        </p:nvPicPr>
        <p:blipFill>
          <a:blip r:embed="rId10"/>
          <a:stretch/>
        </p:blipFill>
        <p:spPr>
          <a:xfrm>
            <a:off x="2881440" y="2332080"/>
            <a:ext cx="131760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5" descr=""/>
          <p:cNvPicPr/>
          <p:nvPr/>
        </p:nvPicPr>
        <p:blipFill>
          <a:blip r:embed="rId1"/>
          <a:stretch/>
        </p:blipFill>
        <p:spPr>
          <a:xfrm>
            <a:off x="384120" y="-46080"/>
            <a:ext cx="8272440" cy="2441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500040" y="473400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Dotum"/>
              </a:rPr>
              <a:t>There are six bowls of ric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36520" y="2813040"/>
            <a:ext cx="145404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611600" y="2876400"/>
            <a:ext cx="1449360" cy="1363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4"/>
          <a:stretch/>
        </p:blipFill>
        <p:spPr>
          <a:xfrm>
            <a:off x="3189240" y="2857680"/>
            <a:ext cx="1425600" cy="133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1703520" y="2822400"/>
            <a:ext cx="1461960" cy="137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6"/>
          <a:stretch/>
        </p:blipFill>
        <p:spPr>
          <a:xfrm>
            <a:off x="6060960" y="2857680"/>
            <a:ext cx="1481400" cy="139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7"/>
          <a:stretch/>
        </p:blipFill>
        <p:spPr>
          <a:xfrm>
            <a:off x="7578720" y="2841480"/>
            <a:ext cx="14986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4"/>
          <p:cNvSpPr/>
          <p:nvPr/>
        </p:nvSpPr>
        <p:spPr>
          <a:xfrm>
            <a:off x="642960" y="1473120"/>
            <a:ext cx="83581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Meiryo UI"/>
              </a:rPr>
              <a:t>How many … are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Meiryo UI"/>
              </a:rPr>
              <a:t>有多少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Meiryo UI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Meiryo UI"/>
              </a:rPr>
              <a:t>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Meiryo UI"/>
              </a:rPr>
              <a:t>答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eiryo U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eiryo UI"/>
              </a:rPr>
              <a:t>There is a / an / on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eiryo U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eiryo UI"/>
              </a:rPr>
              <a:t>There are two / thre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4:39:04Z</dcterms:created>
  <dc:creator/>
  <dc:description/>
  <dc:language>en-US</dc:language>
  <cp:lastModifiedBy/>
  <dcterms:modified xsi:type="dcterms:W3CDTF">2014-08-28T02:19:53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