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3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drumroll.wav" ContentType="audio/x-wav"/>
  <Override PartName="/ppt/media/image15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C601-885C-4915-A701-2E2A771D0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D259-D5B0-42CA-8F11-C6E0E199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7707-C2A2-473A-B437-7D58141B4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1FD2-03A5-491B-8A19-059FEECAE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768C-F5A9-4EFB-B9AA-19F0F1D9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E7D6-4E13-4402-8B15-7C95EAFC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FDEE-727B-4DE7-8128-234E48C5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1053-B353-4C22-BB62-EEC5D56B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9EBB-714E-40FF-888A-F673EC1A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F387-B8BD-41EF-A422-084BEC57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6392-EB81-4F49-875A-64B6AE81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6A0D-11C9-44B8-83EF-A60893AC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BBA8-7C2E-4241-AA39-997CE22B3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举荷叶的小妖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 You Short or Tal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2009122173332239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pic3183"/>
          <p:cNvPicPr/>
          <p:nvPr/>
        </p:nvPicPr>
        <p:blipFill>
          <a:blip r:embed="rId2"/>
          <a:stretch/>
        </p:blipFill>
        <p:spPr>
          <a:xfrm>
            <a:off x="228600" y="1312920"/>
            <a:ext cx="3025800" cy="5545080"/>
          </a:xfrm>
          <a:prstGeom prst="rect">
            <a:avLst/>
          </a:prstGeom>
          <a:ln w="0">
            <a:noFill/>
          </a:ln>
        </p:spPr>
      </p:pic>
      <p:sp>
        <p:nvSpPr>
          <p:cNvPr id="121" name="Line 8"/>
          <p:cNvSpPr/>
          <p:nvPr/>
        </p:nvSpPr>
        <p:spPr>
          <a:xfrm>
            <a:off x="2590920" y="495288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9"/>
          <p:cNvSpPr/>
          <p:nvPr/>
        </p:nvSpPr>
        <p:spPr>
          <a:xfrm flipV="1">
            <a:off x="2590920" y="205704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0"/>
          <p:cNvSpPr/>
          <p:nvPr/>
        </p:nvSpPr>
        <p:spPr>
          <a:xfrm flipH="1">
            <a:off x="2362320" y="1981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1"/>
          <p:cNvSpPr/>
          <p:nvPr/>
        </p:nvSpPr>
        <p:spPr>
          <a:xfrm>
            <a:off x="2514600" y="66294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1371600" y="45720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w  tall  is  she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3048120" y="1447920"/>
            <a:ext cx="6095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he’s  1.6 metres  tall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2009122173332239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228600" y="228600"/>
            <a:ext cx="89154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我用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你用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；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用在他、她、它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遇到复数全用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一个人名用什么，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，啊！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2009122173332239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228600" y="838080"/>
            <a:ext cx="8229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llo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 name is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Dic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.I am a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bo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.I am a pupil .I am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eleven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years old . My  birthday is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December  seventeen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. I’m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1.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etres  ta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2009122173332239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英语介绍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测量父母身高，下次上课了告诉同学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练习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.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2009122173332239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304920" y="457200"/>
            <a:ext cx="8229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ello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y  name is  </a:t>
            </a: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Dick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.I am a </a:t>
            </a: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bo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.I am a pupil .I am </a:t>
            </a: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eleven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years old . My  birthday is </a:t>
            </a: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December  seventeenth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2009122173332239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u=2642334478,1008080286&amp;fm=21&amp;gp=0"/>
          <p:cNvPicPr/>
          <p:nvPr/>
        </p:nvPicPr>
        <p:blipFill>
          <a:blip r:embed="rId2"/>
          <a:stretch/>
        </p:blipFill>
        <p:spPr>
          <a:xfrm>
            <a:off x="609480" y="1447920"/>
            <a:ext cx="3948120" cy="49719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4800600" y="1219320"/>
            <a:ext cx="41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 Giraffe   is  tall and the  panda  is   sho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2009122173332239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1_110128152300_1"/>
          <p:cNvPicPr/>
          <p:nvPr/>
        </p:nvPicPr>
        <p:blipFill>
          <a:blip r:embed="rId2"/>
          <a:stretch/>
        </p:blipFill>
        <p:spPr>
          <a:xfrm>
            <a:off x="685800" y="380880"/>
            <a:ext cx="3505320" cy="60199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4952880" y="1219320"/>
            <a:ext cx="38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e’s   tall 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2009122173332239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2911-110Z215491490"/>
          <p:cNvPicPr/>
          <p:nvPr/>
        </p:nvPicPr>
        <p:blipFill>
          <a:blip r:embed="rId2"/>
          <a:stretch/>
        </p:blipFill>
        <p:spPr>
          <a:xfrm>
            <a:off x="1523880" y="3048120"/>
            <a:ext cx="1905120" cy="29718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1905120" y="1143000"/>
            <a:ext cx="6933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e’s   short 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Text Box 2"/>
          <p:cNvGrpSpPr/>
          <p:nvPr/>
        </p:nvGrpSpPr>
        <p:grpSpPr>
          <a:xfrm>
            <a:off x="6072120" y="646200"/>
            <a:ext cx="2206800" cy="1206360"/>
            <a:chOff x="6072120" y="646200"/>
            <a:chExt cx="2206800" cy="1206360"/>
          </a:xfrm>
        </p:grpSpPr>
        <p:pic>
          <p:nvPicPr>
            <p:cNvPr id="64" name="Text Box 2" descr=""/>
            <p:cNvPicPr/>
            <p:nvPr/>
          </p:nvPicPr>
          <p:blipFill>
            <a:blip r:embed="rId1"/>
            <a:stretch/>
          </p:blipFill>
          <p:spPr>
            <a:xfrm>
              <a:off x="6072120" y="646200"/>
              <a:ext cx="220680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377040" y="847800"/>
              <a:ext cx="177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1.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Text Box 3"/>
          <p:cNvGrpSpPr/>
          <p:nvPr/>
        </p:nvGrpSpPr>
        <p:grpSpPr>
          <a:xfrm>
            <a:off x="5711760" y="2919240"/>
            <a:ext cx="3353040" cy="1208160"/>
            <a:chOff x="5711760" y="2919240"/>
            <a:chExt cx="3353040" cy="1208160"/>
          </a:xfrm>
        </p:grpSpPr>
        <p:pic>
          <p:nvPicPr>
            <p:cNvPr id="67" name="Text Box 3" descr=""/>
            <p:cNvPicPr/>
            <p:nvPr/>
          </p:nvPicPr>
          <p:blipFill>
            <a:blip r:embed="rId2"/>
            <a:stretch/>
          </p:blipFill>
          <p:spPr>
            <a:xfrm>
              <a:off x="5711760" y="2919240"/>
              <a:ext cx="3353040" cy="12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19920" y="3124080"/>
              <a:ext cx="291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Text Box 4"/>
          <p:cNvGrpSpPr/>
          <p:nvPr/>
        </p:nvGrpSpPr>
        <p:grpSpPr>
          <a:xfrm>
            <a:off x="3048120" y="4218120"/>
            <a:ext cx="2182680" cy="1207800"/>
            <a:chOff x="3048120" y="4218120"/>
            <a:chExt cx="2182680" cy="1207800"/>
          </a:xfrm>
        </p:grpSpPr>
        <p:pic>
          <p:nvPicPr>
            <p:cNvPr id="70" name="Text Box 4" descr=""/>
            <p:cNvPicPr/>
            <p:nvPr/>
          </p:nvPicPr>
          <p:blipFill>
            <a:blip r:embed="rId3"/>
            <a:stretch/>
          </p:blipFill>
          <p:spPr>
            <a:xfrm>
              <a:off x="3048120" y="4218120"/>
              <a:ext cx="2182680" cy="120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352680" y="4419720"/>
              <a:ext cx="175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1.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Text Box 5"/>
          <p:cNvGrpSpPr/>
          <p:nvPr/>
        </p:nvGrpSpPr>
        <p:grpSpPr>
          <a:xfrm>
            <a:off x="6480" y="2895480"/>
            <a:ext cx="2633400" cy="1206720"/>
            <a:chOff x="6480" y="2895480"/>
            <a:chExt cx="2633400" cy="1206720"/>
          </a:xfrm>
        </p:grpSpPr>
        <p:pic>
          <p:nvPicPr>
            <p:cNvPr id="73" name="Text Box 5" descr=""/>
            <p:cNvPicPr/>
            <p:nvPr/>
          </p:nvPicPr>
          <p:blipFill>
            <a:blip r:embed="rId4"/>
            <a:stretch/>
          </p:blipFill>
          <p:spPr>
            <a:xfrm>
              <a:off x="6480" y="2895480"/>
              <a:ext cx="2633400" cy="120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311040" y="3100320"/>
              <a:ext cx="220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1.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Text Box 6"/>
          <p:cNvGrpSpPr/>
          <p:nvPr/>
        </p:nvGrpSpPr>
        <p:grpSpPr>
          <a:xfrm>
            <a:off x="6016680" y="4218120"/>
            <a:ext cx="3249720" cy="1207800"/>
            <a:chOff x="6016680" y="4218120"/>
            <a:chExt cx="3249720" cy="1207800"/>
          </a:xfrm>
        </p:grpSpPr>
        <p:pic>
          <p:nvPicPr>
            <p:cNvPr id="76" name="Text Box 6" descr=""/>
            <p:cNvPicPr/>
            <p:nvPr/>
          </p:nvPicPr>
          <p:blipFill>
            <a:blip r:embed="rId5"/>
            <a:stretch/>
          </p:blipFill>
          <p:spPr>
            <a:xfrm>
              <a:off x="6016680" y="4218120"/>
              <a:ext cx="3249720" cy="120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6324480" y="4419720"/>
              <a:ext cx="281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2.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Text Box 7"/>
          <p:cNvGrpSpPr/>
          <p:nvPr/>
        </p:nvGrpSpPr>
        <p:grpSpPr>
          <a:xfrm>
            <a:off x="304920" y="633240"/>
            <a:ext cx="2182680" cy="1208160"/>
            <a:chOff x="304920" y="633240"/>
            <a:chExt cx="2182680" cy="1208160"/>
          </a:xfrm>
        </p:grpSpPr>
        <p:pic>
          <p:nvPicPr>
            <p:cNvPr id="79" name="Text Box 7" descr=""/>
            <p:cNvPicPr/>
            <p:nvPr/>
          </p:nvPicPr>
          <p:blipFill>
            <a:blip r:embed="rId6"/>
            <a:stretch/>
          </p:blipFill>
          <p:spPr>
            <a:xfrm>
              <a:off x="304920" y="633240"/>
              <a:ext cx="2182680" cy="12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611280" y="836640"/>
              <a:ext cx="175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Text Box 8"/>
          <p:cNvGrpSpPr/>
          <p:nvPr/>
        </p:nvGrpSpPr>
        <p:grpSpPr>
          <a:xfrm>
            <a:off x="231840" y="4254480"/>
            <a:ext cx="2176560" cy="1208160"/>
            <a:chOff x="231840" y="4254480"/>
            <a:chExt cx="2176560" cy="1208160"/>
          </a:xfrm>
        </p:grpSpPr>
        <p:pic>
          <p:nvPicPr>
            <p:cNvPr id="82" name="Text Box 8" descr=""/>
            <p:cNvPicPr/>
            <p:nvPr/>
          </p:nvPicPr>
          <p:blipFill>
            <a:blip r:embed="rId7"/>
            <a:stretch/>
          </p:blipFill>
          <p:spPr>
            <a:xfrm>
              <a:off x="231840" y="4254480"/>
              <a:ext cx="2176560" cy="12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534960" y="4459320"/>
              <a:ext cx="175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Text Box 9"/>
          <p:cNvGrpSpPr/>
          <p:nvPr/>
        </p:nvGrpSpPr>
        <p:grpSpPr>
          <a:xfrm>
            <a:off x="225360" y="1779480"/>
            <a:ext cx="2401920" cy="1208160"/>
            <a:chOff x="225360" y="1779480"/>
            <a:chExt cx="2401920" cy="1208160"/>
          </a:xfrm>
        </p:grpSpPr>
        <p:pic>
          <p:nvPicPr>
            <p:cNvPr id="85" name="Text Box 9" descr=""/>
            <p:cNvPicPr/>
            <p:nvPr/>
          </p:nvPicPr>
          <p:blipFill>
            <a:blip r:embed="rId8"/>
            <a:stretch/>
          </p:blipFill>
          <p:spPr>
            <a:xfrm>
              <a:off x="225360" y="1779480"/>
              <a:ext cx="2401920" cy="12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533520" y="1981080"/>
              <a:ext cx="197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4.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Text Box 10"/>
          <p:cNvGrpSpPr/>
          <p:nvPr/>
        </p:nvGrpSpPr>
        <p:grpSpPr>
          <a:xfrm>
            <a:off x="3200400" y="633240"/>
            <a:ext cx="1805040" cy="1208160"/>
            <a:chOff x="3200400" y="633240"/>
            <a:chExt cx="1805040" cy="1208160"/>
          </a:xfrm>
        </p:grpSpPr>
        <p:pic>
          <p:nvPicPr>
            <p:cNvPr id="88" name="Text Box 10" descr=""/>
            <p:cNvPicPr/>
            <p:nvPr/>
          </p:nvPicPr>
          <p:blipFill>
            <a:blip r:embed="rId9"/>
            <a:stretch/>
          </p:blipFill>
          <p:spPr>
            <a:xfrm>
              <a:off x="3200400" y="633240"/>
              <a:ext cx="1805040" cy="12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3505320" y="838080"/>
              <a:ext cx="13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2.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Text Box 11"/>
          <p:cNvGrpSpPr/>
          <p:nvPr/>
        </p:nvGrpSpPr>
        <p:grpSpPr>
          <a:xfrm>
            <a:off x="3121200" y="1852560"/>
            <a:ext cx="1884240" cy="1208160"/>
            <a:chOff x="3121200" y="1852560"/>
            <a:chExt cx="1884240" cy="1208160"/>
          </a:xfrm>
        </p:grpSpPr>
        <p:pic>
          <p:nvPicPr>
            <p:cNvPr id="91" name="Text Box 11" descr=""/>
            <p:cNvPicPr/>
            <p:nvPr/>
          </p:nvPicPr>
          <p:blipFill>
            <a:blip r:embed="rId10"/>
            <a:stretch/>
          </p:blipFill>
          <p:spPr>
            <a:xfrm>
              <a:off x="3121200" y="1852560"/>
              <a:ext cx="1884240" cy="12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3429000" y="2057400"/>
              <a:ext cx="1452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Text Box 12"/>
          <p:cNvGrpSpPr/>
          <p:nvPr/>
        </p:nvGrpSpPr>
        <p:grpSpPr>
          <a:xfrm>
            <a:off x="2968560" y="2998800"/>
            <a:ext cx="2414520" cy="1208160"/>
            <a:chOff x="2968560" y="2998800"/>
            <a:chExt cx="2414520" cy="1208160"/>
          </a:xfrm>
        </p:grpSpPr>
        <p:pic>
          <p:nvPicPr>
            <p:cNvPr id="94" name="Text Box 12" descr=""/>
            <p:cNvPicPr/>
            <p:nvPr/>
          </p:nvPicPr>
          <p:blipFill>
            <a:blip r:embed="rId11"/>
            <a:stretch/>
          </p:blipFill>
          <p:spPr>
            <a:xfrm>
              <a:off x="2968560" y="2998800"/>
              <a:ext cx="2414520" cy="12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3276720" y="3200400"/>
              <a:ext cx="198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1.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ext Box 15"/>
          <p:cNvSpPr/>
          <p:nvPr/>
        </p:nvSpPr>
        <p:spPr>
          <a:xfrm>
            <a:off x="684360" y="0"/>
            <a:ext cx="335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et’s exerc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Text Box 18"/>
          <p:cNvGrpSpPr/>
          <p:nvPr/>
        </p:nvGrpSpPr>
        <p:grpSpPr>
          <a:xfrm>
            <a:off x="6016680" y="1779480"/>
            <a:ext cx="2023920" cy="1208160"/>
            <a:chOff x="6016680" y="1779480"/>
            <a:chExt cx="2023920" cy="1208160"/>
          </a:xfrm>
        </p:grpSpPr>
        <p:pic>
          <p:nvPicPr>
            <p:cNvPr id="98" name="Text Box 18" descr=""/>
            <p:cNvPicPr/>
            <p:nvPr/>
          </p:nvPicPr>
          <p:blipFill>
            <a:blip r:embed="rId12"/>
            <a:stretch/>
          </p:blipFill>
          <p:spPr>
            <a:xfrm>
              <a:off x="6016680" y="1779480"/>
              <a:ext cx="2023920" cy="12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6324480" y="1981080"/>
              <a:ext cx="159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1.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5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5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2009122173332239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2438280" y="175248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1431000" y="1143000"/>
            <a:ext cx="5079960" cy="3657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kilo</a:t>
            </a: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metre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千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enti</a:t>
            </a: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metr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ci</a:t>
            </a: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metr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分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1295280" y="5181480"/>
            <a:ext cx="3657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metre  </a:t>
            </a:r>
            <a:r>
              <a:rPr b="0" lang="zh-CN" sz="6000" spc="-1" strike="noStrike">
                <a:solidFill>
                  <a:srgbClr val="ff3300"/>
                </a:solidFill>
                <a:latin typeface="Arial"/>
              </a:rPr>
              <a:t>米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2009122173332239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380880" y="838080"/>
            <a:ext cx="784872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w  tall  is  Kim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w  tall  is Danny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o’s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（谁）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all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o’s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（谁）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hort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2009122173332239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yao103102"/>
          <p:cNvPicPr/>
          <p:nvPr/>
        </p:nvPicPr>
        <p:blipFill>
          <a:blip r:embed="rId2"/>
          <a:stretch/>
        </p:blipFill>
        <p:spPr>
          <a:xfrm>
            <a:off x="6227640" y="189000"/>
            <a:ext cx="2338560" cy="6453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6"/>
          <p:cNvSpPr/>
          <p:nvPr/>
        </p:nvSpPr>
        <p:spPr>
          <a:xfrm>
            <a:off x="1523880" y="1676520"/>
            <a:ext cx="1828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533520" y="91440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w  tall  is  he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57200" y="2514600"/>
            <a:ext cx="6095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e’s  2.2  metres  tall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曹惜惜</dc:creator>
  <dc:description/>
  <cp:keywords/>
  <dc:language>en-US</dc:language>
  <cp:lastModifiedBy>曹惜惜</cp:lastModifiedBy>
  <dcterms:modified xsi:type="dcterms:W3CDTF">2017-11-13T13:21:08Z</dcterms:modified>
  <cp:revision>8</cp:revision>
  <dc:subject/>
  <dc:title>Are You Short or Tall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