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chimes.wav" ContentType="audio/x-wav"/>
  <Override PartName="/ppt/media/image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81BA-3D63-43A9-8B57-94E93131D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D41E-2A41-4C7E-BCEF-92CBFE571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C9E3-6C1F-4307-A0A9-6AD176744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C513-15F0-4717-B8F9-31CAA0F0C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1449-9CD4-446A-AD7B-44F680835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F78A-69F0-4F43-950C-5A57652EC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0257-54E9-4855-8FD5-C4004EADD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3FB6-C055-426F-B45C-6305D8282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5EC7-EA28-4653-9CF6-7E493D698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C265-7B58-44FB-B5D0-D7A6D17EC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5EBB-6F27-4B3E-A926-3DA2D2AF9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DD09-372A-4960-9456-0C765FE8B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87158-E242-4826-8A12-8BD725B7A35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069440" y="1628640"/>
            <a:ext cx="4853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Lesson 19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00"/>
                </a:solidFill>
                <a:latin typeface="Arial"/>
              </a:rPr>
              <a:t>My Favourite Colo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  <p:sndAc>
      <p:stSnd>
        <p:snd r:embed="rId2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342520" y="2349360"/>
            <a:ext cx="5339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cc3300"/>
                </a:solidFill>
                <a:latin typeface="Arial"/>
              </a:rPr>
              <a:t>Goodbye !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  <p:sndAc>
      <p:stSnd>
        <p:snd r:embed="rId1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05840" y="117360"/>
            <a:ext cx="4266720" cy="5814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Favourite colo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正圆 46"/>
          <p:cNvSpPr/>
          <p:nvPr/>
        </p:nvSpPr>
        <p:spPr>
          <a:xfrm>
            <a:off x="179280" y="189000"/>
            <a:ext cx="576360" cy="50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70080"/>
            <a:ext cx="6034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My favourite colour is brown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What's your favourite colour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81840" y="3141720"/>
            <a:ext cx="562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Bule is my favourite colour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54200" y="4510080"/>
            <a:ext cx="424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It's my favourite ,to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67520" y="3789360"/>
            <a:ext cx="465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favourite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这个句子中是形容词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577320" y="5276880"/>
            <a:ext cx="272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favourite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名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  <p:sndAc>
      <p:stSnd>
        <p:snd r:embed="rId1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02880" y="404640"/>
            <a:ext cx="652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My favourite colour is green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31600" y="1486080"/>
            <a:ext cx="594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Green is my favourite ,to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09480" y="2492280"/>
            <a:ext cx="5600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We like blue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Our favourite colour is bl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126520" y="4292640"/>
            <a:ext cx="688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They like green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Their favourite colour is gre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660120" y="5661000"/>
            <a:ext cx="296064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their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they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物主代词形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93120" y="3610080"/>
            <a:ext cx="2160720" cy="52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our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是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物主代词形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  <p:sndAc>
      <p:stSnd>
        <p:snd r:embed="rId1" name="chimes.wav"/>
      </p:stSnd>
    </p:sndAc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338560" y="836640"/>
            <a:ext cx="2387520" cy="52056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Let's do it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340000" y="836640"/>
            <a:ext cx="503280" cy="50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36320" y="620640"/>
            <a:ext cx="284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Colour and s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28720" y="4005360"/>
            <a:ext cx="1439640" cy="1296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正圆 52"/>
          <p:cNvSpPr/>
          <p:nvPr/>
        </p:nvSpPr>
        <p:spPr>
          <a:xfrm>
            <a:off x="252360" y="4797360"/>
            <a:ext cx="1549440" cy="1368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正圆 52"/>
          <p:cNvSpPr/>
          <p:nvPr/>
        </p:nvSpPr>
        <p:spPr>
          <a:xfrm>
            <a:off x="1403280" y="4726080"/>
            <a:ext cx="1513080" cy="1439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881440" y="1952640"/>
            <a:ext cx="3004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Colour 1 yellow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Colour 2 r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Colour 3 bl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842200" y="3645000"/>
            <a:ext cx="462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What colour is a/b/c/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  <p:sndAc>
      <p:stSnd>
        <p:snd r:embed="rId1" name="chimes.wav"/>
      </p:stSnd>
    </p:sndAc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77120" y="260280"/>
            <a:ext cx="5317920" cy="51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yellow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e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orange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yellow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blu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 gree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blu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purpl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yellow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e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 blu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bl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86280" y="1019160"/>
            <a:ext cx="2314440" cy="52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A is orange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140360" y="2565360"/>
            <a:ext cx="2098080" cy="52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B is green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356720" y="4005360"/>
            <a:ext cx="2116080" cy="52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C is purp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860360" y="5734080"/>
            <a:ext cx="1941120" cy="52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D is blac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  <p:sndAc>
      <p:stSnd>
        <p:snd r:embed="rId2" name="chimes.wav"/>
      </p:stSnd>
    </p:sndAc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5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79280" y="189000"/>
            <a:ext cx="58327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我会选词填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our   green  we  is  and  the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__________ like blue.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Our favourite colour ________ bl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They like _________ .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_________ favourite colour is gre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Leaves’ ___________ is yellow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I have a red _______ blue ski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899280" y="1917720"/>
            <a:ext cx="714240" cy="52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W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635280" y="2492280"/>
            <a:ext cx="51912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836360" y="3286080"/>
            <a:ext cx="1148400" cy="52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gr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4005360"/>
            <a:ext cx="1049400" cy="52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The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8360" y="4726080"/>
            <a:ext cx="1265760" cy="52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colo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40360" y="5445000"/>
            <a:ext cx="811800" cy="52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  <p:sndAc>
      <p:stSnd>
        <p:snd r:embed="rId2" name="chimes.wav"/>
      </p:stSnd>
    </p:sndAc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24000" y="117360"/>
            <a:ext cx="73450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Ⅱ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英汉互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最喜欢的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___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my favourite colour ____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棕色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__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4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红色短裤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他们的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we _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purple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340000" y="1052640"/>
            <a:ext cx="1782360" cy="52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favouri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919320" y="1773360"/>
            <a:ext cx="14608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最喜欢的颜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476720" y="4076640"/>
            <a:ext cx="1343520" cy="52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brow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220360" y="4076640"/>
            <a:ext cx="2117880" cy="52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red  shor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63640" y="4797360"/>
            <a:ext cx="1050840" cy="52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thei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22200" y="4797360"/>
            <a:ext cx="607320" cy="52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658200" y="4797360"/>
            <a:ext cx="607320" cy="52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紫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  <p:sndAc>
      <p:stSnd>
        <p:snd r:embed="rId2" name="chimes.wav"/>
      </p:stSnd>
    </p:sndAc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4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539640" y="549360"/>
            <a:ext cx="8209080" cy="55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Ⅲ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连词成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. colour  is  My  favourite  brown  (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_______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. favourite   Wha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s  colour  your  (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_______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3. colour  favourite  Blue  my  is  (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_______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4. too  favourite  I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s  colour  my (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________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5. brown  green  We  and  like (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________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6. this  like  red  shorts  I (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________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112400" y="1270080"/>
            <a:ext cx="593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My favourite colour is brown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112760" y="2205000"/>
            <a:ext cx="60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What's your favourite colour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90520" y="3070080"/>
            <a:ext cx="494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Blue is my favourite colour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190160" y="3933720"/>
            <a:ext cx="492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It's my favourite colour ,to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346040" y="4816440"/>
            <a:ext cx="446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We like brown and gre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332720" y="5661000"/>
            <a:ext cx="364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I like this red shor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  <p:sndAc>
      <p:stSnd>
        <p:snd r:embed="rId2" name="chimes.wav"/>
      </p:stSnd>
    </p:sndAc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1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95280" y="1341360"/>
            <a:ext cx="849636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Ⅳ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.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按要求改写句子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.I like blue .(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改为否定句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)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.My favourite colour is 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微软雅黑"/>
                <a:ea typeface="微软雅黑"/>
              </a:rPr>
              <a:t>pink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.(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对划线部分提问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____________________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3.My book is 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微软雅黑"/>
                <a:ea typeface="微软雅黑"/>
              </a:rPr>
              <a:t>on the desk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.(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对划线部分提问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02520" y="1844640"/>
            <a:ext cx="285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I don't like bl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33400" y="2925720"/>
            <a:ext cx="520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What's your favourite colou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74880" y="4005360"/>
            <a:ext cx="369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Where is your boo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  <p:sndAc>
      <p:stSnd>
        <p:snd r:embed="rId2" name="chimes.wav"/>
      </p:stSnd>
    </p:sndAc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7T12:14:43Z</dcterms:created>
  <dc:creator/>
  <dc:description/>
  <cp:keywords/>
  <dc:language>en-US</dc:language>
  <cp:lastModifiedBy>User</cp:lastModifiedBy>
  <dcterms:modified xsi:type="dcterms:W3CDTF">2001-12-31T18:33:58Z</dcterms:modified>
  <cp:revision>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93</vt:lpwstr>
  </property>
</Properties>
</file>