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3098-D74B-4621-BA83-1C5084AF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2B15-5F55-4D2E-88E0-53F9DDBC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42B2-7687-4931-A062-09025ABC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42D2-D05D-42D9-8DE7-F5F781CB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F043-D4E5-4825-AC54-9668EDE5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E8D7-EC6A-4601-9FE1-AA520DD0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196F-6157-4058-A910-B7F61CB1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7368-5DD5-4BF2-8409-6703EF74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8A5D-535E-4A1B-815C-EBAC775F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0CB0-1AC9-4263-9807-AD39A5C9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F286-354C-4A5A-A13C-A7254D02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9FA3-E834-49D1-9B93-A36C0543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DD51-0A6E-43B2-B2DE-CF227D0F7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2205000"/>
            <a:ext cx="6985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sson 2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y Favourite Clot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390600" y="189360"/>
            <a:ext cx="736416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的绿毛衣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的黑色衬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的白色短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们的棕色鞋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的黄色短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916360" y="1413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y green swe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03640" y="2421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is black shi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564000" y="33577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ur white sh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492360" y="436572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their brown sh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203640" y="5229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your yellow ski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24000" y="1125360"/>
            <a:ext cx="810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00"/>
                </a:solidFill>
                <a:latin typeface="Arial"/>
                <a:ea typeface="楷体"/>
              </a:rPr>
              <a:t>再见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31680" y="138240"/>
            <a:ext cx="3524400" cy="520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vourite clot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979640" y="9079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like skir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5076720" y="21337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, to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258920" y="458136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like skirts. Our favourite clothes are ski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`R]AJP)72`AUCK5D877D1}C"/>
          <p:cNvPicPr/>
          <p:nvPr/>
        </p:nvPicPr>
        <p:blipFill>
          <a:blip r:embed="rId2"/>
          <a:srcRect l="18196" t="0" r="22656" b="0"/>
          <a:stretch/>
        </p:blipFill>
        <p:spPr>
          <a:xfrm>
            <a:off x="0" y="981000"/>
            <a:ext cx="1873080" cy="316728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3"/>
          <p:cNvSpPr/>
          <p:nvPr/>
        </p:nvSpPr>
        <p:spPr>
          <a:xfrm>
            <a:off x="4427640" y="32846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u=3470510633,3917002717&amp;fm=21&amp;gp=0"/>
          <p:cNvPicPr/>
          <p:nvPr/>
        </p:nvPicPr>
        <p:blipFill>
          <a:blip r:embed="rId3"/>
          <a:srcRect l="16252" t="0" r="20924" b="0"/>
          <a:stretch/>
        </p:blipFill>
        <p:spPr>
          <a:xfrm>
            <a:off x="7199280" y="907920"/>
            <a:ext cx="1944720" cy="3095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5"/>
          <p:cNvSpPr/>
          <p:nvPr/>
        </p:nvSpPr>
        <p:spPr>
          <a:xfrm>
            <a:off x="2268360" y="184464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r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意为短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2411280" y="5877000"/>
            <a:ext cx="44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th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复数名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692360" y="6922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like shor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148360" y="191628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, to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403280" y="4076640"/>
            <a:ext cx="56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like shorts. Their favourite clothes are sho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u=2372337796,4260902060&amp;fm=21&amp;gp=0"/>
          <p:cNvPicPr/>
          <p:nvPr/>
        </p:nvPicPr>
        <p:blipFill>
          <a:blip r:embed="rId2"/>
          <a:srcRect l="8280" t="0" r="42278" b="0"/>
          <a:stretch/>
        </p:blipFill>
        <p:spPr>
          <a:xfrm>
            <a:off x="0" y="0"/>
            <a:ext cx="1727280" cy="349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u=2578668157,1143863754&amp;fm=11&amp;gp=0"/>
          <p:cNvPicPr/>
          <p:nvPr/>
        </p:nvPicPr>
        <p:blipFill>
          <a:blip r:embed="rId3"/>
          <a:srcRect l="48704" t="0" r="15887" b="22147"/>
          <a:stretch/>
        </p:blipFill>
        <p:spPr>
          <a:xfrm>
            <a:off x="7056360" y="0"/>
            <a:ext cx="2087640" cy="3716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1908000" y="162864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复数名词，不能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直接修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95280" y="981000"/>
            <a:ext cx="74883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like my green sho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like your white g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like our red shi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like their yellow ski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likes his orange 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 likes her black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0240" y="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②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Let’s cha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u=3212273834,13004393&amp;fm=21&amp;gp=0"/>
          <p:cNvPicPr/>
          <p:nvPr/>
        </p:nvPicPr>
        <p:blipFill>
          <a:blip r:embed="rId2"/>
          <a:srcRect l="21947" t="11751" r="24366" b="20924"/>
          <a:stretch/>
        </p:blipFill>
        <p:spPr>
          <a:xfrm>
            <a:off x="6516720" y="5013360"/>
            <a:ext cx="123984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u=1205960065,2860699801&amp;fm=21&amp;gp=0"/>
          <p:cNvPicPr/>
          <p:nvPr/>
        </p:nvPicPr>
        <p:blipFill>
          <a:blip r:embed="rId3"/>
          <a:srcRect l="0" t="6820" r="16568" b="8383"/>
          <a:stretch/>
        </p:blipFill>
        <p:spPr>
          <a:xfrm>
            <a:off x="5651640" y="4005360"/>
            <a:ext cx="1224000" cy="839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u=1881851668,3176032924&amp;fm=21&amp;gp=0"/>
          <p:cNvPicPr/>
          <p:nvPr/>
        </p:nvPicPr>
        <p:blipFill>
          <a:blip r:embed="rId4"/>
          <a:srcRect l="0" t="0" r="50006" b="0"/>
          <a:stretch/>
        </p:blipFill>
        <p:spPr>
          <a:xfrm>
            <a:off x="6084720" y="2205000"/>
            <a:ext cx="898560" cy="1198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u=1881851668,3176032924&amp;fm=21&amp;gp=0"/>
          <p:cNvPicPr/>
          <p:nvPr/>
        </p:nvPicPr>
        <p:blipFill>
          <a:blip r:embed="rId5"/>
          <a:srcRect l="0" t="0" r="50006" b="0"/>
          <a:stretch/>
        </p:blipFill>
        <p:spPr>
          <a:xfrm>
            <a:off x="6948360" y="2205000"/>
            <a:ext cx="846360" cy="1128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u=3667247085,1103391284&amp;fm=21&amp;gp=0"/>
          <p:cNvPicPr/>
          <p:nvPr/>
        </p:nvPicPr>
        <p:blipFill>
          <a:blip r:embed="rId6"/>
          <a:stretch/>
        </p:blipFill>
        <p:spPr>
          <a:xfrm>
            <a:off x="6156360" y="26028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755640" y="620640"/>
            <a:ext cx="62643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, me, you, y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. Two, three, f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, our, they, the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 a book. Sit in a c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, his, she,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rds have w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s have f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-3960" y="0"/>
            <a:ext cx="28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’s do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 and wr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50920" y="1197000"/>
            <a:ext cx="8893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nny: I like trousers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im: I lik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, to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 favourite clothes are ski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nny: Steven likes 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ny likes ___________,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m: ___________ like shor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 favourite clothes are sh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003640" y="1197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i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411280" y="184464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i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692360" y="2492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924360" y="314172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3851280" y="3716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476360" y="443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1692360" y="5084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-2880" y="-1440"/>
            <a:ext cx="9164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) 1. I like ________shi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     B. an       C.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) 2. We like skir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 favourite clothes are ski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e    B. Our      C. 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) 3. ________ like shorts. ________like ski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e, I     B. I, You   C. You,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) 4. --I like shorts!  --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Yes, I don’t like.    B. No, you like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Me, to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68360" y="549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468360" y="299736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39640" y="4005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-360" y="2160"/>
            <a:ext cx="81878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连词成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your, white, You, like, shirt (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our, red, We, like, skirts (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their, They, like, shirt, yellow (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like, green, sweater, I, my (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68360" y="148428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You like your white shi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68360" y="2997360"/>
            <a:ext cx="57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 like our red ski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68360" y="4437000"/>
            <a:ext cx="52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y like their yellow shi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250920" y="595008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like my green swe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-720" y="828000"/>
            <a:ext cx="8751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clothes, are, shorts, Their, favourite (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clothes, are, Our, favourite, skirts (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favourte, is, green, colour, My (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95280" y="1628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ir favourite clothes are sho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50920" y="31417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ur favourite clothes are ski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68360" y="458136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y favourite colour is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00:28:49Z</dcterms:created>
  <dc:creator/>
  <dc:description/>
  <cp:keywords/>
  <dc:language>en-US</dc:language>
  <cp:lastModifiedBy>chicken君</cp:lastModifiedBy>
  <dcterms:modified xsi:type="dcterms:W3CDTF">2017-11-13T14:08:15Z</dcterms:modified>
  <cp:revision>38</cp:revision>
  <dc:subject/>
  <dc:title>幻灯片 1</dc:title>
</cp:coreProperties>
</file>