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E9%9B%A802.WAV" ContentType="audio/x-wav"/>
  <Override PartName="/ppt/media/image12.gif" ContentType="image/gif"/>
  <Override PartName="/ppt/media/image7.gif" ContentType="image/gif"/>
  <Override PartName="/ppt/media/image6.gif" ContentType="image/gif"/>
  <Override PartName="/ppt/media/image9.png" ContentType="image/png"/>
  <Override PartName="/ppt/media/image10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chimes.wav" ContentType="audio/x-wav"/>
  <Override PartName="/ppt/media/image16.png" ContentType="image/png"/>
  <Override PartName="/ppt/media/image4.gif" ContentType="image/gif"/>
  <Override PartName="/ppt/media/image1.jpeg" ContentType="image/jpeg"/>
  <Override PartName="/ppt/media/image22.jpeg" ContentType="image/jpeg"/>
  <Override PartName="/ppt/media/image3.gif" ContentType="image/gif"/>
  <Override PartName="/ppt/media/image2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4.png" ContentType="image/png"/>
  <Override PartName="/ppt/media/image19.gif" ContentType="image/gif"/>
  <Override PartName="/ppt/media/%E9%9B%A801.WAV" ContentType="audio/x-wav"/>
  <Override PartName="/ppt/media/%E9%A3%8E01.WAV" ContentType="audio/x-wav"/>
  <Override PartName="/ppt/media/image11.png" ContentType="image/png"/>
  <Override PartName="/ppt/media/image23.png" ContentType="image/png"/>
  <Override PartName="/ppt/media/image13.jpeg" ContentType="image/jpeg"/>
  <Override PartName="/ppt/media/type.wav" ContentType="audio/x-wav"/>
  <Override PartName="/ppt/media/image1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86B-6433-450E-A6CD-BFF9ADDB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0342-42EE-449E-8308-7C41CAE38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E60E-C370-4474-8B92-D376AEB8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9990-846E-4CBC-B35D-57B16BE9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26B2-39B0-4A51-9E6B-FB4893F3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31C-9E6E-49EB-8FDF-0675B7E7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2E9-E32C-41BB-BC7F-4C4D779A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8E8A-404F-40FB-8A94-E71B6980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8528-2B85-4F85-A96B-9D934B2C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231-CB93-4913-AE72-689C392C6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00E7-73F1-4C24-90A3-278A8B89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821F-9421-4F48-8F08-A9F3C8FC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2480-3B1C-4AC8-BD17-D480D9E6A0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hyperlink" Target="file:///tmp/home/.config/libreoffice/4/user/gallery/&#39118;01.WAV" TargetMode="External"/><Relationship Id="rId10" Type="http://schemas.openxmlformats.org/officeDocument/2006/relationships/hyperlink" Target="file:///tmp/home/.config/libreoffice/4/user/gallery/&#38632;02.WAV" TargetMode="External"/><Relationship Id="rId11" Type="http://schemas.openxmlformats.org/officeDocument/2006/relationships/audio" Target="../media/chimes.wav"/><Relationship Id="rId12" Type="http://schemas.openxmlformats.org/officeDocument/2006/relationships/audio" Target="../media/&#39118;01.WAV"/><Relationship Id="rId13" Type="http://schemas.openxmlformats.org/officeDocument/2006/relationships/audio" Target="../media/&#38632;02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&#33521;&#35821;/lesson13/20061219203925247/2.how&apos;s%20the%20weather%20today.swf" TargetMode="External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file:///tmp/home/.config/libreoffice/4/user/gallery/&#39118;03.WAV" TargetMode="External"/><Relationship Id="rId6" Type="http://schemas.openxmlformats.org/officeDocument/2006/relationships/audio" Target="../media/&#38632;01.WAV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8.jpeg"/><Relationship Id="rId6" Type="http://schemas.openxmlformats.org/officeDocument/2006/relationships/image" Target="../media/image19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2060640"/>
            <a:ext cx="87631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esson 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How’s the Weather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2920" y="83664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冀教版（三起）四年级英语下册课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09680" y="1600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692360" y="981000"/>
            <a:ext cx="604836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bye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3708360" y="5300640"/>
            <a:ext cx="198108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fef7ee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477120" y="457200"/>
            <a:ext cx="2155680" cy="169704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304920" y="3352680"/>
            <a:ext cx="3925800" cy="1676520"/>
            <a:chOff x="304920" y="3352680"/>
            <a:chExt cx="3925800" cy="167652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304920" y="3733920"/>
              <a:ext cx="3925800" cy="12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4"/>
            <a:stretch/>
          </p:blipFill>
          <p:spPr>
            <a:xfrm>
              <a:off x="2514600" y="3352680"/>
              <a:ext cx="1189080" cy="1676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3886200" y="2971800"/>
            <a:ext cx="4933800" cy="2461680"/>
            <a:chOff x="3886200" y="2971800"/>
            <a:chExt cx="4933800" cy="2461680"/>
          </a:xfrm>
        </p:grpSpPr>
        <p:pic>
          <p:nvPicPr>
            <p:cNvPr id="49" name="" descr=""/>
            <p:cNvPicPr/>
            <p:nvPr/>
          </p:nvPicPr>
          <p:blipFill>
            <a:blip r:embed="rId5"/>
            <a:stretch/>
          </p:blipFill>
          <p:spPr>
            <a:xfrm>
              <a:off x="5257800" y="3428640"/>
              <a:ext cx="3562200" cy="200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6"/>
            <a:stretch/>
          </p:blipFill>
          <p:spPr>
            <a:xfrm>
              <a:off x="3886200" y="2971800"/>
              <a:ext cx="1325520" cy="1839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"/>
          <p:cNvSpPr/>
          <p:nvPr/>
        </p:nvSpPr>
        <p:spPr>
          <a:xfrm>
            <a:off x="762120" y="19051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u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352680" y="456840"/>
            <a:ext cx="2286000" cy="1600200"/>
            <a:chOff x="3352680" y="456840"/>
            <a:chExt cx="2286000" cy="1600200"/>
          </a:xfrm>
        </p:grpSpPr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 flipH="1" rot="10800000">
              <a:off x="3352680" y="456840"/>
              <a:ext cx="22860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" descr=""/>
            <p:cNvPicPr/>
            <p:nvPr/>
          </p:nvPicPr>
          <p:blipFill>
            <a:blip r:embed="rId8"/>
            <a:stretch/>
          </p:blipFill>
          <p:spPr>
            <a:xfrm>
              <a:off x="4038480" y="762120"/>
              <a:ext cx="102060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/>
          <p:nvPr/>
        </p:nvSpPr>
        <p:spPr>
          <a:xfrm>
            <a:off x="3657600" y="2057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clou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705720" y="21337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sno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5105520"/>
            <a:ext cx="25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wi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525780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00"/>
                </a:solidFill>
                <a:latin typeface="Times New Roman"/>
              </a:rPr>
              <a:t>rai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9"/>
          </p:cNvPr>
          <p:cNvSpPr/>
          <p:nvPr/>
        </p:nvSpPr>
        <p:spPr>
          <a:xfrm>
            <a:off x="3276720" y="47242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8406"/>
                </a:moveTo>
                <a:lnTo>
                  <a:pt x="10911" y="8406"/>
                </a:lnTo>
                <a:lnTo>
                  <a:pt x="15332" y="3794"/>
                </a:lnTo>
                <a:lnTo>
                  <a:pt x="15332" y="17806"/>
                </a:lnTo>
                <a:lnTo>
                  <a:pt x="10911" y="13194"/>
                </a:lnTo>
                <a:lnTo>
                  <a:pt x="6481" y="13194"/>
                </a:lnTo>
                <a:close/>
              </a:path>
              <a:path fill="darken" w="26975" h="21600">
                <a:moveTo>
                  <a:pt x="16986" y="10800"/>
                </a:moveTo>
                <a:lnTo>
                  <a:pt x="20494" y="10800"/>
                </a:lnTo>
              </a:path>
              <a:path fill="darken" w="26975" h="21600">
                <a:moveTo>
                  <a:pt x="16986" y="8406"/>
                </a:moveTo>
                <a:lnTo>
                  <a:pt x="20494" y="5639"/>
                </a:lnTo>
              </a:path>
              <a:path fill="darken" w="26975" h="21600">
                <a:moveTo>
                  <a:pt x="16986" y="13194"/>
                </a:moveTo>
                <a:lnTo>
                  <a:pt x="20494" y="15961"/>
                </a:lnTo>
              </a:path>
            </a:pathLst>
          </a:custGeom>
          <a:solidFill>
            <a:srgbClr val="00cc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0"/>
          </p:cNvPr>
          <p:cNvSpPr/>
          <p:nvPr/>
        </p:nvSpPr>
        <p:spPr>
          <a:xfrm>
            <a:off x="8458200" y="5105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8406"/>
                </a:moveTo>
                <a:lnTo>
                  <a:pt x="11824" y="8406"/>
                </a:lnTo>
                <a:lnTo>
                  <a:pt x="16245" y="3794"/>
                </a:lnTo>
                <a:lnTo>
                  <a:pt x="16245" y="17806"/>
                </a:lnTo>
                <a:lnTo>
                  <a:pt x="11824" y="13194"/>
                </a:lnTo>
                <a:lnTo>
                  <a:pt x="7394" y="13194"/>
                </a:lnTo>
                <a:close/>
              </a:path>
              <a:path fill="darken" w="28800" h="21600">
                <a:moveTo>
                  <a:pt x="17899" y="10800"/>
                </a:moveTo>
                <a:lnTo>
                  <a:pt x="21406" y="10800"/>
                </a:lnTo>
              </a:path>
              <a:path fill="darken" w="28800" h="21600">
                <a:moveTo>
                  <a:pt x="17899" y="8406"/>
                </a:moveTo>
                <a:lnTo>
                  <a:pt x="21406" y="5639"/>
                </a:lnTo>
              </a:path>
              <a:path fill="darken" w="28800" h="21600">
                <a:moveTo>
                  <a:pt x="17899" y="13194"/>
                </a:moveTo>
                <a:lnTo>
                  <a:pt x="21406" y="15961"/>
                </a:lnTo>
              </a:path>
            </a:pathLst>
          </a:custGeom>
          <a:solidFill>
            <a:srgbClr val="cc00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%E9%A3%8E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%E9%9B%A8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50000">
              <a:srgbClr val="fefefe"/>
            </a:gs>
            <a:gs pos="100000">
              <a:srgbClr val="33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76520" y="533520"/>
            <a:ext cx="71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名词        变    形容词（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+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268280" cy="2971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133720" y="1523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oud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1447920"/>
            <a:ext cx="38102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loud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多云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22096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ind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504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ind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有风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now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2819520"/>
            <a:ext cx="3504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now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雪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3733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rain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32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rain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下雨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44197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un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太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81480" y="43434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un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ny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晴朗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efee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4438440" cy="16146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8600" y="304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Is it_______ 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（形容词）</a:t>
            </a:r>
            <a:r>
              <a:rPr b="1" lang="zh-CN" sz="2800" spc="-1" strike="noStrike">
                <a:solidFill>
                  <a:srgbClr val="0099ff"/>
                </a:solidFill>
                <a:latin typeface="Times New Roman"/>
              </a:rPr>
              <a:t>? Yes, it’s ______. No ,it’s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66680" y="3657600"/>
            <a:ext cx="2870280" cy="2152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57913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rcRect l="0" t="0" r="0" b="8364"/>
          <a:stretch/>
        </p:blipFill>
        <p:spPr>
          <a:xfrm>
            <a:off x="4932360" y="3933720"/>
            <a:ext cx="2717640" cy="2017800"/>
          </a:xfrm>
          <a:prstGeom prst="rect">
            <a:avLst/>
          </a:prstGeom>
          <a:ln w="0">
            <a:noFill/>
          </a:ln>
        </p:spPr>
      </p:pic>
      <p:sp>
        <p:nvSpPr>
          <p:cNvPr id="79" name="">
            <a:hlinkClick r:id="rId5"/>
          </p:cNvPr>
          <p:cNvSpPr/>
          <p:nvPr/>
        </p:nvSpPr>
        <p:spPr>
          <a:xfrm>
            <a:off x="7315200" y="56386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ff9900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52880" y="2819520"/>
            <a:ext cx="228600" cy="152280"/>
          </a:xfrm>
          <a:prstGeom prst="rect">
            <a:avLst/>
          </a:prstGeom>
          <a:gradFill rotWithShape="0">
            <a:gsLst>
              <a:gs pos="0">
                <a:srgbClr val="cc0000"/>
              </a:gs>
              <a:gs pos="50000">
                <a:srgbClr val="f7dede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9%9B%A8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280" y="152280"/>
            <a:ext cx="754380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How’s the weather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It’s 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Times New Roman"/>
              </a:rPr>
              <a:t>snow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3657600" cy="2743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4438440" cy="1614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33520" y="3657600"/>
            <a:ext cx="2869920" cy="2152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400800" y="1295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0" t="0" r="-51" b="9015"/>
          <a:stretch/>
        </p:blipFill>
        <p:spPr>
          <a:xfrm>
            <a:off x="3581280" y="3657600"/>
            <a:ext cx="2719440" cy="20034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09480" y="3049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228600"/>
            <a:ext cx="82296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ow’s the weather toda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t’s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477120" y="3657600"/>
            <a:ext cx="2286000" cy="21366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741600" y="664920"/>
            <a:ext cx="7660800" cy="103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ay is 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ay is tomorr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’s the weather toda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81680" y="5791320"/>
            <a:ext cx="1981440" cy="83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7273800" cy="575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t’s learn a new s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’s the weather 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’s the weather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sunny.  It’s sunn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like  sunny ?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o you like  sunny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es, I do. / No, I don’t.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1T01:16:38Z</dcterms:created>
  <dc:creator>jd</dc:creator>
  <dc:description/>
  <dc:language>en-US</dc:language>
  <cp:lastModifiedBy>ydz</cp:lastModifiedBy>
  <dcterms:modified xsi:type="dcterms:W3CDTF">2012-05-30T07:12:01Z</dcterms:modified>
  <cp:revision>51</cp:revision>
  <dc:subject/>
  <dc:title>PowerPoint 演示文稿</dc:title>
</cp:coreProperties>
</file>