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7.png" ContentType="image/png"/>
  <Override PartName="/ppt/media/image12.jpeg" ContentType="image/jpeg"/>
  <Override PartName="/ppt/media/image6.png" ContentType="image/png"/>
  <Override PartName="/ppt/media/image5.jpeg" ContentType="image/jpeg"/>
  <Override PartName="/ppt/media/image19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1.gif" ContentType="image/gif"/>
  <Override PartName="/ppt/media/image4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591E-3192-4B96-B42C-1C01C403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CFA0-5B52-4DC4-AEBB-432843CE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FF1F-F194-45C9-B55B-BD92C884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348E-2358-4CB0-A040-56E9A7B52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EB31-7DDC-4A82-A342-08110501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1400-C5AB-4225-8BC9-00545F2E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A722-33BC-4EBF-912D-2BD4E708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66EC-C811-49EA-BA6C-F9970F00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888C-A30F-47FA-BD8B-800C1706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066F-3B0A-4D12-A74B-89154921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3202-6FB4-4235-A901-BB776A77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B4CF-FF7D-41D8-AC29-B228E77D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2ADD-9BF7-4CD2-A1C0-D4BDE0699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81440" y="691920"/>
            <a:ext cx="9325080" cy="23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Lesson 11 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How’s the Weather To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Users\dell\AppData\Roaming\Tencent\Users\712326765\QQ\WinTemp\RichOle\71KW8765SSA68}%[N[}RFS0.png"/>
          <p:cNvPicPr/>
          <p:nvPr/>
        </p:nvPicPr>
        <p:blipFill>
          <a:blip r:embed="rId1"/>
          <a:stretch/>
        </p:blipFill>
        <p:spPr>
          <a:xfrm>
            <a:off x="6648480" y="6072120"/>
            <a:ext cx="2495520" cy="3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265560" y="510840"/>
            <a:ext cx="3341520" cy="86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ow’  the  weather in Ju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2700360" y="3933720"/>
            <a:ext cx="2232000" cy="863640"/>
          </a:xfrm>
          <a:prstGeom prst="wedgeRoundRectCallout">
            <a:avLst>
              <a:gd name="adj1" fmla="val -45375"/>
              <a:gd name="adj2" fmla="val 9172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t’s hot and sun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4"/>
          <p:cNvGrpSpPr/>
          <p:nvPr/>
        </p:nvGrpSpPr>
        <p:grpSpPr>
          <a:xfrm>
            <a:off x="395280" y="1484280"/>
            <a:ext cx="2808360" cy="1800360"/>
            <a:chOff x="395280" y="1484280"/>
            <a:chExt cx="2808360" cy="1800360"/>
          </a:xfrm>
        </p:grpSpPr>
        <p:sp>
          <p:nvSpPr>
            <p:cNvPr id="88" name="AutoShape 5"/>
            <p:cNvSpPr/>
            <p:nvPr/>
          </p:nvSpPr>
          <p:spPr>
            <a:xfrm>
              <a:off x="395280" y="1484280"/>
              <a:ext cx="2808360" cy="1800360"/>
            </a:xfrm>
            <a:prstGeom prst="cloudCallout">
              <a:avLst>
                <a:gd name="adj1" fmla="val -48416"/>
                <a:gd name="adj2" fmla="val 7486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6" descr="2522710671443493690212.jpg"/>
            <p:cNvPicPr/>
            <p:nvPr/>
          </p:nvPicPr>
          <p:blipFill>
            <a:blip r:embed="rId2"/>
            <a:stretch/>
          </p:blipFill>
          <p:spPr>
            <a:xfrm>
              <a:off x="971640" y="1700280"/>
              <a:ext cx="1463760" cy="1463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1890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Pair work : talk about the weather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28600" y="1219320"/>
          <a:ext cx="4189320" cy="5084640"/>
        </p:xfrm>
        <a:graphic>
          <a:graphicData uri="http://schemas.openxmlformats.org/drawingml/2006/table">
            <a:tbl>
              <a:tblPr/>
              <a:tblGrid>
                <a:gridCol w="2293920"/>
                <a:gridCol w="1895400"/>
              </a:tblGrid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y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th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</a:tr>
              <a:tr h="85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Kunm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</a:tr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Lhas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any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arbi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eij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92" name="Picture 48" descr="7333806661443493690098.png"/>
          <p:cNvPicPr/>
          <p:nvPr/>
        </p:nvPicPr>
        <p:blipFill>
          <a:blip r:embed="rId1"/>
          <a:srcRect l="24982" t="10877" r="25977" b="12934"/>
          <a:stretch/>
        </p:blipFill>
        <p:spPr>
          <a:xfrm>
            <a:off x="3276720" y="2057400"/>
            <a:ext cx="771480" cy="85896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49"/>
          <p:cNvGrpSpPr/>
          <p:nvPr/>
        </p:nvGrpSpPr>
        <p:grpSpPr>
          <a:xfrm>
            <a:off x="3200400" y="3048120"/>
            <a:ext cx="990720" cy="533160"/>
            <a:chOff x="3200400" y="3048120"/>
            <a:chExt cx="990720" cy="533160"/>
          </a:xfrm>
        </p:grpSpPr>
        <p:sp>
          <p:nvSpPr>
            <p:cNvPr id="94" name="AutoShape 50"/>
            <p:cNvSpPr/>
            <p:nvPr/>
          </p:nvSpPr>
          <p:spPr>
            <a:xfrm>
              <a:off x="3352680" y="3048120"/>
              <a:ext cx="533520" cy="304560"/>
            </a:xfrm>
            <a:prstGeom prst="cloudCallout">
              <a:avLst>
                <a:gd name="adj1" fmla="val -15476"/>
                <a:gd name="adj2" fmla="val 2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51"/>
            <p:cNvSpPr/>
            <p:nvPr/>
          </p:nvSpPr>
          <p:spPr>
            <a:xfrm>
              <a:off x="3657600" y="3124080"/>
              <a:ext cx="533520" cy="304920"/>
            </a:xfrm>
            <a:prstGeom prst="cloudCallout">
              <a:avLst>
                <a:gd name="adj1" fmla="val -2680"/>
                <a:gd name="adj2" fmla="val -520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52"/>
            <p:cNvSpPr/>
            <p:nvPr/>
          </p:nvSpPr>
          <p:spPr>
            <a:xfrm>
              <a:off x="3200400" y="3276720"/>
              <a:ext cx="762120" cy="304560"/>
            </a:xfrm>
            <a:prstGeom prst="cloudCallout">
              <a:avLst>
                <a:gd name="adj1" fmla="val 8958"/>
                <a:gd name="adj2" fmla="val 4166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53" descr="4079895281443493690167.png"/>
          <p:cNvPicPr/>
          <p:nvPr/>
        </p:nvPicPr>
        <p:blipFill>
          <a:blip r:embed="rId2"/>
          <a:srcRect l="27323" t="10877" r="21958" b="18359"/>
          <a:stretch/>
        </p:blipFill>
        <p:spPr>
          <a:xfrm>
            <a:off x="3352680" y="3809880"/>
            <a:ext cx="762120" cy="68580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54"/>
          <p:cNvGrpSpPr/>
          <p:nvPr/>
        </p:nvGrpSpPr>
        <p:grpSpPr>
          <a:xfrm>
            <a:off x="3200400" y="4648320"/>
            <a:ext cx="990720" cy="761760"/>
            <a:chOff x="3200400" y="4648320"/>
            <a:chExt cx="990720" cy="761760"/>
          </a:xfrm>
        </p:grpSpPr>
        <p:pic>
          <p:nvPicPr>
            <p:cNvPr id="99" name="Picture 55" descr="8197521141443493690174.jpg"/>
            <p:cNvPicPr/>
            <p:nvPr/>
          </p:nvPicPr>
          <p:blipFill>
            <a:blip r:embed="rId3"/>
            <a:stretch/>
          </p:blipFill>
          <p:spPr>
            <a:xfrm>
              <a:off x="3754440" y="5105520"/>
              <a:ext cx="43668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56" descr="8197521141443493690174.jpg"/>
            <p:cNvPicPr/>
            <p:nvPr/>
          </p:nvPicPr>
          <p:blipFill>
            <a:blip r:embed="rId4"/>
            <a:stretch/>
          </p:blipFill>
          <p:spPr>
            <a:xfrm>
              <a:off x="3422520" y="4648320"/>
              <a:ext cx="43668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57" descr="8197521141443493690174.jpg"/>
            <p:cNvPicPr/>
            <p:nvPr/>
          </p:nvPicPr>
          <p:blipFill>
            <a:blip r:embed="rId5"/>
            <a:stretch/>
          </p:blipFill>
          <p:spPr>
            <a:xfrm>
              <a:off x="3200400" y="4952880"/>
              <a:ext cx="32868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58" descr="8197521141443493690174.jpg"/>
            <p:cNvPicPr/>
            <p:nvPr/>
          </p:nvPicPr>
          <p:blipFill>
            <a:blip r:embed="rId6"/>
            <a:stretch/>
          </p:blipFill>
          <p:spPr>
            <a:xfrm>
              <a:off x="3754440" y="4876920"/>
              <a:ext cx="32868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" name="Picture 59" descr="646080791443493690182.jpg"/>
          <p:cNvPicPr/>
          <p:nvPr/>
        </p:nvPicPr>
        <p:blipFill>
          <a:blip r:embed="rId7"/>
          <a:stretch/>
        </p:blipFill>
        <p:spPr>
          <a:xfrm>
            <a:off x="2819520" y="5562720"/>
            <a:ext cx="1371600" cy="68580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60"/>
          <p:cNvSpPr/>
          <p:nvPr/>
        </p:nvSpPr>
        <p:spPr>
          <a:xfrm>
            <a:off x="5105520" y="1295280"/>
            <a:ext cx="3276360" cy="1828800"/>
          </a:xfrm>
          <a:prstGeom prst="wedgeRoundRectCallout">
            <a:avLst>
              <a:gd name="adj1" fmla="val -36629"/>
              <a:gd name="adj2" fmla="val 908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ow’s the weather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in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unming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61"/>
          <p:cNvSpPr/>
          <p:nvPr/>
        </p:nvSpPr>
        <p:spPr>
          <a:xfrm>
            <a:off x="5486400" y="4724280"/>
            <a:ext cx="2971800" cy="14479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t’s rainy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Letters and s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i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ur               er              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i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t         n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u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e          teach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er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w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i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       Th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u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day     driv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e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w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611280" y="386064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Try to r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755640" y="4653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i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y          f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u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danc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e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w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971640" y="1700280"/>
            <a:ext cx="7056360" cy="21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Good bye!</a:t>
            </a:r>
            <a:endParaRPr b="0" lang="en-US" sz="8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5322703321443493689748.png"/>
          <p:cNvPicPr/>
          <p:nvPr/>
        </p:nvPicPr>
        <p:blipFill>
          <a:blip r:embed="rId2"/>
          <a:stretch/>
        </p:blipFill>
        <p:spPr>
          <a:xfrm>
            <a:off x="0" y="1484280"/>
            <a:ext cx="6300720" cy="38638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755640" y="5373720"/>
            <a:ext cx="6985080" cy="16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cold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ɑ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nd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snowy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How’  the </a:t>
            </a:r>
            <a:r>
              <a:rPr b="0" lang="zh-CN" sz="4400" spc="-1" strike="noStrike" u="sng">
                <a:solidFill>
                  <a:srgbClr val="ff0000"/>
                </a:solidFill>
                <a:uFillTx/>
                <a:latin typeface="Arial"/>
              </a:rPr>
              <a:t>weather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天气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4356000" y="2205000"/>
            <a:ext cx="396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5796000" y="2997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雪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7308720" y="299736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雪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7020000" y="220500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now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8893051681443493689756.png"/>
          <p:cNvPicPr/>
          <p:nvPr/>
        </p:nvPicPr>
        <p:blipFill>
          <a:blip r:embed="rId2"/>
          <a:stretch/>
        </p:blipFill>
        <p:spPr>
          <a:xfrm>
            <a:off x="324000" y="1268280"/>
            <a:ext cx="5040000" cy="3343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How’  the  weather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80720" y="4964040"/>
            <a:ext cx="512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sunny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d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508720" y="1268280"/>
            <a:ext cx="129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su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588000" y="126828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-sun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5508720" y="21337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太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6804000" y="213372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晴朗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5580000" y="299736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wa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5580000" y="3789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暖和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5435640" y="494172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warm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182520" y="189000"/>
            <a:ext cx="680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How’  the  weather today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5076720" y="3357720"/>
            <a:ext cx="346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cloudy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4787280" y="1916280"/>
            <a:ext cx="396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cloud -- cloud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y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4932360" y="234936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7380360" y="2565360"/>
            <a:ext cx="1547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372360" y="2349360"/>
            <a:ext cx="20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- wind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932360" y="314172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804000" y="314172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风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611280" y="472428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windy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.    It’s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coo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182520" y="189000"/>
            <a:ext cx="680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How’  the  weather today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5840763601443493690147.png"/>
          <p:cNvPicPr/>
          <p:nvPr/>
        </p:nvPicPr>
        <p:blipFill>
          <a:blip r:embed="rId2"/>
          <a:stretch/>
        </p:blipFill>
        <p:spPr>
          <a:xfrm>
            <a:off x="0" y="1484280"/>
            <a:ext cx="4896000" cy="328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2880" y="260280"/>
            <a:ext cx="680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How’  the  weather today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796000" y="2997360"/>
            <a:ext cx="11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6877080" y="2997360"/>
            <a:ext cx="17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-rain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5867280" y="4581360"/>
            <a:ext cx="26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rainy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7" dur="45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45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227" dur="4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4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"/>
          <p:cNvSpPr/>
          <p:nvPr/>
        </p:nvSpPr>
        <p:spPr>
          <a:xfrm>
            <a:off x="2771640" y="4724280"/>
            <a:ext cx="2160720" cy="792360"/>
          </a:xfrm>
          <a:prstGeom prst="wedgeRoundRectCallout">
            <a:avLst>
              <a:gd name="adj1" fmla="val -42726"/>
              <a:gd name="adj2" fmla="val 9929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t’s Tues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3708360" y="1125360"/>
            <a:ext cx="2552760" cy="1070280"/>
          </a:xfrm>
          <a:prstGeom prst="wedgeRoundRectCallout">
            <a:avLst>
              <a:gd name="adj1" fmla="val 64861"/>
              <a:gd name="adj2" fmla="val 6246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hat day is i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i M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971640" y="1844640"/>
            <a:ext cx="187164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Tuesd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Apr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2"/>
          <p:cNvSpPr/>
          <p:nvPr/>
        </p:nvSpPr>
        <p:spPr>
          <a:xfrm>
            <a:off x="2700360" y="3933720"/>
            <a:ext cx="2232000" cy="863640"/>
          </a:xfrm>
          <a:prstGeom prst="wedgeRoundRectCallout">
            <a:avLst>
              <a:gd name="adj1" fmla="val -54407"/>
              <a:gd name="adj2" fmla="val 11194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t’s warm and win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1403280" y="1125360"/>
            <a:ext cx="4857840" cy="574920"/>
          </a:xfrm>
          <a:prstGeom prst="wedgeRoundRectCallout">
            <a:avLst>
              <a:gd name="adj1" fmla="val 44773"/>
              <a:gd name="adj2" fmla="val 10331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ow’  the  weather today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"/>
          <p:cNvSpPr/>
          <p:nvPr/>
        </p:nvSpPr>
        <p:spPr>
          <a:xfrm>
            <a:off x="395280" y="1484280"/>
            <a:ext cx="2808360" cy="1800360"/>
          </a:xfrm>
          <a:prstGeom prst="cloudCallout">
            <a:avLst>
              <a:gd name="adj1" fmla="val -48416"/>
              <a:gd name="adj2" fmla="val 7486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39627601443493690190.jpg"/>
          <p:cNvPicPr/>
          <p:nvPr/>
        </p:nvPicPr>
        <p:blipFill>
          <a:blip r:embed="rId2"/>
          <a:stretch/>
        </p:blipFill>
        <p:spPr>
          <a:xfrm>
            <a:off x="971640" y="1700280"/>
            <a:ext cx="1584360" cy="13730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61128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987640" y="515880"/>
            <a:ext cx="3609000" cy="99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ow’  the  weather in Decemb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2700360" y="3933720"/>
            <a:ext cx="2232000" cy="863640"/>
          </a:xfrm>
          <a:prstGeom prst="wedgeRoundRectCallout">
            <a:avLst>
              <a:gd name="adj1" fmla="val -45375"/>
              <a:gd name="adj2" fmla="val 9172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t’s cold and snow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03:29:04Z</dcterms:created>
  <dc:creator>微软用户</dc:creator>
  <dc:description/>
  <dc:language>en-US</dc:language>
  <cp:lastModifiedBy>BMT-6</cp:lastModifiedBy>
  <dcterms:modified xsi:type="dcterms:W3CDTF">2018-01-03T06:29:48Z</dcterms:modified>
  <cp:revision>47</cp:revision>
  <dc:subject/>
  <dc:title>Lesson 11   How’s the Weather Today</dc:title>
</cp:coreProperties>
</file>