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gif" ContentType="image/gif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ECC7-A664-4189-AE7E-82CBEA2A8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5331-053E-4452-B598-C877BBB1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F251-D529-41E8-B664-EB165DF9C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A65B-6660-4E8B-AC81-3D470F188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C445-28B4-40E0-9C1A-DEF763201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4716-D0A6-4E2E-8332-CB35468C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18CB-9EDD-4C63-BCF2-2E01DFBF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7773-B0D8-4202-A145-F52CB41B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9353-EBF9-4F02-8CEA-3D022285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C1D5-33C8-4E2A-97CD-48DF36C1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3103-6071-44F3-883D-79AC4C55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5A8A-F9F3-4C77-A645-D77EA69C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110C-9937-44C3-BAD6-A5E8B1C8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FFEB-A4F8-4240-B90F-413A4844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FD9D-C96F-4BE5-B97A-11872DD7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333E-EC3A-4699-8327-32DD58A22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7EDE-0B9E-482E-A90E-0EBDAA20C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F25C0-9E9A-49B9-9919-68A878176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662BA-7A40-4355-AF4D-33C0BD8C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0AE9A-0ECD-4514-936D-39E82500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4E9ED-E4D6-49AE-8FE7-F7F091F0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80405-41BF-45B3-96AB-17D3F3FE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F653-8D8E-4176-83F5-B47FB249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49FCC-ED9B-4B83-B03A-F4AF3FD5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E60DE-916B-4D44-9E52-0262C25F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F3506-0309-4AF1-A310-ED89077D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D07C3-0CE4-48D4-9B4C-4001578A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62B3E-D528-4BB4-88F9-C0602E60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99E4A-B2FF-42D1-B4C4-6AECB79FC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C6594-2CC9-48D8-9AA1-1AD9B8ABB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713F3-AC24-491D-858F-75488DE18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767E5-D4A3-47A4-ADDF-020A5FFA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B4C41-CBE3-403E-B812-6EDF39A2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6681-BEE3-46FC-AC49-1B67EF8A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B195E-B4C0-46F6-A70D-6140A71B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57FC9-A1FA-421D-90CC-67DF2042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BBD85-C277-4074-95C4-BF20FD52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273F1-3B06-4032-9269-C1AF60BC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DCBA6-E52D-4383-9EA2-12963A97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06FD3-1CE7-4046-9C40-0F3375B7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D56B2-6D9C-4644-BE48-D20BD88C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3F946-42B2-4A3D-A2CE-EC2D70C46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FE2F0-2D53-46BE-B0F5-57D2A339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1E19-6003-43F3-AA93-D395C727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DC8F-DB9C-43A1-9254-B96AE207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DE59-C0A1-45E5-A819-3737CAE7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AFBA-98FF-4595-AEAD-D6F1E5A3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0CA3-7C51-489D-8052-4C4B524E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6480" indent="-6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6480" indent="-6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6480" indent="-6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6480" indent="-6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FE91-B1D5-4895-B5C8-9E0F663D4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6480" indent="-6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6480" indent="-6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6480" indent="-6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6480" indent="-6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BE4F-82E1-47BC-8D9E-E9E78B4F1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6480" indent="-6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6480" indent="-6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6480" indent="-6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6480" indent="-6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AFFA-DB6B-4012-A1F8-9DEC0F328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6480" indent="-6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6480" indent="-6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6480" indent="-6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6480" indent="-6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A558-6A87-4980-8024-E41DE9EEF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76280" y="549360"/>
            <a:ext cx="8229600" cy="37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5400" spc="-1" strike="noStrike">
                <a:solidFill>
                  <a:srgbClr val="009900"/>
                </a:solidFill>
                <a:latin typeface="Arial"/>
              </a:rPr>
              <a:t>Lesson 11 </a:t>
            </a:r>
            <a:br>
              <a:rPr sz="5400"/>
            </a:br>
            <a:r>
              <a:rPr b="0" lang="en-US" sz="5400" spc="-1" strike="noStrike">
                <a:solidFill>
                  <a:srgbClr val="009900"/>
                </a:solidFill>
                <a:latin typeface="Arial"/>
              </a:rPr>
              <a:t>How's </a:t>
            </a:r>
            <a:br>
              <a:rPr sz="5400"/>
            </a:br>
            <a:r>
              <a:rPr b="0" lang="en-US" sz="5400" spc="-1" strike="noStrike">
                <a:solidFill>
                  <a:srgbClr val="009900"/>
                </a:solidFill>
                <a:latin typeface="Arial"/>
              </a:rPr>
              <a:t>the Weather Toda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436640" y="414360"/>
            <a:ext cx="4521240" cy="57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--How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 the weather in December?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--It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 ____________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--How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 the weather in July?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--It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 _____________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图片 2" descr="5764119001443495841513.jpg"/>
          <p:cNvPicPr/>
          <p:nvPr/>
        </p:nvPicPr>
        <p:blipFill>
          <a:blip r:embed="rId1"/>
          <a:stretch/>
        </p:blipFill>
        <p:spPr>
          <a:xfrm>
            <a:off x="0" y="0"/>
            <a:ext cx="4392720" cy="347328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3" descr="6198712161443495841523.png"/>
          <p:cNvPicPr/>
          <p:nvPr/>
        </p:nvPicPr>
        <p:blipFill>
          <a:blip r:embed="rId2"/>
          <a:stretch/>
        </p:blipFill>
        <p:spPr>
          <a:xfrm>
            <a:off x="0" y="3473280"/>
            <a:ext cx="4392720" cy="3384720"/>
          </a:xfrm>
          <a:prstGeom prst="rect">
            <a:avLst/>
          </a:prstGeom>
          <a:ln w="0">
            <a:noFill/>
          </a:ln>
        </p:spPr>
      </p:pic>
      <p:sp>
        <p:nvSpPr>
          <p:cNvPr id="210" name="太阳形 4"/>
          <p:cNvSpPr/>
          <p:nvPr/>
        </p:nvSpPr>
        <p:spPr>
          <a:xfrm>
            <a:off x="8037360" y="5769000"/>
            <a:ext cx="719280" cy="765000"/>
          </a:xfrm>
          <a:prstGeom prst="sun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6"/>
          <p:cNvSpPr txBox="1"/>
          <p:nvPr/>
        </p:nvSpPr>
        <p:spPr>
          <a:xfrm>
            <a:off x="5786280" y="1494000"/>
            <a:ext cx="279108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b2b2b2">
                      <a:alpha val="50000"/>
                    </a:srgbClr>
                  </a:outerShdw>
                </a:effectLst>
                <a:latin typeface="宋体"/>
              </a:rPr>
              <a:t>cold and snowy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b2b2b2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2" name="矩形 7"/>
          <p:cNvSpPr txBox="1"/>
          <p:nvPr/>
        </p:nvSpPr>
        <p:spPr>
          <a:xfrm>
            <a:off x="5832360" y="4915080"/>
            <a:ext cx="2880000" cy="50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02e1a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50000"/>
                    </a:srgbClr>
                  </a:outerShdw>
                </a:effectLst>
                <a:latin typeface="宋体"/>
              </a:rPr>
              <a:t>hot and sunny</a:t>
            </a:r>
            <a:endParaRPr b="0" lang="en-US" sz="2400" spc="1" strike="noStrike">
              <a:ln w="9360">
                <a:solidFill>
                  <a:srgbClr val="f02e1a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854360"/>
            <a:ext cx="8229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Group A: January, May, September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Group B: February, June, October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Group C: March, July, November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Group D: April, August, December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矩形 2" descr=""/>
          <p:cNvPicPr/>
          <p:nvPr/>
        </p:nvPicPr>
        <p:blipFill>
          <a:blip r:embed="rId1"/>
          <a:stretch/>
        </p:blipFill>
        <p:spPr>
          <a:xfrm>
            <a:off x="1816200" y="189000"/>
            <a:ext cx="5554440" cy="1536480"/>
          </a:xfrm>
          <a:prstGeom prst="rect">
            <a:avLst/>
          </a:prstGeom>
          <a:ln w="0">
            <a:noFill/>
          </a:ln>
        </p:spPr>
      </p:pic>
      <p:sp>
        <p:nvSpPr>
          <p:cNvPr id="215" name="右弧形箭头 3"/>
          <p:cNvSpPr/>
          <p:nvPr/>
        </p:nvSpPr>
        <p:spPr>
          <a:xfrm>
            <a:off x="8263080" y="5994360"/>
            <a:ext cx="495000" cy="495360"/>
          </a:xfrm>
          <a:custGeom>
            <a:avLst/>
            <a:gdLst>
              <a:gd name="textAreaLeft" fmla="*/ 66240 w 495000"/>
              <a:gd name="textAreaRight" fmla="*/ 428760 w 495000"/>
              <a:gd name="textAreaTop" fmla="*/ 86400 h 495360"/>
              <a:gd name="textAreaBottom" fmla="*/ 35928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906"/>
                <a:lnTo>
                  <a:pt x="7199" y="21168"/>
                </a:lnTo>
                <a:lnTo>
                  <a:pt x="0" y="17280"/>
                </a:lnTo>
                <a:lnTo>
                  <a:pt x="7199" y="12528"/>
                </a:lnTo>
                <a:lnTo>
                  <a:pt x="7199" y="14688"/>
                </a:lnTo>
                <a:arcTo wR="21600" hR="7560" stAng="2682906" swAng="-2325471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87000" y="1719000"/>
            <a:ext cx="805500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600" spc="-1" strike="noStrike">
                <a:solidFill>
                  <a:srgbClr val="009900"/>
                </a:solidFill>
                <a:latin typeface="Arial"/>
              </a:rPr>
              <a:t>Draw a picture about the season and write something about it.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i="1" lang="zh-CN" sz="3600" spc="-1" strike="noStrike">
                <a:solidFill>
                  <a:srgbClr val="009900"/>
                </a:solidFill>
                <a:latin typeface="Arial"/>
              </a:rPr>
              <a:t>画一幅自己喜欢的季节图片，可以依照图片应用本节所学单词及句型写几句话，也可以自编一组对话，回家读给父母听。 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2"/>
          <p:cNvSpPr txBox="1"/>
          <p:nvPr/>
        </p:nvSpPr>
        <p:spPr>
          <a:xfrm>
            <a:off x="746280" y="324000"/>
            <a:ext cx="4995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  <a:latin typeface="宋体"/>
              </a:rPr>
              <a:t>Homework:</a:t>
            </a:r>
            <a:endParaRPr b="0" i="1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矩形 1"/>
          <p:cNvSpPr txBox="1"/>
          <p:nvPr/>
        </p:nvSpPr>
        <p:spPr>
          <a:xfrm>
            <a:off x="387360" y="1089000"/>
            <a:ext cx="5176800" cy="37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c66ff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>
                      <a:alpha val="50000"/>
                    </a:srgbClr>
                  </a:outerShdw>
                </a:effectLst>
                <a:latin typeface="宋体"/>
              </a:rPr>
              <a:t>That's all!</a:t>
            </a:r>
            <a:endParaRPr b="0" lang="en-US" sz="2400" spc="1" strike="noStrike">
              <a:ln w="12600">
                <a:solidFill>
                  <a:srgbClr val="cc66ff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>
                    <a:alpha val="5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c66ff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>
                      <a:alpha val="50000"/>
                    </a:srgbClr>
                  </a:outerShdw>
                </a:effectLst>
                <a:latin typeface="宋体"/>
              </a:rPr>
              <a:t>Thank you!</a:t>
            </a:r>
            <a:endParaRPr b="0" lang="en-US" sz="2400" spc="1" strike="noStrike">
              <a:ln w="12600">
                <a:solidFill>
                  <a:srgbClr val="cc66ff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>
                    <a:alpha val="5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c66ff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>
                      <a:alpha val="50000"/>
                    </a:srgbClr>
                  </a:outerShdw>
                </a:effectLst>
                <a:latin typeface="宋体"/>
              </a:rPr>
              <a:t>Goodbye!</a:t>
            </a:r>
            <a:endParaRPr b="0" lang="en-US" sz="2400" spc="1" strike="noStrike">
              <a:ln w="12600">
                <a:solidFill>
                  <a:srgbClr val="cc66ff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9" name="左箭头 2"/>
          <p:cNvSpPr/>
          <p:nvPr/>
        </p:nvSpPr>
        <p:spPr>
          <a:xfrm>
            <a:off x="7723080" y="6173640"/>
            <a:ext cx="854280" cy="360360"/>
          </a:xfrm>
          <a:prstGeom prst="leftArrow">
            <a:avLst>
              <a:gd name="adj1" fmla="val 50000"/>
              <a:gd name="adj2" fmla="val 5925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1" descr="1571432731443495841385.jpg"/>
          <p:cNvPicPr/>
          <p:nvPr/>
        </p:nvPicPr>
        <p:blipFill>
          <a:blip r:embed="rId1"/>
          <a:stretch/>
        </p:blipFill>
        <p:spPr>
          <a:xfrm>
            <a:off x="252360" y="324000"/>
            <a:ext cx="2114640" cy="209376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2" descr="6786554701443495841390.jpg"/>
          <p:cNvPicPr/>
          <p:nvPr/>
        </p:nvPicPr>
        <p:blipFill>
          <a:blip r:embed="rId2"/>
          <a:stretch/>
        </p:blipFill>
        <p:spPr>
          <a:xfrm>
            <a:off x="162000" y="2214720"/>
            <a:ext cx="2158920" cy="220500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3" descr="3969461421443495841396.jpg"/>
          <p:cNvPicPr/>
          <p:nvPr/>
        </p:nvPicPr>
        <p:blipFill>
          <a:blip r:embed="rId3"/>
          <a:stretch/>
        </p:blipFill>
        <p:spPr>
          <a:xfrm>
            <a:off x="98280" y="4014720"/>
            <a:ext cx="2133720" cy="235908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4" descr="7972395041443495841412.jpg"/>
          <p:cNvPicPr/>
          <p:nvPr/>
        </p:nvPicPr>
        <p:blipFill>
          <a:blip r:embed="rId4"/>
          <a:stretch/>
        </p:blipFill>
        <p:spPr>
          <a:xfrm>
            <a:off x="6622920" y="593640"/>
            <a:ext cx="2521080" cy="252108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5" descr="5781441181443495841417.jpg"/>
          <p:cNvPicPr/>
          <p:nvPr/>
        </p:nvPicPr>
        <p:blipFill>
          <a:blip r:embed="rId5"/>
          <a:stretch/>
        </p:blipFill>
        <p:spPr>
          <a:xfrm>
            <a:off x="6416640" y="3249720"/>
            <a:ext cx="2565360" cy="2755800"/>
          </a:xfrm>
          <a:prstGeom prst="rect">
            <a:avLst/>
          </a:prstGeom>
          <a:ln w="0">
            <a:noFill/>
          </a:ln>
        </p:spPr>
      </p:pic>
      <p:sp>
        <p:nvSpPr>
          <p:cNvPr id="170" name="文本框 6"/>
          <p:cNvSpPr/>
          <p:nvPr/>
        </p:nvSpPr>
        <p:spPr>
          <a:xfrm>
            <a:off x="2187720" y="91836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7"/>
          <p:cNvSpPr/>
          <p:nvPr/>
        </p:nvSpPr>
        <p:spPr>
          <a:xfrm>
            <a:off x="2369520" y="1627920"/>
            <a:ext cx="167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n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8"/>
          <p:cNvSpPr/>
          <p:nvPr/>
        </p:nvSpPr>
        <p:spPr>
          <a:xfrm>
            <a:off x="2278800" y="2662920"/>
            <a:ext cx="15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ou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9"/>
          <p:cNvSpPr/>
          <p:nvPr/>
        </p:nvSpPr>
        <p:spPr>
          <a:xfrm>
            <a:off x="2278800" y="3293280"/>
            <a:ext cx="18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oud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0"/>
          <p:cNvSpPr/>
          <p:nvPr/>
        </p:nvSpPr>
        <p:spPr>
          <a:xfrm>
            <a:off x="2275200" y="4463280"/>
            <a:ext cx="111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1"/>
          <p:cNvSpPr/>
          <p:nvPr/>
        </p:nvSpPr>
        <p:spPr>
          <a:xfrm>
            <a:off x="2248920" y="5123520"/>
            <a:ext cx="139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in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12"/>
          <p:cNvSpPr/>
          <p:nvPr/>
        </p:nvSpPr>
        <p:spPr>
          <a:xfrm>
            <a:off x="5050800" y="1102680"/>
            <a:ext cx="14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3"/>
          <p:cNvSpPr/>
          <p:nvPr/>
        </p:nvSpPr>
        <p:spPr>
          <a:xfrm>
            <a:off x="5037120" y="1732680"/>
            <a:ext cx="17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now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4"/>
          <p:cNvSpPr/>
          <p:nvPr/>
        </p:nvSpPr>
        <p:spPr>
          <a:xfrm>
            <a:off x="5191560" y="3847320"/>
            <a:ext cx="133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15"/>
          <p:cNvSpPr/>
          <p:nvPr/>
        </p:nvSpPr>
        <p:spPr>
          <a:xfrm>
            <a:off x="5249160" y="4688640"/>
            <a:ext cx="161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nd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906640" y="-28800"/>
            <a:ext cx="3151440" cy="10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</a:rPr>
              <a:t>单词袋袋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ke a chant with m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23640"/>
            <a:ext cx="822960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 say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su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you say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sunny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Su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sunny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su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sunny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 say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clou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you say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 cloudy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Clou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cloudy,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cloud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 cloudy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 say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rai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you say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rainy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Rai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rainy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rai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rainy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 say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snow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you say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snowy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Snow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snowy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snow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snowy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Sun cloud rain snow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</a:pP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Sunny cloudy, rainy snowy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图片 3" descr="6813671611443495841423.gif"/>
          <p:cNvPicPr/>
          <p:nvPr/>
        </p:nvPicPr>
        <p:blipFill>
          <a:blip r:embed="rId1"/>
          <a:stretch/>
        </p:blipFill>
        <p:spPr>
          <a:xfrm>
            <a:off x="7504200" y="5138640"/>
            <a:ext cx="1639800" cy="1719360"/>
          </a:xfrm>
          <a:prstGeom prst="rect">
            <a:avLst/>
          </a:prstGeom>
          <a:ln w="0">
            <a:noFill/>
          </a:ln>
        </p:spPr>
      </p:pic>
      <p:sp>
        <p:nvSpPr>
          <p:cNvPr id="184" name="五角星 4"/>
          <p:cNvSpPr/>
          <p:nvPr/>
        </p:nvSpPr>
        <p:spPr>
          <a:xfrm>
            <a:off x="6327720" y="5678640"/>
            <a:ext cx="674640" cy="674640"/>
          </a:xfrm>
          <a:custGeom>
            <a:avLst/>
            <a:gdLst>
              <a:gd name="textAreaLeft" fmla="*/ 0 w 674640"/>
              <a:gd name="textAreaRight" fmla="*/ 675000 w 67464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674688" h="674687">
                <a:moveTo>
                  <a:pt x="0" y="257706"/>
                </a:moveTo>
                <a:lnTo>
                  <a:pt x="257709" y="257708"/>
                </a:lnTo>
                <a:lnTo>
                  <a:pt x="337344" y="0"/>
                </a:lnTo>
                <a:lnTo>
                  <a:pt x="416978" y="257708"/>
                </a:lnTo>
                <a:lnTo>
                  <a:pt x="674687" y="257706"/>
                </a:lnTo>
                <a:lnTo>
                  <a:pt x="466195" y="416977"/>
                </a:lnTo>
                <a:lnTo>
                  <a:pt x="545833" y="674685"/>
                </a:lnTo>
                <a:lnTo>
                  <a:pt x="337344" y="515411"/>
                </a:lnTo>
                <a:lnTo>
                  <a:pt x="128854" y="674685"/>
                </a:lnTo>
                <a:lnTo>
                  <a:pt x="208492" y="416977"/>
                </a:lnTo>
                <a:lnTo>
                  <a:pt x="0" y="257706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mph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图片 1" descr="1216222561443495841429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202000" y="188640"/>
            <a:ext cx="3779640" cy="24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he weather is cold and snowy.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图片 1" descr="3968848111443495841446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06280" y="2258640"/>
            <a:ext cx="276552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This is a sunny day.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3"/>
          <p:cNvSpPr/>
          <p:nvPr/>
        </p:nvSpPr>
        <p:spPr>
          <a:xfrm>
            <a:off x="6507000" y="3294000"/>
            <a:ext cx="243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＇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  war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1" descr="990355896144349584146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62000" y="1988640"/>
            <a:ext cx="402444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s cloudy.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图片 1" descr="988517579144349584147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842000" y="728280"/>
            <a:ext cx="384480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--Is it rainy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--Yes. It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 rainy.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1" descr="6350318441443495841487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87360" y="3384360"/>
            <a:ext cx="3935520" cy="27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＇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 windy.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4"/>
          <p:cNvSpPr/>
          <p:nvPr/>
        </p:nvSpPr>
        <p:spPr>
          <a:xfrm>
            <a:off x="4976640" y="2394000"/>
            <a:ext cx="387036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＇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 coo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57360" y="274320"/>
            <a:ext cx="443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</a:rPr>
              <a:t>智力大冲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2"/>
          <p:cNvSpPr/>
          <p:nvPr/>
        </p:nvSpPr>
        <p:spPr>
          <a:xfrm>
            <a:off x="3267000" y="1313640"/>
            <a:ext cx="4651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What day is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It's 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图片 3" descr="6437583191443495841494.jpg"/>
          <p:cNvPicPr/>
          <p:nvPr/>
        </p:nvPicPr>
        <p:blipFill>
          <a:blip r:embed="rId1"/>
          <a:stretch/>
        </p:blipFill>
        <p:spPr>
          <a:xfrm>
            <a:off x="341280" y="3473280"/>
            <a:ext cx="2789280" cy="3195720"/>
          </a:xfrm>
          <a:prstGeom prst="rect">
            <a:avLst/>
          </a:prstGeom>
          <a:ln w="0">
            <a:noFill/>
          </a:ln>
        </p:spPr>
      </p:pic>
      <p:sp>
        <p:nvSpPr>
          <p:cNvPr id="200" name="文本框 4"/>
          <p:cNvSpPr/>
          <p:nvPr/>
        </p:nvSpPr>
        <p:spPr>
          <a:xfrm>
            <a:off x="3672000" y="3876120"/>
            <a:ext cx="4814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How’s the weather          to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 It's 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折角形 5"/>
          <p:cNvSpPr/>
          <p:nvPr/>
        </p:nvSpPr>
        <p:spPr>
          <a:xfrm>
            <a:off x="387360" y="189000"/>
            <a:ext cx="2789280" cy="3249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椭圆 6"/>
          <p:cNvSpPr/>
          <p:nvPr/>
        </p:nvSpPr>
        <p:spPr>
          <a:xfrm>
            <a:off x="836640" y="863640"/>
            <a:ext cx="2205000" cy="18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椭圆 7"/>
          <p:cNvSpPr/>
          <p:nvPr/>
        </p:nvSpPr>
        <p:spPr>
          <a:xfrm>
            <a:off x="476280" y="728640"/>
            <a:ext cx="2655720" cy="2114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8"/>
          <p:cNvSpPr/>
          <p:nvPr/>
        </p:nvSpPr>
        <p:spPr>
          <a:xfrm>
            <a:off x="657360" y="773280"/>
            <a:ext cx="22939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uesd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9"/>
          <p:cNvSpPr txBox="1"/>
          <p:nvPr/>
        </p:nvSpPr>
        <p:spPr>
          <a:xfrm>
            <a:off x="4751280" y="2708280"/>
            <a:ext cx="3240360" cy="45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50000"/>
                    </a:srgbClr>
                  </a:outerShdw>
                </a:effectLst>
                <a:latin typeface="宋体"/>
              </a:rPr>
              <a:t>Tuesday,April 24!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6" name="矩形 10"/>
          <p:cNvSpPr txBox="1"/>
          <p:nvPr/>
        </p:nvSpPr>
        <p:spPr>
          <a:xfrm>
            <a:off x="4932360" y="5634000"/>
            <a:ext cx="2744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50000"/>
                    </a:srgbClr>
                  </a:outerShdw>
                </a:effectLst>
                <a:latin typeface="宋体"/>
              </a:rPr>
              <a:t>warm and windy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00:25:08Z</dcterms:created>
  <dc:creator>教师进修学校</dc:creator>
  <dc:description/>
  <dc:language>en-US</dc:language>
  <cp:lastModifiedBy>BMT-6</cp:lastModifiedBy>
  <dcterms:modified xsi:type="dcterms:W3CDTF">2018-01-03T06:31:27Z</dcterms:modified>
  <cp:revision>110</cp:revision>
  <dc:subject/>
  <dc:title>小学英语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251</vt:lpwstr>
  </property>
</Properties>
</file>