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7B3-7272-4526-8636-5BBF9950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F59-79D5-4FFD-9987-E837FD23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9C2-25BB-4D07-A754-81D5CFEB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67E-D4C7-48A4-AA98-CB7915F2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E605-CE1E-4328-80ED-9D140E36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CE9A-A9B7-499B-9FA0-EACD1D14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C86-6785-449E-9444-E1EB1C44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FB9-1882-4D52-865F-E6F0A6A7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925-3E33-428E-AEF9-31AB05C3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61C5-E9C9-41DB-AB57-D7A26E42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0B1A-2469-4396-AB9E-F75AE9D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995-96BD-446A-B5F2-A28F921E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3C79-63BD-48FD-96E1-1F5371A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7C9B-683F-439D-B089-B99E4A7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2D26-D45F-45ED-99E3-6927ED6E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81AD-8446-4948-8C32-C8C16D34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C862-4FCC-4DEC-8B7A-D2E585B9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8C06-5245-4FE5-A46D-5BACF3D2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A36D-F97B-43E9-AD67-2B1D24A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DD57-2EA1-479E-B683-57D179E3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C959E-91B9-4CFB-94E3-4905852E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2017E-46E3-45EE-8B1D-91A2AD58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1AF-E0DD-4733-9BE0-87A8CAF4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01C1-CB04-490D-933B-766E2057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912A-3212-4D50-B82D-C442B3C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E66D-CA13-447A-94C3-A919B3E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17A6-E46F-418B-9968-A3B55E0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C752-EB80-4917-9959-497D71E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D17D3-42E9-49FE-B797-C75F39FD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06D2-4EF2-4785-AE2C-D322C13C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6A0-2DC3-4782-A095-B12A05C5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1D8-E1C3-4C81-A169-2E35CD49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F8E-9BB7-4A25-B7F5-ABBFCFAF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E1B-FE87-4FB4-9D62-7FBB099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459-0BB3-4A36-81D2-A5EA80BB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C02-6742-4E42-B8BC-B3E4B576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6E32-4733-4070-8035-50CDC5CB6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椭圆 2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3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4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5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6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A66-37B3-49EE-80B3-105E8B6E8B5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9" name="椭圆 2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3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5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6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5" name="椭圆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2379-0EE0-498D-BBFB-9C3E9D05DD0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6160" y="914400"/>
            <a:ext cx="105123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DFKai-SB"/>
              </a:rPr>
              <a:t>Lesson 2</a:t>
            </a:r>
            <a:br>
              <a:rPr sz="11700"/>
            </a:br>
            <a:r>
              <a:rPr b="1" i="1" lang="en-US" sz="117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Is this your pencil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0" y="380880"/>
            <a:ext cx="9144000" cy="1152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Look and writ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" descr=""/>
          <p:cNvPicPr/>
          <p:nvPr/>
        </p:nvPicPr>
        <p:blipFill>
          <a:blip r:embed="rId1"/>
          <a:stretch/>
        </p:blipFill>
        <p:spPr>
          <a:xfrm>
            <a:off x="6975360" y="3200400"/>
            <a:ext cx="2168640" cy="32529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3" descr="Jenny"/>
          <p:cNvPicPr/>
          <p:nvPr/>
        </p:nvPicPr>
        <p:blipFill>
          <a:blip r:embed="rId2"/>
          <a:stretch/>
        </p:blipFill>
        <p:spPr>
          <a:xfrm>
            <a:off x="304920" y="2590920"/>
            <a:ext cx="1828800" cy="3774960"/>
          </a:xfrm>
          <a:prstGeom prst="rect">
            <a:avLst/>
          </a:prstGeom>
          <a:ln w="0">
            <a:noFill/>
          </a:ln>
        </p:spPr>
      </p:pic>
      <p:sp>
        <p:nvSpPr>
          <p:cNvPr id="176" name="圆角矩形标注 4"/>
          <p:cNvSpPr/>
          <p:nvPr/>
        </p:nvSpPr>
        <p:spPr>
          <a:xfrm flipV="1">
            <a:off x="76320" y="1676160"/>
            <a:ext cx="8839080" cy="838080"/>
          </a:xfrm>
          <a:prstGeom prst="wedgeRoundRectCallout">
            <a:avLst>
              <a:gd name="adj1" fmla="val -40787"/>
              <a:gd name="adj2" fmla="val -77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看图片， 仿照例子完成课本第三部分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云形标注 5"/>
          <p:cNvSpPr/>
          <p:nvPr/>
        </p:nvSpPr>
        <p:spPr>
          <a:xfrm flipH="1" flipV="1">
            <a:off x="4190400" y="2894760"/>
            <a:ext cx="2361960" cy="1295640"/>
          </a:xfrm>
          <a:prstGeom prst="cloudCallout">
            <a:avLst>
              <a:gd name="adj1" fmla="val -85083"/>
              <a:gd name="adj2" fmla="val -90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矩形 1" descr=""/>
          <p:cNvPicPr/>
          <p:nvPr/>
        </p:nvPicPr>
        <p:blipFill>
          <a:blip r:embed="rId1"/>
          <a:stretch/>
        </p:blipFill>
        <p:spPr>
          <a:xfrm>
            <a:off x="682560" y="914400"/>
            <a:ext cx="6340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 txBox="1"/>
          <p:nvPr/>
        </p:nvSpPr>
        <p:spPr>
          <a:xfrm>
            <a:off x="1143000" y="22860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当 堂 检 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6480" y="990720"/>
            <a:ext cx="91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685800" y="617220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40320" y="1371600"/>
            <a:ext cx="913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词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ncil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_  isn’t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完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nny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所有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 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应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_   is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s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汉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where is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缩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义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_ student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r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称代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__sh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主代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2745000" y="19051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penc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6707160" y="19051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i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4648680" y="243828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Danny 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3034080" y="30160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9"/>
          <p:cNvSpPr/>
          <p:nvPr/>
        </p:nvSpPr>
        <p:spPr>
          <a:xfrm>
            <a:off x="6387120" y="30160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0"/>
          <p:cNvSpPr/>
          <p:nvPr/>
        </p:nvSpPr>
        <p:spPr>
          <a:xfrm>
            <a:off x="3080160" y="358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7012080" y="36576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Wher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2957400" y="40831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7316640" y="403848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pup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3658320" y="47242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DFKai-SB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7850520" y="47242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1"/>
          <p:cNvSpPr/>
          <p:nvPr/>
        </p:nvSpPr>
        <p:spPr>
          <a:xfrm>
            <a:off x="-362520" y="228600"/>
            <a:ext cx="9830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二、选一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This is ___pencil box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A. I   B. my  C.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2. _______ pen is this?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A.whose     B. what’s      C. W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3.Is this  ___ ruler? –Yes, it’s my ruler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A.his        B.your        C. 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4.These are ____cray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A. she        B. he        C. Steven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5.Is it Kim’s pencil?- ____it’s not her pencil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A. Yes         B. No      C.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"/>
          <p:cNvSpPr/>
          <p:nvPr/>
        </p:nvSpPr>
        <p:spPr>
          <a:xfrm>
            <a:off x="1830240" y="809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"/>
          <p:cNvSpPr/>
          <p:nvPr/>
        </p:nvSpPr>
        <p:spPr>
          <a:xfrm>
            <a:off x="122040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"/>
          <p:cNvSpPr/>
          <p:nvPr/>
        </p:nvSpPr>
        <p:spPr>
          <a:xfrm>
            <a:off x="1906560" y="3048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2668320" y="419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"/>
          <p:cNvSpPr/>
          <p:nvPr/>
        </p:nvSpPr>
        <p:spPr>
          <a:xfrm>
            <a:off x="4421160" y="5181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DFKai-SB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矩形 2" descr=""/>
          <p:cNvPicPr/>
          <p:nvPr/>
        </p:nvPicPr>
        <p:blipFill>
          <a:blip r:embed="rId1"/>
          <a:stretch/>
        </p:blipFill>
        <p:spPr>
          <a:xfrm>
            <a:off x="365040" y="146160"/>
            <a:ext cx="66582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chmgm"/>
          <p:cNvPicPr/>
          <p:nvPr/>
        </p:nvPicPr>
        <p:blipFill>
          <a:blip r:embed="rId1"/>
          <a:stretch/>
        </p:blipFill>
        <p:spPr>
          <a:xfrm>
            <a:off x="-301680" y="-111240"/>
            <a:ext cx="9750600" cy="70837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"/>
          <p:cNvSpPr/>
          <p:nvPr/>
        </p:nvSpPr>
        <p:spPr>
          <a:xfrm>
            <a:off x="745200" y="2133720"/>
            <a:ext cx="804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学习单词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p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（钢笔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penci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（铅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rul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（直尺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crayon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蜡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whos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谁的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pencil bo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铅笔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理解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部分课文内容，掌握名词所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格和物主代词的用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能运用课文中句型进行简单的对话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3848400" y="919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 txBox="1"/>
          <p:nvPr/>
        </p:nvSpPr>
        <p:spPr>
          <a:xfrm rot="20191800">
            <a:off x="380520" y="1295280"/>
            <a:ext cx="76233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What's this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147240" y="3581280"/>
            <a:ext cx="89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  <a:ea typeface="DFKai-SB"/>
              </a:rPr>
              <a:t>This is my</a:t>
            </a:r>
            <a:r>
              <a:rPr b="1" lang="en-US" sz="7200" spc="-1" strike="noStrike">
                <a:solidFill>
                  <a:srgbClr val="ff0066"/>
                </a:solidFill>
                <a:latin typeface="Times New Roman"/>
                <a:ea typeface="DFKai-SB"/>
              </a:rPr>
              <a:t>                    </a:t>
            </a:r>
            <a:r>
              <a:rPr b="1" lang="en-US" sz="7200" spc="-1" strike="noStrike">
                <a:solidFill>
                  <a:srgbClr val="333399"/>
                </a:solidFill>
                <a:latin typeface="Times New Roman"/>
                <a:ea typeface="DFKai-SB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"/>
          <p:cNvSpPr/>
          <p:nvPr/>
        </p:nvSpPr>
        <p:spPr>
          <a:xfrm>
            <a:off x="4267440" y="3505320"/>
            <a:ext cx="46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  <a:ea typeface="DFKai-SB"/>
              </a:rPr>
              <a:t>pencil b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"/>
          <p:cNvSpPr/>
          <p:nvPr/>
        </p:nvSpPr>
        <p:spPr>
          <a:xfrm>
            <a:off x="304560" y="4572000"/>
            <a:ext cx="583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DFKai-SB"/>
              </a:rPr>
              <a:t>What’s </a:t>
            </a:r>
            <a:r>
              <a:rPr b="1" lang="en-US" sz="8000" spc="-1" strike="noStrike">
                <a:solidFill>
                  <a:srgbClr val="ff0066"/>
                </a:solidFill>
                <a:latin typeface="Times New Roman"/>
                <a:ea typeface="DFKai-SB"/>
              </a:rPr>
              <a:t>in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DFKai-SB"/>
              </a:rPr>
              <a:t> i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C:\Users\dell\AppData\Roaming\Tencent\Users\712326765\QQ\WinTemp\RichOle\T{~1D8CJXS[~`CY7F4WKNF4.png"/>
          <p:cNvPicPr/>
          <p:nvPr/>
        </p:nvPicPr>
        <p:blipFill>
          <a:blip r:embed="rId1"/>
          <a:stretch/>
        </p:blipFill>
        <p:spPr>
          <a:xfrm>
            <a:off x="1143000" y="685800"/>
            <a:ext cx="6791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"/>
          <p:cNvSpPr/>
          <p:nvPr/>
        </p:nvSpPr>
        <p:spPr>
          <a:xfrm>
            <a:off x="1906920" y="2209680"/>
            <a:ext cx="232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DFKai-SB"/>
              </a:rPr>
              <a:t>penc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"/>
          <p:cNvSpPr/>
          <p:nvPr/>
        </p:nvSpPr>
        <p:spPr>
          <a:xfrm>
            <a:off x="6494400" y="2133720"/>
            <a:ext cx="26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DFKai-SB"/>
              </a:rPr>
              <a:t>cray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6"/>
          <p:cNvSpPr/>
          <p:nvPr/>
        </p:nvSpPr>
        <p:spPr>
          <a:xfrm>
            <a:off x="2668320" y="4343400"/>
            <a:ext cx="19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DFKai-SB"/>
              </a:rPr>
              <a:t>rul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7" descr="0"/>
          <p:cNvPicPr/>
          <p:nvPr/>
        </p:nvPicPr>
        <p:blipFill>
          <a:blip r:embed="rId1"/>
          <a:stretch/>
        </p:blipFill>
        <p:spPr>
          <a:xfrm>
            <a:off x="4724280" y="3733920"/>
            <a:ext cx="2362320" cy="193032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8"/>
          <p:cNvSpPr/>
          <p:nvPr/>
        </p:nvSpPr>
        <p:spPr>
          <a:xfrm>
            <a:off x="6859800" y="4267080"/>
            <a:ext cx="148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DFKai-SB"/>
              </a:rPr>
              <a:t>p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C:\Users\dell\AppData\Roaming\Tencent\Users\712326765\QQ\WinTemp\RichOle\OVP1VX~3KH4@%6`ZM}@2FR9.png"/>
          <p:cNvPicPr/>
          <p:nvPr/>
        </p:nvPicPr>
        <p:blipFill>
          <a:blip r:embed="rId2"/>
          <a:stretch/>
        </p:blipFill>
        <p:spPr>
          <a:xfrm>
            <a:off x="304920" y="1752480"/>
            <a:ext cx="1457280" cy="123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C:\Users\dell\AppData\Roaming\Tencent\Users\712326765\QQ\WinTemp\RichOle\W0`}28363OD3WS)PY`(6$FG.png"/>
          <p:cNvPicPr/>
          <p:nvPr/>
        </p:nvPicPr>
        <p:blipFill>
          <a:blip r:embed="rId3"/>
          <a:stretch/>
        </p:blipFill>
        <p:spPr>
          <a:xfrm>
            <a:off x="4952880" y="1828800"/>
            <a:ext cx="1581120" cy="1514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C:\Users\dell\AppData\Roaming\Tencent\Users\712326765\QQ\WinTemp\RichOle\H)9T@F5}ONTA7N%NJDB`@NR.png"/>
          <p:cNvPicPr/>
          <p:nvPr/>
        </p:nvPicPr>
        <p:blipFill>
          <a:blip r:embed="rId4"/>
          <a:stretch/>
        </p:blipFill>
        <p:spPr>
          <a:xfrm>
            <a:off x="457200" y="3581280"/>
            <a:ext cx="20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0" y="1557360"/>
            <a:ext cx="9144000" cy="115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Whose pencil is thi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895480" cy="3786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9a504fc2d5628535da00a12292ef76c6a6ef63d4"/>
          <p:cNvPicPr/>
          <p:nvPr/>
        </p:nvPicPr>
        <p:blipFill>
          <a:blip r:embed="rId2"/>
          <a:stretch/>
        </p:blipFill>
        <p:spPr>
          <a:xfrm rot="15134400">
            <a:off x="1407960" y="3465000"/>
            <a:ext cx="2717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1"/>
          <p:cNvSpPr/>
          <p:nvPr/>
        </p:nvSpPr>
        <p:spPr>
          <a:xfrm>
            <a:off x="1371600" y="5335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99"/>
                </a:solidFill>
                <a:latin typeface="Comic Sans MS"/>
                <a:ea typeface="黑体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1066680" y="1676520"/>
            <a:ext cx="704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dobe 黑体 Std R"/>
                <a:ea typeface="Adobe 黑体 Std R"/>
              </a:rPr>
              <a:t>   </a:t>
            </a: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自读课文，找出自己不懂的句子和单词，组内讨论交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爆炸形 1 3"/>
          <p:cNvSpPr/>
          <p:nvPr/>
        </p:nvSpPr>
        <p:spPr>
          <a:xfrm>
            <a:off x="304920" y="1219320"/>
            <a:ext cx="1523880" cy="16002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1"/>
          <p:cNvSpPr/>
          <p:nvPr/>
        </p:nvSpPr>
        <p:spPr>
          <a:xfrm>
            <a:off x="3298680" y="37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380880" y="1344600"/>
            <a:ext cx="70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再读课文，回答下列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"/>
          <p:cNvSpPr/>
          <p:nvPr/>
        </p:nvSpPr>
        <p:spPr>
          <a:xfrm>
            <a:off x="609480" y="3809880"/>
            <a:ext cx="31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"/>
          <p:cNvSpPr/>
          <p:nvPr/>
        </p:nvSpPr>
        <p:spPr>
          <a:xfrm>
            <a:off x="414000" y="2057400"/>
            <a:ext cx="57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this Kim’s penc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②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Whose pencil is l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"/>
          <p:cNvSpPr/>
          <p:nvPr/>
        </p:nvSpPr>
        <p:spPr>
          <a:xfrm>
            <a:off x="993240" y="2743200"/>
            <a:ext cx="62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No, it ’ s not her penc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6"/>
          <p:cNvSpPr/>
          <p:nvPr/>
        </p:nvSpPr>
        <p:spPr>
          <a:xfrm>
            <a:off x="993240" y="4114800"/>
            <a:ext cx="58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Danny’s pencil is lo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1140840" y="228600"/>
            <a:ext cx="69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Read and Thin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"/>
          <p:cNvSpPr/>
          <p:nvPr/>
        </p:nvSpPr>
        <p:spPr>
          <a:xfrm>
            <a:off x="20520" y="0"/>
            <a:ext cx="912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DFKai-SB"/>
              </a:rPr>
              <a:t>A:Whose_____ is thi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DFKai-SB"/>
              </a:rPr>
              <a:t>Is this your ____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DFKai-SB"/>
              </a:rPr>
              <a:t>B:Yes, it’s my pencil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66"/>
                </a:solidFill>
                <a:latin typeface="Times New Roman"/>
                <a:ea typeface="DFKai-SB"/>
              </a:rPr>
              <a:t>    </a:t>
            </a:r>
            <a:r>
              <a:rPr b="1" i="1" lang="en-US" sz="7200" spc="-1" strike="noStrike">
                <a:solidFill>
                  <a:srgbClr val="ff0066"/>
                </a:solidFill>
                <a:latin typeface="Times New Roman"/>
                <a:ea typeface="DFKai-SB"/>
              </a:rPr>
              <a:t>/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DFKai-SB"/>
              </a:rPr>
              <a:t> No, it’s ____ pencil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2:03:47Z</dcterms:created>
  <dc:creator>21cnjy</dc:creator>
  <dc:description>21cnjy</dc:description>
  <cp:keywords>21cnjy</cp:keywords>
  <dc:language>en-US</dc:language>
  <cp:lastModifiedBy>BMT-6</cp:lastModifiedBy>
  <dcterms:modified xsi:type="dcterms:W3CDTF">2018-01-03T06:38:39Z</dcterms:modified>
  <cp:revision>61</cp:revision>
  <dc:subject>21cnjy</dc:subject>
  <dc:title>21cnj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  <property fmtid="{D5CDD505-2E9C-101B-9397-08002B2CF9AE}" pid="3" name="Version">
    <vt:r8>1</vt:r8>
  </property>
</Properties>
</file>