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6-03-03T14:39:17.872000000" idx="1">
    <p:pos x="4637" y="7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164-684F-4151-92D5-30ED2D3223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A14-1909-4EE4-8AC8-C1CE1CE92C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472-CF1E-46BF-894D-DA998CCF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769-BD9F-435D-B60A-E8F862E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197-6620-4BBF-B952-E9ABD8BD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F6F-5AEF-4E50-B3BC-E0E0197C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0A0-EF28-43B4-BFEE-34347BF2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5488-3176-4009-B8E1-70D5371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683F-91DA-4878-81A2-BD026EE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3B3-5025-48FC-B51B-BB54214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D104-9F77-4E1C-B0E4-83C8067D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BE0-CD5C-4087-951F-61CCC94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C56-D6EF-469E-8848-51A76E9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FA7-3131-4832-9B20-B94CA0D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AB4-BB6A-4280-9F1F-EDD89D2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AE73-3F5D-42EE-9F51-3F435E4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3B2-41AE-4FFA-AD6B-A7FC239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BCE8-78B8-43FA-B988-4B0B6F01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0B6F-8EDF-42D6-AFFA-C3049288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AB52-5D6D-4685-8A00-04633A8D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B0F0-0B9B-4A07-87E9-EBE28D3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9B87-906E-40E1-90C0-B702332E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782A-56E8-4FC7-849C-62393EBD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9266-D401-45FA-B47F-BF623A3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EAB-815B-4D4F-9370-BBFD6EF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82EE-A1AE-4293-AA7F-AAA28C2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10CA-3F2C-4B69-842D-864091E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11E7-2D3A-4371-8099-7D9BB0A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D456-CF95-4F5F-B56E-A981E7A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F8FF-F1E0-4CA7-BB9F-7876C8A9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7CF4-855D-4046-9A69-61CB8BC9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81F1-10FB-4FAF-9BB6-02C81F47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D61F-D55D-4EB5-88D4-39C6D52A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CD5F-7069-4883-B12A-3AA51E1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8C69-C15D-498C-9FCE-E074041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31D-A49E-4927-8CA9-A319D9A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0859-295E-40EA-8128-80D1D98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9364-FEC9-4180-B98B-B113F5A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E8C1-FBF0-4EB0-9B0B-59C3FDEA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11C0-9351-4BA7-97ED-76A40AA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BAC1-2C6A-4830-B350-BBEBAFF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417D-41EE-47CC-8642-40CCEF8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1CEE-A01C-4E52-8975-8E6F93E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947A-133E-4402-9FC1-03930525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E069-6367-4840-9B5D-15D6466B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6443-2D17-4277-801D-658DD3E9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8C7-5D80-4B0A-8F51-D2C95E9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A637-85AA-438E-8F2D-F2C4231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E871-8FC2-4BAE-AAF1-235F2B89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35D6-C431-4F55-A49C-CE6F3D6C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D04D-6B9A-403A-B1FE-5F48EEFA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CFB8-35F8-4AC7-BBB7-BCDF0D7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90D5-52E3-476E-B916-A24B9B8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26C6-1072-4755-8700-85C5061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4A46-128A-4036-9F58-C6B3F2B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E518-A5A7-4044-968D-DAFB762A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FFED-CFED-4FA5-A0B1-ACB6FC66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6DA-C3FE-41E6-B497-452BEB10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0D2A-6F39-4269-90F2-E8970241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E307-B9D3-4E97-862A-3814E2A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017D-A731-4FB4-803C-C463778C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95A2-4D27-49CD-8B14-E68D5D7B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47C6-8167-48F7-88C6-509DA38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60FB-98FC-44AA-844F-7C3E4D9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A9C49-7A5C-4602-AB06-E9A9D71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325F-EE73-4558-AEEE-22C9698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ADAB1-CD4A-4392-925D-FC54879D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4124-C0F6-4269-AE22-430CBE5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BDC-7863-42FA-B77C-4DAF894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C84F-9EF5-418F-9858-158E0561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8C03-89A8-4D3C-924E-284115C9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37BB-6072-479E-8AED-48522665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9F97-1887-44B6-B223-DB3DDB2D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9BA3E-F770-402C-967A-8A975F6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5B9D-F577-4D5B-B04F-CFB1A39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C991-A015-4431-B537-385CBF4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F16B-0D89-4E37-B9A6-7B2F5562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48ED1-1184-4607-8827-3D08041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A95D-B3B7-46F7-82BF-1ED30B7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F4D-BA16-4CB7-975F-9933FA9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69D8-1433-41C2-ABBC-716A1D9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E4FC-A422-455A-9473-D89F24B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BC1E-563D-4BFF-A684-FD69C751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B506-8A2B-4B05-A1E0-7B336F41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C6BF-B059-4215-9A98-35B1ABC5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FEA-65AD-4D80-896A-E560108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B00F-4E40-45D1-A8BA-9C317106C9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FEB-B0C8-4510-BBF5-6E4FAED968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211-8073-4ACA-B3BF-9F6182E4DC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73FC-805F-4DC4-9EA0-20465D0A6A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1DF-E701-48B2-B22D-D4B2DB9410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EA9-DB21-4D1C-B031-78CE27810A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D8A0-F7AE-4A0B-B8EF-0ED7DCB0E4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1072080" y="356760"/>
            <a:ext cx="10215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Gill Sans MT"/>
              </a:rPr>
              <a:t>Lesson 5 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ill Sans MT"/>
              </a:rPr>
              <a:t>             Where is Danny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3214800" y="2214720"/>
            <a:ext cx="3389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571840" y="507204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4071960" y="507204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5" descr="QQ截图20150324095930.png"/>
          <p:cNvPicPr/>
          <p:nvPr/>
        </p:nvPicPr>
        <p:blipFill>
          <a:blip r:embed="rId2"/>
          <a:stretch/>
        </p:blipFill>
        <p:spPr>
          <a:xfrm>
            <a:off x="2857680" y="1214280"/>
            <a:ext cx="400032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714760" y="521496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4143240" y="514368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图片 5" descr="QQ截图20150324095942.png"/>
          <p:cNvPicPr/>
          <p:nvPr/>
        </p:nvPicPr>
        <p:blipFill>
          <a:blip r:embed="rId2"/>
          <a:stretch/>
        </p:blipFill>
        <p:spPr>
          <a:xfrm>
            <a:off x="2643120" y="100008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143080" y="4929120"/>
            <a:ext cx="5929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643200" y="485784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5" descr="QQ截图20150324095951.png"/>
          <p:cNvPicPr/>
          <p:nvPr/>
        </p:nvPicPr>
        <p:blipFill>
          <a:blip r:embed="rId2"/>
          <a:stretch/>
        </p:blipFill>
        <p:spPr>
          <a:xfrm>
            <a:off x="2000160" y="1428840"/>
            <a:ext cx="5992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714920" y="2285640"/>
            <a:ext cx="3643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John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是个粗心的男孩，他经常乱放东西，结果要用的时候却找不到。你能帮他吗？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5" descr="http://e.hiphotos.baidu.com/zhidao/pic/item/a1ec08fa513d2697ed5f401254fbb2fb4216d8f5.jpg"/>
          <p:cNvPicPr/>
          <p:nvPr/>
        </p:nvPicPr>
        <p:blipFill>
          <a:blip r:embed="rId2"/>
          <a:stretch/>
        </p:blipFill>
        <p:spPr>
          <a:xfrm>
            <a:off x="0" y="3000240"/>
            <a:ext cx="3714840" cy="3632400"/>
          </a:xfrm>
          <a:prstGeom prst="rect">
            <a:avLst/>
          </a:prstGeom>
          <a:ln w="0">
            <a:noFill/>
          </a:ln>
        </p:spPr>
      </p:pic>
      <p:sp>
        <p:nvSpPr>
          <p:cNvPr id="368" name="云形标注 5"/>
          <p:cNvSpPr/>
          <p:nvPr/>
        </p:nvSpPr>
        <p:spPr>
          <a:xfrm>
            <a:off x="1000080" y="142920"/>
            <a:ext cx="6215040" cy="2357280"/>
          </a:xfrm>
          <a:prstGeom prst="cloudCallout">
            <a:avLst>
              <a:gd name="adj1" fmla="val -17740"/>
              <a:gd name="adj2" fmla="val 120995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华文中宋"/>
              </a:rPr>
              <a:t>Can you help 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整理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http://pic41.nipic.com/20140515/4567772_160003802001_2.jpg"/>
          <p:cNvPicPr/>
          <p:nvPr/>
        </p:nvPicPr>
        <p:blipFill>
          <a:blip r:embed="rId3"/>
          <a:stretch/>
        </p:blipFill>
        <p:spPr>
          <a:xfrm>
            <a:off x="142920" y="214200"/>
            <a:ext cx="13572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整理后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http://pic30.nipic.com/20130621/12352376_113930703196_2.jpg"/>
          <p:cNvPicPr/>
          <p:nvPr/>
        </p:nvPicPr>
        <p:blipFill>
          <a:blip r:embed="rId3"/>
          <a:stretch/>
        </p:blipFill>
        <p:spPr>
          <a:xfrm>
            <a:off x="7715160" y="214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8"/>
          <p:cNvSpPr/>
          <p:nvPr/>
        </p:nvSpPr>
        <p:spPr>
          <a:xfrm>
            <a:off x="357120" y="1000080"/>
            <a:ext cx="841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ps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：（小提示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9"/>
          <p:cNvSpPr/>
          <p:nvPr/>
        </p:nvSpPr>
        <p:spPr>
          <a:xfrm>
            <a:off x="4520160" y="2786040"/>
            <a:ext cx="113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整理好自己的物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养成良好的生活习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4" descr="QQ截图20150324094250.png"/>
          <p:cNvPicPr/>
          <p:nvPr/>
        </p:nvPicPr>
        <p:blipFill>
          <a:blip r:embed="rId2"/>
          <a:stretch/>
        </p:blipFill>
        <p:spPr>
          <a:xfrm>
            <a:off x="2000160" y="285840"/>
            <a:ext cx="5715000" cy="41274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5" descr="QQ截图20150324094305.png"/>
          <p:cNvPicPr/>
          <p:nvPr/>
        </p:nvPicPr>
        <p:blipFill>
          <a:blip r:embed="rId3"/>
          <a:stretch/>
        </p:blipFill>
        <p:spPr>
          <a:xfrm>
            <a:off x="2000160" y="4429080"/>
            <a:ext cx="5715000" cy="6955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1071720" y="550080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 Ming is in front of the tre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4" descr="QQ截图20150324094357.png"/>
          <p:cNvPicPr/>
          <p:nvPr/>
        </p:nvPicPr>
        <p:blipFill>
          <a:blip r:embed="rId2"/>
          <a:stretch/>
        </p:blipFill>
        <p:spPr>
          <a:xfrm>
            <a:off x="2000160" y="214200"/>
            <a:ext cx="5500800" cy="40086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5" descr="QQ截图20150324094416.png"/>
          <p:cNvPicPr/>
          <p:nvPr/>
        </p:nvPicPr>
        <p:blipFill>
          <a:blip r:embed="rId3"/>
          <a:stretch/>
        </p:blipFill>
        <p:spPr>
          <a:xfrm>
            <a:off x="1928880" y="4214880"/>
            <a:ext cx="5857920" cy="6811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6"/>
          <p:cNvSpPr/>
          <p:nvPr/>
        </p:nvSpPr>
        <p:spPr>
          <a:xfrm>
            <a:off x="1428840" y="542916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 Ming is behind the tre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571400" y="3786120"/>
            <a:ext cx="7429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He’s </a:t>
            </a:r>
            <a:r>
              <a:rPr b="1" lang="en-US" sz="4000" spc="-1" strike="noStrike">
                <a:solidFill>
                  <a:srgbClr val="ff3300"/>
                </a:solidFill>
                <a:latin typeface="Gill Sans MT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the classroom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He’s </a:t>
            </a:r>
            <a:r>
              <a:rPr b="1" lang="en-US" sz="4000" spc="-1" strike="noStrike">
                <a:solidFill>
                  <a:srgbClr val="ff3300"/>
                </a:solidFill>
                <a:latin typeface="Gill Sans MT"/>
              </a:rPr>
              <a:t>in front of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Steven 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He’s reading a book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图片 7" descr="QQ截图20150324094913.png"/>
          <p:cNvPicPr/>
          <p:nvPr/>
        </p:nvPicPr>
        <p:blipFill>
          <a:blip r:embed="rId2"/>
          <a:stretch/>
        </p:blipFill>
        <p:spPr>
          <a:xfrm>
            <a:off x="2000160" y="0"/>
            <a:ext cx="55720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500120" y="3929040"/>
            <a:ext cx="7500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Where is Jenny 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the playground 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She is</a:t>
            </a:r>
            <a:r>
              <a:rPr b="1" lang="en-US" sz="40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Danny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They’ re playing a gam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U1_L05_03_001.mp3" descr=""/>
          <p:cNvPicPr/>
          <p:nvPr/>
        </p:nvPicPr>
        <p:blipFill>
          <a:blip r:embed="rId2"/>
          <a:stretch/>
        </p:blipFill>
        <p:spPr>
          <a:xfrm>
            <a:off x="6357960" y="135720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8" descr="QQ截图20150324094929.png"/>
          <p:cNvPicPr/>
          <p:nvPr/>
        </p:nvPicPr>
        <p:blipFill>
          <a:blip r:embed="rId3"/>
          <a:stretch/>
        </p:blipFill>
        <p:spPr>
          <a:xfrm>
            <a:off x="2214720" y="0"/>
            <a:ext cx="48574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857240" y="464328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29000" y="464328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e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8" descr="QQ截图20150324095901.png"/>
          <p:cNvPicPr/>
          <p:nvPr/>
        </p:nvPicPr>
        <p:blipFill>
          <a:blip r:embed="rId2"/>
          <a:stretch/>
        </p:blipFill>
        <p:spPr>
          <a:xfrm>
            <a:off x="2500200" y="121428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857240" y="5143680"/>
            <a:ext cx="6215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3286080" y="507204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 fron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5" descr="QQ截图20150324095910.png"/>
          <p:cNvPicPr/>
          <p:nvPr/>
        </p:nvPicPr>
        <p:blipFill>
          <a:blip r:embed="rId2"/>
          <a:stretch/>
        </p:blipFill>
        <p:spPr>
          <a:xfrm>
            <a:off x="2571840" y="1000080"/>
            <a:ext cx="4500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000160" y="492912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3500280" y="4857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5" descr="QQ截图20150324095917.png"/>
          <p:cNvPicPr/>
          <p:nvPr/>
        </p:nvPicPr>
        <p:blipFill>
          <a:blip r:embed="rId2"/>
          <a:stretch/>
        </p:blipFill>
        <p:spPr>
          <a:xfrm>
            <a:off x="2500200" y="1071720"/>
            <a:ext cx="3929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582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Where is Danny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286000" y="514368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He is </a:t>
            </a:r>
            <a:r>
              <a:rPr b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bo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714840" y="507204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5" descr="QQ截图20150324095923.png"/>
          <p:cNvPicPr/>
          <p:nvPr/>
        </p:nvPicPr>
        <p:blipFill>
          <a:blip r:embed="rId2"/>
          <a:stretch/>
        </p:blipFill>
        <p:spPr>
          <a:xfrm>
            <a:off x="2643120" y="928800"/>
            <a:ext cx="42148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3:26:52Z</dcterms:created>
  <dc:creator/>
  <dc:description/>
  <cp:keywords/>
  <dc:language>en-US</dc:language>
  <cp:lastModifiedBy>User</cp:lastModifiedBy>
  <dcterms:modified xsi:type="dcterms:W3CDTF">2001-12-31T18:24:13Z</dcterms:modified>
  <cp:revision>85</cp:revision>
  <dc:subject/>
  <dc:title>    Lesson 5                Where is Dann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