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8.png" ContentType="image/png"/>
  <Override PartName="/ppt/media/image5.jpeg" ContentType="image/jpeg"/>
  <Override PartName="/ppt/media/image10.jpeg" ContentType="image/jpe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125999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c5129"/>
                </a:solidFill>
                <a:latin typeface="Tempus Sans ITC"/>
              </a:rPr>
              <a:t>Click to move the slide</a:t>
            </a:r>
            <a:endParaRPr b="0" lang="en-US" sz="3200" spc="-1" strike="noStrike">
              <a:solidFill>
                <a:srgbClr val="ac5129"/>
              </a:solidFill>
              <a:latin typeface="Tempus Sans IT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dt" idx="16"/>
          </p:nvPr>
        </p:nvSpPr>
        <p:spPr>
          <a:xfrm>
            <a:off x="3882960" y="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7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8"/>
          </p:nvPr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F93C-C9E2-4742-9C22-7CE7DE3A5C6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593640" y="1141560"/>
            <a:ext cx="5667480" cy="30859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9A5C-3D6B-4FCE-B815-9B095EB972A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2F56-D120-4823-8F1E-67763DBC6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1200" y="371160"/>
            <a:ext cx="1056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c5129"/>
              </a:solidFill>
              <a:latin typeface="Tempus Sans IT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81200" y="1149480"/>
            <a:ext cx="110361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81200" y="3869640"/>
            <a:ext cx="110361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F241-E475-449F-8B65-F061D324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81200" y="371160"/>
            <a:ext cx="1056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c5129"/>
              </a:solidFill>
              <a:latin typeface="Tempus Sans IT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81200" y="1149480"/>
            <a:ext cx="538560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36440" y="1149480"/>
            <a:ext cx="538560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81200" y="3869640"/>
            <a:ext cx="538560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436440" y="3869640"/>
            <a:ext cx="538560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B634-BC40-4599-B115-7204F9E22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81200" y="371160"/>
            <a:ext cx="1056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c5129"/>
              </a:solidFill>
              <a:latin typeface="Tempus Sans IT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81200" y="1149480"/>
            <a:ext cx="35535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12960" y="1149480"/>
            <a:ext cx="35535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244360" y="1149480"/>
            <a:ext cx="35535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81200" y="3869640"/>
            <a:ext cx="35535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12960" y="3869640"/>
            <a:ext cx="35535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244360" y="3869640"/>
            <a:ext cx="35535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FC44-CE86-4ADA-A3EA-B144B5953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8CEA5-1703-4D0B-95E7-A2B4734C4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1200" y="371160"/>
            <a:ext cx="1056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c5129"/>
              </a:solidFill>
              <a:latin typeface="Tempus Sans IT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81200" y="1149480"/>
            <a:ext cx="11036160" cy="52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E96A3-F370-479F-88CB-492B8AA6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1200" y="371160"/>
            <a:ext cx="1056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c5129"/>
              </a:solidFill>
              <a:latin typeface="Tempus Sans IT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81200" y="1149480"/>
            <a:ext cx="110361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7AAB-BBBD-49E6-A69C-1C2C49CD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81200" y="371160"/>
            <a:ext cx="1056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c5129"/>
              </a:solidFill>
              <a:latin typeface="Tempus Sans IT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81200" y="1149480"/>
            <a:ext cx="538560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436440" y="1149480"/>
            <a:ext cx="538560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097AB-AF0B-4CE2-BAB2-1AA747BE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1200" y="371160"/>
            <a:ext cx="1056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c5129"/>
              </a:solidFill>
              <a:latin typeface="Tempus Sans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23B9-AA34-4430-AC3A-7D9760E9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81200" y="371160"/>
            <a:ext cx="1056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0CEC-EE90-4C2A-8672-349C5C01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81200" y="371160"/>
            <a:ext cx="1056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c5129"/>
              </a:solidFill>
              <a:latin typeface="Tempus Sans IT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81200" y="1149480"/>
            <a:ext cx="538560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436440" y="1149480"/>
            <a:ext cx="538560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81200" y="3869640"/>
            <a:ext cx="538560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1DCF-D472-435C-A208-8135248C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81200" y="371160"/>
            <a:ext cx="1056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c5129"/>
              </a:solidFill>
              <a:latin typeface="Tempus Sans IT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81200" y="1149480"/>
            <a:ext cx="11036160" cy="52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55AE-0BD9-40F0-B80C-0171D77F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81200" y="371160"/>
            <a:ext cx="1056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c5129"/>
              </a:solidFill>
              <a:latin typeface="Tempus Sans IT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81200" y="1149480"/>
            <a:ext cx="538560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436440" y="1149480"/>
            <a:ext cx="538560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36440" y="3869640"/>
            <a:ext cx="538560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23F5-9C2E-4682-8395-50CF837B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81200" y="371160"/>
            <a:ext cx="1056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c5129"/>
              </a:solidFill>
              <a:latin typeface="Tempus Sans IT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81200" y="1149480"/>
            <a:ext cx="538560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436440" y="1149480"/>
            <a:ext cx="538560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81200" y="3869640"/>
            <a:ext cx="110361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85254-8BA2-4B2C-ACE0-2817A9E2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81200" y="371160"/>
            <a:ext cx="1056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c5129"/>
              </a:solidFill>
              <a:latin typeface="Tempus Sans IT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81200" y="1149480"/>
            <a:ext cx="110361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81200" y="3869640"/>
            <a:ext cx="110361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E2DA-8FC1-4ABE-BC12-F1CCD658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81200" y="371160"/>
            <a:ext cx="1056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c5129"/>
              </a:solidFill>
              <a:latin typeface="Tempus Sans IT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81200" y="1149480"/>
            <a:ext cx="538560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436440" y="1149480"/>
            <a:ext cx="538560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81200" y="3869640"/>
            <a:ext cx="538560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436440" y="3869640"/>
            <a:ext cx="538560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1348-AD96-484E-8E46-EEAD87840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81200" y="371160"/>
            <a:ext cx="1056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c5129"/>
              </a:solidFill>
              <a:latin typeface="Tempus Sans IT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81200" y="1149480"/>
            <a:ext cx="35535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12960" y="1149480"/>
            <a:ext cx="35535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244360" y="1149480"/>
            <a:ext cx="35535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81200" y="3869640"/>
            <a:ext cx="35535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512960" y="3869640"/>
            <a:ext cx="35535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244360" y="3869640"/>
            <a:ext cx="35535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E633-70EE-4336-A23F-4581F27F7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B1887-86E0-4FDE-8676-841FDE3B7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81200" y="371160"/>
            <a:ext cx="1056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c5129"/>
              </a:solidFill>
              <a:latin typeface="Tempus Sans IT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81200" y="1149480"/>
            <a:ext cx="11036160" cy="52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B2C88-490E-4A6E-8C1F-EAB24204F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81200" y="371160"/>
            <a:ext cx="1056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c5129"/>
              </a:solidFill>
              <a:latin typeface="Tempus Sans IT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81200" y="1149480"/>
            <a:ext cx="110361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24D1F-4B16-470E-9206-272CE6BCE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81200" y="371160"/>
            <a:ext cx="1056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c5129"/>
              </a:solidFill>
              <a:latin typeface="Tempus Sans IT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81200" y="1149480"/>
            <a:ext cx="538560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436440" y="1149480"/>
            <a:ext cx="538560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EC106-FB1B-4A97-BB8C-19C00D0D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81200" y="371160"/>
            <a:ext cx="1056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c5129"/>
              </a:solidFill>
              <a:latin typeface="Tempus Sans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E5AB6-B416-4F7A-988C-6067EED3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81200" y="371160"/>
            <a:ext cx="1056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c5129"/>
              </a:solidFill>
              <a:latin typeface="Tempus Sans IT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81200" y="1149480"/>
            <a:ext cx="110361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F896-E196-4830-A709-D21ACEEC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81200" y="371160"/>
            <a:ext cx="1056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392A7-FEC0-489A-BC01-F4CC21C6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81200" y="371160"/>
            <a:ext cx="1056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c5129"/>
              </a:solidFill>
              <a:latin typeface="Tempus Sans IT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81200" y="1149480"/>
            <a:ext cx="538560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436440" y="1149480"/>
            <a:ext cx="538560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81200" y="3869640"/>
            <a:ext cx="538560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2D144-A8D8-4287-9B3E-891EBC8E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81200" y="371160"/>
            <a:ext cx="1056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c5129"/>
              </a:solidFill>
              <a:latin typeface="Tempus Sans IT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81200" y="1149480"/>
            <a:ext cx="538560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436440" y="1149480"/>
            <a:ext cx="538560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436440" y="3869640"/>
            <a:ext cx="538560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08B33-3392-446E-8755-884B8A94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81200" y="371160"/>
            <a:ext cx="1056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c5129"/>
              </a:solidFill>
              <a:latin typeface="Tempus Sans IT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81200" y="1149480"/>
            <a:ext cx="538560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436440" y="1149480"/>
            <a:ext cx="538560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81200" y="3869640"/>
            <a:ext cx="110361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F89C7-2634-46DD-AC2A-22F132C1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81200" y="371160"/>
            <a:ext cx="1056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c5129"/>
              </a:solidFill>
              <a:latin typeface="Tempus Sans IT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81200" y="1149480"/>
            <a:ext cx="110361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81200" y="3869640"/>
            <a:ext cx="110361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1EC19-C707-4BE6-8FC1-E93A2C11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81200" y="371160"/>
            <a:ext cx="1056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c5129"/>
              </a:solidFill>
              <a:latin typeface="Tempus Sans IT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81200" y="1149480"/>
            <a:ext cx="538560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436440" y="1149480"/>
            <a:ext cx="538560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81200" y="3869640"/>
            <a:ext cx="538560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436440" y="3869640"/>
            <a:ext cx="538560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94404-1ADA-4B91-855C-DF210B685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81200" y="371160"/>
            <a:ext cx="1056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c5129"/>
              </a:solidFill>
              <a:latin typeface="Tempus Sans IT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81200" y="1149480"/>
            <a:ext cx="35535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12960" y="1149480"/>
            <a:ext cx="35535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44360" y="1149480"/>
            <a:ext cx="35535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81200" y="3869640"/>
            <a:ext cx="35535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512960" y="3869640"/>
            <a:ext cx="35535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8244360" y="3869640"/>
            <a:ext cx="35535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2EF89-8250-4817-A32F-FE26D3260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41F52-E10C-41F0-9405-7C31912D7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81200" y="371160"/>
            <a:ext cx="1056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c5129"/>
              </a:solidFill>
              <a:latin typeface="Tempus Sans IT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81200" y="1149480"/>
            <a:ext cx="11036160" cy="52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95460-806B-4B34-B352-C57EC1DE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81200" y="371160"/>
            <a:ext cx="1056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c5129"/>
              </a:solidFill>
              <a:latin typeface="Tempus Sans IT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81200" y="1149480"/>
            <a:ext cx="110361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AB512-7D06-4655-8BF4-6A67DBDC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1200" y="371160"/>
            <a:ext cx="1056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c5129"/>
              </a:solidFill>
              <a:latin typeface="Tempus Sans IT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81200" y="1149480"/>
            <a:ext cx="538560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36440" y="1149480"/>
            <a:ext cx="538560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A3BF-3FEC-444B-BF53-524AA1EF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81200" y="371160"/>
            <a:ext cx="1056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c5129"/>
              </a:solidFill>
              <a:latin typeface="Tempus Sans IT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81200" y="1149480"/>
            <a:ext cx="538560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436440" y="1149480"/>
            <a:ext cx="538560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FC288-99C9-48EC-872D-9A367D51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81200" y="371160"/>
            <a:ext cx="1056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c5129"/>
              </a:solidFill>
              <a:latin typeface="Tempus Sans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F4A5E-0D88-4C4C-93F6-179FD55E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781200" y="371160"/>
            <a:ext cx="1056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FAFA2-9C32-46E9-8555-774B39DE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81200" y="371160"/>
            <a:ext cx="1056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c5129"/>
              </a:solidFill>
              <a:latin typeface="Tempus Sans IT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81200" y="1149480"/>
            <a:ext cx="538560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436440" y="1149480"/>
            <a:ext cx="538560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81200" y="3869640"/>
            <a:ext cx="538560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4CDD9-555C-4BAF-B382-36384704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81200" y="371160"/>
            <a:ext cx="1056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c5129"/>
              </a:solidFill>
              <a:latin typeface="Tempus Sans IT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81200" y="1149480"/>
            <a:ext cx="538560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436440" y="1149480"/>
            <a:ext cx="538560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436440" y="3869640"/>
            <a:ext cx="538560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E52D8-35BE-42EF-A55E-6114115E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81200" y="371160"/>
            <a:ext cx="1056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c5129"/>
              </a:solidFill>
              <a:latin typeface="Tempus Sans IT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81200" y="1149480"/>
            <a:ext cx="538560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436440" y="1149480"/>
            <a:ext cx="538560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81200" y="3869640"/>
            <a:ext cx="110361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F103E-FFF4-45EA-94CE-E09E9795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81200" y="371160"/>
            <a:ext cx="1056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c5129"/>
              </a:solidFill>
              <a:latin typeface="Tempus Sans IT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81200" y="1149480"/>
            <a:ext cx="110361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781200" y="3869640"/>
            <a:ext cx="110361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7D9FA-91B1-495B-B6C5-DFEC5EF8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81200" y="371160"/>
            <a:ext cx="1056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c5129"/>
              </a:solidFill>
              <a:latin typeface="Tempus Sans IT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81200" y="1149480"/>
            <a:ext cx="538560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436440" y="1149480"/>
            <a:ext cx="538560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81200" y="3869640"/>
            <a:ext cx="538560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436440" y="3869640"/>
            <a:ext cx="538560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1171E-6C4B-4821-BA0F-3E1D1907B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81200" y="371160"/>
            <a:ext cx="1056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c5129"/>
              </a:solidFill>
              <a:latin typeface="Tempus Sans IT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81200" y="1149480"/>
            <a:ext cx="35535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12960" y="1149480"/>
            <a:ext cx="35535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44360" y="1149480"/>
            <a:ext cx="35535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781200" y="3869640"/>
            <a:ext cx="35535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4512960" y="3869640"/>
            <a:ext cx="35535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8244360" y="3869640"/>
            <a:ext cx="35535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2182B-F3A4-4865-B21F-3016EA886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EE905-05FC-4D28-BCCE-88007BF80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81200" y="371160"/>
            <a:ext cx="1056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c5129"/>
              </a:solidFill>
              <a:latin typeface="Tempus Sans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544C-7787-4801-85C8-B3B4485D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81200" y="371160"/>
            <a:ext cx="1056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c5129"/>
              </a:solidFill>
              <a:latin typeface="Tempus Sans IT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781200" y="1149480"/>
            <a:ext cx="11036160" cy="52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1D214-4CC8-43E8-9D38-2281E845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81200" y="371160"/>
            <a:ext cx="1056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c5129"/>
              </a:solidFill>
              <a:latin typeface="Tempus Sans IT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81200" y="1149480"/>
            <a:ext cx="110361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EEC00-1008-4269-8019-AE355512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81200" y="371160"/>
            <a:ext cx="1056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c5129"/>
              </a:solidFill>
              <a:latin typeface="Tempus Sans IT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81200" y="1149480"/>
            <a:ext cx="538560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436440" y="1149480"/>
            <a:ext cx="538560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B8E93-5D82-4DDA-8BA6-7FF0AD18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81200" y="371160"/>
            <a:ext cx="1056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c5129"/>
              </a:solidFill>
              <a:latin typeface="Tempus Sans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3BF5B-2FB7-486B-A2E0-589BD00E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781200" y="371160"/>
            <a:ext cx="1056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57334-6F1C-4419-9E06-A32672E1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81200" y="371160"/>
            <a:ext cx="1056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c5129"/>
              </a:solidFill>
              <a:latin typeface="Tempus Sans IT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81200" y="1149480"/>
            <a:ext cx="538560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436440" y="1149480"/>
            <a:ext cx="538560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781200" y="3869640"/>
            <a:ext cx="538560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1305B-B136-423A-B02A-2439ED79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81200" y="371160"/>
            <a:ext cx="1056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c5129"/>
              </a:solidFill>
              <a:latin typeface="Tempus Sans IT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81200" y="1149480"/>
            <a:ext cx="538560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436440" y="1149480"/>
            <a:ext cx="538560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436440" y="3869640"/>
            <a:ext cx="538560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8AAA8-F39D-40D8-8B48-CFB8A5AC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81200" y="371160"/>
            <a:ext cx="1056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c5129"/>
              </a:solidFill>
              <a:latin typeface="Tempus Sans IT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81200" y="1149480"/>
            <a:ext cx="538560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436440" y="1149480"/>
            <a:ext cx="538560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81200" y="3869640"/>
            <a:ext cx="110361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66D66-E203-46D4-8D27-0D8FEA50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81200" y="371160"/>
            <a:ext cx="1056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c5129"/>
              </a:solidFill>
              <a:latin typeface="Tempus Sans IT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81200" y="1149480"/>
            <a:ext cx="110361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781200" y="3869640"/>
            <a:ext cx="110361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D89D1-391C-406A-A836-02970AAA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81200" y="371160"/>
            <a:ext cx="1056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c5129"/>
              </a:solidFill>
              <a:latin typeface="Tempus Sans IT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1200" y="1149480"/>
            <a:ext cx="538560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436440" y="1149480"/>
            <a:ext cx="538560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81200" y="3869640"/>
            <a:ext cx="538560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436440" y="3869640"/>
            <a:ext cx="538560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FF127-8405-4822-A99C-1D81A1CC1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81200" y="371160"/>
            <a:ext cx="1056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649E-C871-4F9C-A0A1-FAFFF369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81200" y="371160"/>
            <a:ext cx="1056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c5129"/>
              </a:solidFill>
              <a:latin typeface="Tempus Sans IT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81200" y="1149480"/>
            <a:ext cx="35535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12960" y="1149480"/>
            <a:ext cx="35535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244360" y="1149480"/>
            <a:ext cx="35535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781200" y="3869640"/>
            <a:ext cx="35535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4512960" y="3869640"/>
            <a:ext cx="35535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8244360" y="3869640"/>
            <a:ext cx="35535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B7F41-0BBC-4B0C-805F-CF1A69FB5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81200" y="371160"/>
            <a:ext cx="1056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c5129"/>
              </a:solidFill>
              <a:latin typeface="Tempus Sans IT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81200" y="1149480"/>
            <a:ext cx="538560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436440" y="1149480"/>
            <a:ext cx="538560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81200" y="3869640"/>
            <a:ext cx="538560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6407-5C49-45E4-BC3E-D9169823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81200" y="371160"/>
            <a:ext cx="1056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c5129"/>
              </a:solidFill>
              <a:latin typeface="Tempus Sans IT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81200" y="1149480"/>
            <a:ext cx="538560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436440" y="1149480"/>
            <a:ext cx="538560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36440" y="3869640"/>
            <a:ext cx="538560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5C08-BE15-4E5F-A1C5-FCCA3610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81200" y="371160"/>
            <a:ext cx="1056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c5129"/>
              </a:solidFill>
              <a:latin typeface="Tempus Sans IT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81200" y="1149480"/>
            <a:ext cx="538560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36440" y="1149480"/>
            <a:ext cx="538560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81200" y="3869640"/>
            <a:ext cx="11036160" cy="248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20A2-9839-47F2-AA1F-E281A756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0360" y="274320"/>
            <a:ext cx="1133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0360" y="1600200"/>
            <a:ext cx="1133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360" y="6244920"/>
            <a:ext cx="2939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05240" y="6244920"/>
            <a:ext cx="398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029880" y="6244920"/>
            <a:ext cx="2939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DBE6-C888-464C-8D0C-3FAAE15F4D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3" descr=""/>
          <p:cNvPicPr/>
          <p:nvPr/>
        </p:nvPicPr>
        <p:blipFill>
          <a:blip r:embed="rId2"/>
          <a:srcRect l="36393" t="26198" r="2907" b="18492"/>
          <a:stretch/>
        </p:blipFill>
        <p:spPr>
          <a:xfrm>
            <a:off x="-39600" y="-28440"/>
            <a:ext cx="12636360" cy="6886440"/>
          </a:xfrm>
          <a:prstGeom prst="rect">
            <a:avLst/>
          </a:prstGeom>
          <a:ln w="0">
            <a:noFill/>
          </a:ln>
        </p:spPr>
      </p:pic>
      <p:sp>
        <p:nvSpPr>
          <p:cNvPr id="42" name="矩形 34"/>
          <p:cNvSpPr/>
          <p:nvPr/>
        </p:nvSpPr>
        <p:spPr>
          <a:xfrm>
            <a:off x="-39600" y="-28440"/>
            <a:ext cx="12636360" cy="6886440"/>
          </a:xfrm>
          <a:prstGeom prst="rect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866520" y="6356520"/>
            <a:ext cx="28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4173480" y="6356520"/>
            <a:ext cx="4253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8897760" y="6356520"/>
            <a:ext cx="2835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9F58-89C3-4DA8-AF94-F4E70DD15B68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866880" y="1054080"/>
            <a:ext cx="1113624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c050bb"/>
              </a:buClr>
              <a:buSzPct val="8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bb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c050bb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ff81e6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bb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c050bb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bb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c050bb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bb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c050bb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bb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c050bb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bb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c050bb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bb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c050bb"/>
              </a:solidFill>
              <a:latin typeface="幼圆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title"/>
          </p:nvPr>
        </p:nvSpPr>
        <p:spPr>
          <a:xfrm>
            <a:off x="866880" y="398520"/>
            <a:ext cx="1113624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bb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c050bb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33" descr=""/>
          <p:cNvPicPr/>
          <p:nvPr/>
        </p:nvPicPr>
        <p:blipFill>
          <a:blip r:embed="rId2"/>
          <a:srcRect l="36393" t="26198" r="2907" b="18492"/>
          <a:stretch/>
        </p:blipFill>
        <p:spPr>
          <a:xfrm>
            <a:off x="-39600" y="-28440"/>
            <a:ext cx="12636360" cy="6886440"/>
          </a:xfrm>
          <a:prstGeom prst="rect">
            <a:avLst/>
          </a:prstGeom>
          <a:ln w="0">
            <a:noFill/>
          </a:ln>
        </p:spPr>
      </p:pic>
      <p:sp>
        <p:nvSpPr>
          <p:cNvPr id="85" name="矩形 34"/>
          <p:cNvSpPr/>
          <p:nvPr/>
        </p:nvSpPr>
        <p:spPr>
          <a:xfrm>
            <a:off x="-39600" y="-28440"/>
            <a:ext cx="12636360" cy="6886440"/>
          </a:xfrm>
          <a:prstGeom prst="rect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dt" idx="7"/>
          </p:nvPr>
        </p:nvSpPr>
        <p:spPr>
          <a:xfrm>
            <a:off x="630360" y="6244920"/>
            <a:ext cx="2939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8"/>
          </p:nvPr>
        </p:nvSpPr>
        <p:spPr>
          <a:xfrm>
            <a:off x="4305240" y="6244920"/>
            <a:ext cx="398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9"/>
          </p:nvPr>
        </p:nvSpPr>
        <p:spPr>
          <a:xfrm>
            <a:off x="9029880" y="6244920"/>
            <a:ext cx="2939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2FA2-772F-417F-B181-EFFC49255589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图片 10" descr=""/>
          <p:cNvPicPr/>
          <p:nvPr/>
        </p:nvPicPr>
        <p:blipFill>
          <a:blip r:embed="rId3"/>
          <a:srcRect l="-7690" t="1252" r="19794" b="4959"/>
          <a:stretch/>
        </p:blipFill>
        <p:spPr>
          <a:xfrm>
            <a:off x="2048040" y="125280"/>
            <a:ext cx="10551960" cy="67327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4"/>
          <p:cNvSpPr>
            <a:spLocks noGrp="1"/>
          </p:cNvSpPr>
          <p:nvPr>
            <p:ph type="title"/>
          </p:nvPr>
        </p:nvSpPr>
        <p:spPr>
          <a:xfrm>
            <a:off x="1168560" y="3711600"/>
            <a:ext cx="864864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bb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c050bb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12600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矩形 6"/>
          <p:cNvSpPr/>
          <p:nvPr/>
        </p:nvSpPr>
        <p:spPr>
          <a:xfrm>
            <a:off x="0" y="0"/>
            <a:ext cx="12600000" cy="68580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781200" y="1149480"/>
            <a:ext cx="1103616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1800"/>
              </a:spcBef>
              <a:buClr>
                <a:srgbClr val="d47348"/>
              </a:buClr>
              <a:buSzPct val="80000"/>
              <a:buFont typeface="Web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b7f27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  <a:p>
            <a:pPr lvl="1" marL="357120" indent="-357120">
              <a:lnSpc>
                <a:spcPct val="90000"/>
              </a:lnSpc>
              <a:spcBef>
                <a:spcPts val="1800"/>
              </a:spcBef>
              <a:buClr>
                <a:srgbClr val="5f5f5f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b7f27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b7f27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b7f27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b7f27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5f5f5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b7f27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5f5f5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b7f27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866520" y="6356520"/>
            <a:ext cx="283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6a6a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11"/>
          </p:nvPr>
        </p:nvSpPr>
        <p:spPr>
          <a:xfrm>
            <a:off x="4173480" y="6356520"/>
            <a:ext cx="4253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12"/>
          </p:nvPr>
        </p:nvSpPr>
        <p:spPr>
          <a:xfrm>
            <a:off x="8897760" y="6356520"/>
            <a:ext cx="2835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DD39-08DE-48E5-8115-A3E95ED66712}" type="slidenum">
              <a:rPr b="0" lang="zh-CN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title"/>
          </p:nvPr>
        </p:nvSpPr>
        <p:spPr>
          <a:xfrm>
            <a:off x="781200" y="371160"/>
            <a:ext cx="1056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c5129"/>
                </a:solidFill>
                <a:latin typeface="Tempus Sans ITC"/>
              </a:rPr>
              <a:t>Click to edit the title text format</a:t>
            </a:r>
            <a:endParaRPr b="0" lang="en-US" sz="3200" spc="-1" strike="noStrike">
              <a:solidFill>
                <a:srgbClr val="ac5129"/>
              </a:solidFill>
              <a:latin typeface="Tempus Sans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12600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dt" idx="13"/>
          </p:nvPr>
        </p:nvSpPr>
        <p:spPr>
          <a:xfrm>
            <a:off x="630360" y="6244920"/>
            <a:ext cx="2939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6a6a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ftr" idx="14"/>
          </p:nvPr>
        </p:nvSpPr>
        <p:spPr>
          <a:xfrm>
            <a:off x="4305240" y="6244920"/>
            <a:ext cx="398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15"/>
          </p:nvPr>
        </p:nvSpPr>
        <p:spPr>
          <a:xfrm>
            <a:off x="9029880" y="6244920"/>
            <a:ext cx="2939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E3E7-9DCA-4803-A98B-5D9B946688F2}" type="slidenum">
              <a:rPr b="0" lang="zh-CN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title"/>
          </p:nvPr>
        </p:nvSpPr>
        <p:spPr>
          <a:xfrm>
            <a:off x="746280" y="473040"/>
            <a:ext cx="802296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c5129"/>
                </a:solidFill>
                <a:latin typeface="Tempus Sans ITC"/>
              </a:rPr>
              <a:t>Click to edit the title text format</a:t>
            </a:r>
            <a:endParaRPr b="0" lang="en-US" sz="3200" spc="-1" strike="noStrike">
              <a:solidFill>
                <a:srgbClr val="ac5129"/>
              </a:solidFill>
              <a:latin typeface="Tempus Sans IT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630000" y="1604520"/>
            <a:ext cx="11339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b7f27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ab7f27"/>
              </a:solidFill>
              <a:latin typeface="Calibri"/>
            </a:endParaRPr>
          </a:p>
          <a:p>
            <a:pPr lvl="1" indent="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5f5f5f"/>
              </a:solidFill>
              <a:latin typeface="Calibri"/>
            </a:endParaRPr>
          </a:p>
          <a:p>
            <a:pPr lvl="2" marL="914400" algn="ctr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Calibri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Calibri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Calibri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5f5f5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5f5f5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40000" y="981000"/>
            <a:ext cx="91281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c5129"/>
                </a:solidFill>
                <a:latin typeface="Tempus Sans ITC"/>
              </a:rPr>
              <a:t>UNIT 2  Days and Months</a:t>
            </a:r>
            <a:endParaRPr b="0" lang="en-US" sz="3600" spc="-1" strike="noStrike">
              <a:solidFill>
                <a:srgbClr val="ac5129"/>
              </a:solidFill>
              <a:latin typeface="Tempus Sans IT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2233440" y="2925360"/>
            <a:ext cx="416736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1c"/>
                </a:solidFill>
                <a:latin typeface="Calibri"/>
              </a:rPr>
              <a:t>Lessons  7</a:t>
            </a:r>
            <a:r>
              <a:rPr b="1" lang="zh-CN" sz="2400" spc="-1" strike="noStrike">
                <a:solidFill>
                  <a:srgbClr val="66001c"/>
                </a:solidFill>
                <a:latin typeface="Calibri"/>
              </a:rPr>
              <a:t>～</a:t>
            </a:r>
            <a:r>
              <a:rPr b="1" lang="zh-CN" sz="2400" spc="-1" strike="noStrike">
                <a:solidFill>
                  <a:srgbClr val="66001c"/>
                </a:solidFill>
                <a:latin typeface="Calibri"/>
              </a:rPr>
              <a:t>12</a:t>
            </a:r>
            <a:endParaRPr b="0" lang="en-US" sz="2400" spc="-1" strike="noStrike">
              <a:solidFill>
                <a:srgbClr val="ab7f27"/>
              </a:solidFill>
              <a:latin typeface="Calibri"/>
            </a:endParaRPr>
          </a:p>
        </p:txBody>
      </p:sp>
      <p:sp>
        <p:nvSpPr>
          <p:cNvPr id="221" name=""/>
          <p:cNvSpPr/>
          <p:nvPr/>
        </p:nvSpPr>
        <p:spPr>
          <a:xfrm>
            <a:off x="4720320" y="19177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f1010"/>
                </a:solidFill>
                <a:latin typeface="Arial"/>
              </a:rPr>
              <a:t>日和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矩形 4"/>
          <p:cNvSpPr/>
          <p:nvPr/>
        </p:nvSpPr>
        <p:spPr>
          <a:xfrm>
            <a:off x="179280" y="260280"/>
            <a:ext cx="12169800" cy="6481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任意多边形 14"/>
          <p:cNvSpPr/>
          <p:nvPr/>
        </p:nvSpPr>
        <p:spPr>
          <a:xfrm rot="9523800">
            <a:off x="5540400" y="991800"/>
            <a:ext cx="1596960" cy="1816200"/>
          </a:xfrm>
          <a:custGeom>
            <a:avLst/>
            <a:gdLst/>
            <a:ahLst/>
            <a:rect l="l" t="t" r="r" b="b"/>
            <a:pathLst>
              <a:path w="1597245" h="1816360">
                <a:moveTo>
                  <a:pt x="509269" y="1761714"/>
                </a:moveTo>
                <a:cubicBezTo>
                  <a:pt x="98297" y="1601750"/>
                  <a:pt x="-105314" y="1139246"/>
                  <a:pt x="54492" y="728682"/>
                </a:cubicBezTo>
                <a:cubicBezTo>
                  <a:pt x="194321" y="369439"/>
                  <a:pt x="566059" y="168996"/>
                  <a:pt x="932129" y="231662"/>
                </a:cubicBezTo>
                <a:lnTo>
                  <a:pt x="1031088" y="259138"/>
                </a:lnTo>
                <a:lnTo>
                  <a:pt x="1086534" y="0"/>
                </a:lnTo>
                <a:lnTo>
                  <a:pt x="1219736" y="342121"/>
                </a:lnTo>
                <a:lnTo>
                  <a:pt x="1232066" y="348408"/>
                </a:lnTo>
                <a:cubicBezTo>
                  <a:pt x="1544173" y="549712"/>
                  <a:pt x="1682583" y="948722"/>
                  <a:pt x="1542753" y="1307965"/>
                </a:cubicBezTo>
                <a:cubicBezTo>
                  <a:pt x="1382948" y="1718528"/>
                  <a:pt x="920242" y="1921679"/>
                  <a:pt x="509269" y="17617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9"/>
          <p:cNvSpPr/>
          <p:nvPr/>
        </p:nvSpPr>
        <p:spPr>
          <a:xfrm>
            <a:off x="1260360" y="3286080"/>
            <a:ext cx="528984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4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1c"/>
                </a:solidFill>
                <a:latin typeface="Broadway"/>
                <a:ea typeface="微软雅黑"/>
              </a:rPr>
              <a:t>THANKS TO LISTE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直接连接符 12"/>
          <p:cNvSpPr/>
          <p:nvPr/>
        </p:nvSpPr>
        <p:spPr>
          <a:xfrm>
            <a:off x="3863880" y="3676680"/>
            <a:ext cx="4896000" cy="0"/>
          </a:xfrm>
          <a:prstGeom prst="line">
            <a:avLst/>
          </a:prstGeom>
          <a:ln w="64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椭圆 18"/>
          <p:cNvSpPr/>
          <p:nvPr/>
        </p:nvSpPr>
        <p:spPr>
          <a:xfrm>
            <a:off x="5797440" y="5105520"/>
            <a:ext cx="117720" cy="1159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椭圆 19"/>
          <p:cNvSpPr/>
          <p:nvPr/>
        </p:nvSpPr>
        <p:spPr>
          <a:xfrm>
            <a:off x="6093000" y="5105520"/>
            <a:ext cx="117360" cy="1159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椭圆 20"/>
          <p:cNvSpPr/>
          <p:nvPr/>
        </p:nvSpPr>
        <p:spPr>
          <a:xfrm>
            <a:off x="6391440" y="5105520"/>
            <a:ext cx="114120" cy="1159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椭圆 22"/>
          <p:cNvSpPr/>
          <p:nvPr/>
        </p:nvSpPr>
        <p:spPr>
          <a:xfrm>
            <a:off x="6686640" y="5105520"/>
            <a:ext cx="117360" cy="1159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椭圆 13"/>
          <p:cNvSpPr/>
          <p:nvPr/>
        </p:nvSpPr>
        <p:spPr>
          <a:xfrm>
            <a:off x="5587920" y="1079640"/>
            <a:ext cx="1422360" cy="14223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8317080" y="1917720"/>
            <a:ext cx="273672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0" dur="250" autoRev="1" fill="hold"/>
                                        <p:tgtEl>
                                          <p:spTgt spid="2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46120" y="836640"/>
            <a:ext cx="2778120" cy="31687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427640" y="838080"/>
            <a:ext cx="3074760" cy="32403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8677440" y="838080"/>
            <a:ext cx="2876400" cy="33847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51640" y="189000"/>
            <a:ext cx="33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f1010"/>
                </a:solidFill>
                <a:latin typeface="Arial"/>
              </a:rPr>
              <a:t>Months of the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06920" y="4510080"/>
            <a:ext cx="404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f1010"/>
                </a:solidFill>
                <a:latin typeface="Arial"/>
              </a:rPr>
              <a:t>January  February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357800" y="458136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f1010"/>
                </a:solidFill>
                <a:latin typeface="Arial"/>
              </a:rPr>
              <a:t>March    Apr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893080" y="4653000"/>
            <a:ext cx="23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f1010"/>
                </a:solidFill>
                <a:latin typeface="Arial"/>
              </a:rPr>
              <a:t>May   Ju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265960" y="237816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055000" y="43488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0480" y="535140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f1010"/>
                </a:solidFill>
                <a:latin typeface="Arial"/>
              </a:rPr>
              <a:t>Jan.         Fe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05800" y="5464080"/>
            <a:ext cx="216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f1010"/>
                </a:solidFill>
                <a:latin typeface="Arial"/>
              </a:rPr>
              <a:t>Mar.   Ap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839080" y="5526000"/>
            <a:ext cx="203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f1010"/>
                </a:solidFill>
                <a:latin typeface="Arial"/>
              </a:rPr>
              <a:t>May  J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2887920" cy="30956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rcRect l="8305" t="11073" r="8305" b="11073"/>
          <a:stretch/>
        </p:blipFill>
        <p:spPr>
          <a:xfrm>
            <a:off x="4071960" y="550800"/>
            <a:ext cx="3886200" cy="31672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rcRect l="9844" t="14766" r="9844" b="7383"/>
          <a:stretch/>
        </p:blipFill>
        <p:spPr>
          <a:xfrm>
            <a:off x="8605800" y="550800"/>
            <a:ext cx="3456000" cy="32385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465120" y="4365720"/>
            <a:ext cx="273204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f1010"/>
                </a:solidFill>
                <a:latin typeface="Arial"/>
              </a:rPr>
              <a:t>July   Aug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92360" y="4437000"/>
            <a:ext cx="4248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f1010"/>
                </a:solidFill>
                <a:latin typeface="Arial"/>
              </a:rPr>
              <a:t>September   Octo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885080" y="4510080"/>
            <a:ext cx="44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f1010"/>
                </a:solidFill>
                <a:latin typeface="Arial"/>
              </a:rPr>
              <a:t>November   Dec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2160" y="5373720"/>
            <a:ext cx="23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f1010"/>
                </a:solidFill>
                <a:latin typeface="Arial"/>
              </a:rPr>
              <a:t>Jul.   Au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431240" y="5518080"/>
            <a:ext cx="256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f1010"/>
                </a:solidFill>
                <a:latin typeface="Arial"/>
              </a:rPr>
              <a:t>Sept.   Oc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965800" y="5518080"/>
            <a:ext cx="25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f1010"/>
                </a:solidFill>
                <a:latin typeface="Arial"/>
              </a:rPr>
              <a:t>Nov.   De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972720" y="476280"/>
            <a:ext cx="8993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f1010"/>
                </a:solidFill>
                <a:latin typeface="Arial"/>
              </a:rPr>
              <a:t>These are the twelve months of the y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f1010"/>
                </a:solidFill>
                <a:latin typeface="Arial"/>
              </a:rPr>
              <a:t>What's your favourite mont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035880" y="134136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f1010"/>
                </a:solidFill>
                <a:latin typeface="Arial"/>
              </a:rPr>
              <a:t>这些是一年的十二个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76960" y="2997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f1010"/>
                </a:solidFill>
                <a:latin typeface="Arial"/>
              </a:rPr>
              <a:t>你最喜欢哪个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30160" y="4076640"/>
            <a:ext cx="691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f1010"/>
                </a:solidFill>
                <a:latin typeface="Arial"/>
              </a:rPr>
              <a:t>My favourite month is Janua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674440" y="49417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f1010"/>
                </a:solidFill>
                <a:latin typeface="Arial"/>
              </a:rPr>
              <a:t>我最喜欢的月是一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 rot="660000">
            <a:off x="8316720" y="907560"/>
            <a:ext cx="3470040" cy="52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507960" y="1628640"/>
            <a:ext cx="60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f1010"/>
                </a:solidFill>
                <a:latin typeface="Arial"/>
              </a:rPr>
              <a:t>Whose birthday is in July</a:t>
            </a:r>
            <a:r>
              <a:rPr b="1" lang="zh-CN" sz="3600" spc="-1" strike="noStrike">
                <a:solidFill>
                  <a:srgbClr val="0f1010"/>
                </a:solidFill>
                <a:latin typeface="Arial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71240" y="3213000"/>
            <a:ext cx="507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f1010"/>
                </a:solidFill>
                <a:latin typeface="Arial"/>
              </a:rPr>
              <a:t>My  birthday is in Ju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077840" y="3141720"/>
            <a:ext cx="15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667560" y="231444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4880" y="4797360"/>
            <a:ext cx="591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f1010"/>
                </a:solidFill>
                <a:latin typeface="Arial"/>
              </a:rPr>
              <a:t>My  birthday is in July,to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00600" y="2349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f1010"/>
                </a:solidFill>
                <a:latin typeface="Arial"/>
              </a:rPr>
              <a:t>谁的生日在七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257920" y="400536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f1010"/>
                </a:solidFill>
                <a:latin typeface="Arial"/>
              </a:rPr>
              <a:t>我的生日在七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631240" y="57340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f1010"/>
                </a:solidFill>
                <a:latin typeface="Arial"/>
              </a:rPr>
              <a:t>我的生日也在七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62600" y="333360"/>
            <a:ext cx="837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f1010"/>
                </a:solidFill>
                <a:latin typeface="Arial"/>
              </a:rPr>
              <a:t>Group work .Ask  and  answer. Then wr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345120" y="981000"/>
            <a:ext cx="271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f1010"/>
                </a:solidFill>
                <a:latin typeface="Arial"/>
              </a:rPr>
              <a:t>分组工作。    问一问，并回答。 然后写一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3708360" y="189000"/>
          <a:ext cx="8820000" cy="6313320"/>
        </p:xfrm>
        <a:graphic>
          <a:graphicData uri="http://schemas.openxmlformats.org/drawingml/2006/table">
            <a:tbl>
              <a:tblPr/>
              <a:tblGrid>
                <a:gridCol w="2940120"/>
                <a:gridCol w="2940120"/>
                <a:gridCol w="2939760"/>
              </a:tblGrid>
              <a:tr h="1996920"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b7b5">
                        <a:alpha val="50000"/>
                      </a:srgbClr>
                    </a:solidFill>
                  </a:tcPr>
                </a:tc>
              </a:tr>
              <a:tr h="227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>
                        <a:alpha val="50000"/>
                      </a:srgbClr>
                    </a:solidFill>
                  </a:tcPr>
                </a:tc>
              </a:tr>
              <a:tr h="2038320"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b7b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a44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60" name=""/>
          <p:cNvSpPr/>
          <p:nvPr/>
        </p:nvSpPr>
        <p:spPr>
          <a:xfrm>
            <a:off x="4285440" y="765000"/>
            <a:ext cx="136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f1010"/>
                </a:solidFill>
                <a:latin typeface="Arial"/>
              </a:rPr>
              <a:t>Jul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093800" y="285264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f1010"/>
                </a:solidFill>
                <a:latin typeface="Arial"/>
              </a:rPr>
              <a:t>Ap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237440" y="5013360"/>
            <a:ext cx="151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f1010"/>
                </a:solidFill>
                <a:latin typeface="Arial"/>
              </a:rPr>
              <a:t>M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840" y="692280"/>
            <a:ext cx="338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f1010"/>
                </a:solidFill>
                <a:latin typeface="Arial"/>
              </a:rPr>
              <a:t>Listen and wr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0117800" y="5013360"/>
            <a:ext cx="181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f1010"/>
                </a:solidFill>
                <a:latin typeface="Arial"/>
              </a:rPr>
              <a:t>Dec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07280" y="1773360"/>
            <a:ext cx="34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f1010"/>
                </a:solidFill>
                <a:latin typeface="Arial"/>
              </a:rPr>
              <a:t>July  ,April ,M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9440" y="3357720"/>
            <a:ext cx="313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f1010"/>
                </a:solidFill>
                <a:latin typeface="Arial"/>
              </a:rPr>
              <a:t>July </a:t>
            </a:r>
            <a:r>
              <a:rPr b="1" lang="zh-CN" sz="3600" spc="-1" strike="noStrike">
                <a:solidFill>
                  <a:srgbClr val="0f101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0f1010"/>
                </a:solidFill>
                <a:latin typeface="Arial"/>
              </a:rPr>
              <a:t>April</a:t>
            </a:r>
            <a:r>
              <a:rPr b="1" lang="zh-CN" sz="3600" spc="-1" strike="noStrike">
                <a:solidFill>
                  <a:srgbClr val="0f101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f1010"/>
                </a:solidFill>
                <a:latin typeface="Arial"/>
              </a:rPr>
              <a:t>December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479360" y="766800"/>
            <a:ext cx="151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f1010"/>
                </a:solidFill>
                <a:latin typeface="Arial"/>
              </a:rPr>
              <a:t>Oc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0046520" y="76500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f1010"/>
                </a:solidFill>
                <a:latin typeface="Arial"/>
              </a:rPr>
              <a:t>Sep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141080" y="2852640"/>
            <a:ext cx="170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f1010"/>
                </a:solidFill>
                <a:latin typeface="Arial"/>
              </a:rPr>
              <a:t>Ja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0105200" y="2797200"/>
            <a:ext cx="159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f1010"/>
                </a:solidFill>
                <a:latin typeface="Arial"/>
              </a:rPr>
              <a:t>Feb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450320" y="4923000"/>
            <a:ext cx="159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f1010"/>
                </a:solidFill>
                <a:latin typeface="Arial"/>
              </a:rPr>
              <a:t>Ma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2220000">
            <a:off x="3131640" y="3141360"/>
            <a:ext cx="102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0000"/>
                </a:solidFill>
                <a:latin typeface="Arial"/>
              </a:rPr>
              <a:t>————————————————————————————————————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1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332000" y="333360"/>
            <a:ext cx="10296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1c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66001c"/>
                </a:solidFill>
                <a:latin typeface="宋体"/>
              </a:rPr>
              <a:t>一、选出不同类的单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1c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66001c"/>
                </a:solidFill>
                <a:latin typeface="宋体"/>
              </a:rPr>
              <a:t>（      ）</a:t>
            </a:r>
            <a:r>
              <a:rPr b="1" lang="zh-CN" sz="2800" spc="-1" strike="noStrike">
                <a:solidFill>
                  <a:srgbClr val="66001c"/>
                </a:solidFill>
                <a:latin typeface="Times New Roman"/>
                <a:ea typeface="Times New Roman"/>
              </a:rPr>
              <a:t>1.  A. August          B. November       C. le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1c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66001c"/>
                </a:solidFill>
                <a:latin typeface="宋体"/>
              </a:rPr>
              <a:t>（      ）</a:t>
            </a:r>
            <a:r>
              <a:rPr b="1" lang="zh-CN" sz="2800" spc="-1" strike="noStrike">
                <a:solidFill>
                  <a:srgbClr val="66001c"/>
                </a:solidFill>
                <a:latin typeface="Times New Roman"/>
                <a:ea typeface="Times New Roman"/>
              </a:rPr>
              <a:t>2.  A. say             </a:t>
            </a:r>
            <a:r>
              <a:rPr b="1" lang="zh-CN" sz="2800" spc="-1" strike="noStrike">
                <a:solidFill>
                  <a:srgbClr val="66001c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66001c"/>
                </a:solidFill>
                <a:latin typeface="Times New Roman"/>
                <a:ea typeface="Times New Roman"/>
              </a:rPr>
              <a:t>B. Feb.           </a:t>
            </a:r>
            <a:r>
              <a:rPr b="1" lang="zh-CN" sz="2800" spc="-1" strike="noStrike">
                <a:solidFill>
                  <a:srgbClr val="66001c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66001c"/>
                </a:solidFill>
                <a:latin typeface="Times New Roman"/>
                <a:ea typeface="Times New Roman"/>
              </a:rPr>
              <a:t> C. De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1c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66001c"/>
                </a:solidFill>
                <a:latin typeface="宋体"/>
              </a:rPr>
              <a:t>（      ）</a:t>
            </a:r>
            <a:r>
              <a:rPr b="1" lang="zh-CN" sz="2800" spc="-1" strike="noStrike">
                <a:solidFill>
                  <a:srgbClr val="66001c"/>
                </a:solidFill>
                <a:latin typeface="Times New Roman"/>
                <a:ea typeface="Times New Roman"/>
              </a:rPr>
              <a:t>3.  A.sing             </a:t>
            </a:r>
            <a:r>
              <a:rPr b="1" lang="zh-CN" sz="2800" spc="-1" strike="noStrike">
                <a:solidFill>
                  <a:srgbClr val="66001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66001c"/>
                </a:solidFill>
                <a:latin typeface="Times New Roman"/>
                <a:ea typeface="Times New Roman"/>
              </a:rPr>
              <a:t>B.write           </a:t>
            </a:r>
            <a:r>
              <a:rPr b="1" lang="zh-CN" sz="2800" spc="-1" strike="noStrike">
                <a:solidFill>
                  <a:srgbClr val="66001c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66001c"/>
                </a:solidFill>
                <a:latin typeface="Times New Roman"/>
                <a:ea typeface="Times New Roman"/>
              </a:rPr>
              <a:t> C.favou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1c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66001c"/>
                </a:solidFill>
                <a:latin typeface="宋体"/>
              </a:rPr>
              <a:t>（      ）</a:t>
            </a:r>
            <a:r>
              <a:rPr b="1" lang="zh-CN" sz="2800" spc="-1" strike="noStrike">
                <a:solidFill>
                  <a:srgbClr val="66001c"/>
                </a:solidFill>
                <a:latin typeface="Times New Roman"/>
                <a:ea typeface="Times New Roman"/>
              </a:rPr>
              <a:t>4.  A.month            B.October        </a:t>
            </a:r>
            <a:r>
              <a:rPr b="1" lang="zh-CN" sz="2800" spc="-1" strike="noStrike">
                <a:solidFill>
                  <a:srgbClr val="66001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66001c"/>
                </a:solidFill>
                <a:latin typeface="Times New Roman"/>
                <a:ea typeface="Times New Roman"/>
              </a:rPr>
              <a:t>  C.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1c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66001c"/>
                </a:solidFill>
                <a:latin typeface="宋体"/>
              </a:rPr>
              <a:t>（      ）</a:t>
            </a:r>
            <a:r>
              <a:rPr b="1" lang="zh-CN" sz="2800" spc="-1" strike="noStrike">
                <a:solidFill>
                  <a:srgbClr val="66001c"/>
                </a:solidFill>
                <a:latin typeface="Times New Roman"/>
                <a:ea typeface="Times New Roman"/>
              </a:rPr>
              <a:t>5.  A.birthday          B.what             </a:t>
            </a:r>
            <a:r>
              <a:rPr b="1" lang="zh-CN" sz="2800" spc="-1" strike="noStrike">
                <a:solidFill>
                  <a:srgbClr val="66001c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66001c"/>
                </a:solidFill>
                <a:latin typeface="Times New Roman"/>
                <a:ea typeface="Times New Roman"/>
              </a:rPr>
              <a:t>C.wh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36480" y="14572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1c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485800" y="220500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1c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85080" y="3213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1c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16760" y="40482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1c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556360" y="49417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1c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11280" y="333360"/>
            <a:ext cx="10440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1c"/>
                </a:solidFill>
                <a:latin typeface="宋体"/>
              </a:rPr>
              <a:t>三、连词成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1c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1c"/>
                </a:solidFill>
                <a:latin typeface="宋体"/>
              </a:rPr>
              <a:t>1. year  twelve  of  these  the  are  the  mon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1c"/>
                </a:solidFill>
                <a:latin typeface="宋体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1c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66001c"/>
                </a:solidFill>
                <a:latin typeface="宋体"/>
              </a:rPr>
              <a:t>____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1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66001c"/>
                </a:solidFill>
                <a:latin typeface="宋体"/>
              </a:rPr>
              <a:t>2.favourite  your  what  month 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1c"/>
                </a:solidFill>
                <a:latin typeface="宋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1c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66001c"/>
                </a:solidFill>
                <a:latin typeface="宋体"/>
              </a:rPr>
              <a:t>________________________________________________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1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66001c"/>
                </a:solidFill>
                <a:latin typeface="宋体"/>
              </a:rPr>
              <a:t>3.birthday  July  whose  in 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1c"/>
                </a:solidFill>
                <a:latin typeface="宋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1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66001c"/>
                </a:solidFill>
                <a:latin typeface="宋体"/>
              </a:rPr>
              <a:t>______________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334520" y="2133720"/>
            <a:ext cx="92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hese are the twelve  months of  the y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480320" y="3502080"/>
            <a:ext cx="716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hat  is  your  favourite mont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155600" y="5013360"/>
            <a:ext cx="60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hose birthday is in Jul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77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3" dur="770" fill="hold"/>
                                        <p:tgtEl>
                                          <p:spTgt spid="2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5" dur="77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7" dur="77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84360" y="692280"/>
            <a:ext cx="105123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四、读一读、选一选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   your   his  she  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.How are you ?________am f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.Wha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s ________name ? My name is Li H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.Kim is doing __________home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.This is Miss Liu .________is my English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.He is a student . _________name is Guo Yang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501800" y="23493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2360" y="292572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40720" y="364500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005440" y="4437000"/>
            <a:ext cx="10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05080" y="515772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8T05:24:12Z</dcterms:created>
  <dc:creator/>
  <dc:description/>
  <cp:keywords/>
  <dc:language>en-US</dc:language>
  <cp:lastModifiedBy>User</cp:lastModifiedBy>
  <dcterms:modified xsi:type="dcterms:W3CDTF">2001-12-31T18:42:33Z</dcterms:modified>
  <cp:revision>2</cp:revision>
  <dc:subject/>
  <dc:title>UNIT 2  Days and Month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