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895-2D7F-4B10-BA97-6E4C723E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0F9-FEC3-464A-B50B-755B8FFE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899-C50A-491F-950F-048A43A0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C19-0CA1-44E7-A677-02BD92CF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CFB-6D4D-4B54-896D-04AFFF63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15F-680F-430D-9B30-399893E2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642-E981-4F4C-8F00-200F8DE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FF9-F710-409F-8026-0DEB0F03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CE8-1833-4125-808A-BFB9EB30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2C9-2CCC-4EF7-9270-2CFA5FFC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319-FA8C-42DF-B7F8-489B7229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CDD-DFF4-4444-8A8B-18F01E87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F83C1801-4703-4BB8-A8E0-8C8DCC2A5C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image" Target="../media/image2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133720"/>
            <a:ext cx="8064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Lesson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Months of the Y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6206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四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42480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ay and writ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0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What’s your favorite month?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565360"/>
            <a:ext cx="8569080" cy="3146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Comic Sans MS"/>
              </a:rPr>
              <a:t>My favourite month is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omic Sans MS"/>
              </a:rPr>
              <a:t>December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Comic Sans MS"/>
              </a:rPr>
              <a:t>Because my birthday is in Dece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Comic Sans MS"/>
              </a:rPr>
              <a:t>I like win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Comic Sans MS"/>
              </a:rPr>
              <a:t>In December I can make a snow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89000"/>
            <a:ext cx="835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the letters in order, then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04760" y="1052640"/>
            <a:ext cx="46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ebmeD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3480" y="2060640"/>
            <a:ext cx="46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rcM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6864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usgt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04760" y="4076640"/>
            <a:ext cx="46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aJany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13800" y="1268280"/>
            <a:ext cx="1330200" cy="3484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一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八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三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十二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105264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Dec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19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299736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Aug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407664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Janu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141300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2421000"/>
            <a:ext cx="1008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42900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450864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1484280"/>
            <a:ext cx="1944720" cy="302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2421000"/>
            <a:ext cx="295308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076720" y="2637000"/>
            <a:ext cx="280836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435640" y="1699920"/>
            <a:ext cx="2376360" cy="28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0464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rite about your favourite month and the rea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写下你最喜欢的月份及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348000" y="476280"/>
            <a:ext cx="1584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十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1916280"/>
            <a:ext cx="15843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八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56360" y="1916280"/>
            <a:ext cx="15843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五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92360" y="1916280"/>
            <a:ext cx="15843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四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56360" y="404640"/>
            <a:ext cx="1584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一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476280"/>
            <a:ext cx="1584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二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3284640"/>
            <a:ext cx="215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十一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76720" y="3213000"/>
            <a:ext cx="201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十二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300720" y="3284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九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55640" y="4653000"/>
            <a:ext cx="165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三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640" y="4653000"/>
            <a:ext cx="165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七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00720" y="4653000"/>
            <a:ext cx="18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六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260280"/>
            <a:ext cx="3671640" cy="2775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Comic Sans MS"/>
              </a:rPr>
              <a:t>wint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292640"/>
            <a:ext cx="3600360" cy="109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Janua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292640"/>
            <a:ext cx="4032360" cy="109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Februa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2852640"/>
            <a:ext cx="4248000" cy="21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Decemb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1434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1280" y="260280"/>
            <a:ext cx="3671640" cy="2775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Comic Sans MS"/>
              </a:rPr>
              <a:t>spr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637000"/>
            <a:ext cx="3024000" cy="109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March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2637000"/>
            <a:ext cx="2232000" cy="109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April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637000"/>
            <a:ext cx="1944720" cy="21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May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0760" y="-2397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4284720" cy="2775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Comic Sans MS"/>
              </a:rPr>
              <a:t>summ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2708280"/>
            <a:ext cx="2087640" cy="109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Jun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2708280"/>
            <a:ext cx="1944720" cy="109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July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2708280"/>
            <a:ext cx="3024000" cy="21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Augu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953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9800" y="476280"/>
            <a:ext cx="4246560" cy="2775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Comic Sans MS"/>
              </a:rPr>
              <a:t>Autum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492280"/>
            <a:ext cx="4753080" cy="21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Septemb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3789360"/>
            <a:ext cx="4248360" cy="109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Octob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96000" y="5084640"/>
            <a:ext cx="4248000" cy="21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Comic Sans MS"/>
              </a:rPr>
              <a:t>Novemb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3419640" y="2565360"/>
            <a:ext cx="431640" cy="287280"/>
          </a:xfrm>
          <a:custGeom>
            <a:avLst/>
            <a:gdLst>
              <a:gd name="textAreaLeft" fmla="*/ 17640 w 431640"/>
              <a:gd name="textAreaRight" fmla="*/ 414000 w 431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91" y="1350"/>
                </a:lnTo>
                <a:lnTo>
                  <a:pt x="1350" y="135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91" y="20250"/>
                </a:lnTo>
                <a:lnTo>
                  <a:pt x="31091" y="135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91" y="2025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41" h="21600">
                <a:moveTo>
                  <a:pt x="9177" y="10800"/>
                </a:moveTo>
                <a:lnTo>
                  <a:pt x="23264" y="3756"/>
                </a:lnTo>
                <a:lnTo>
                  <a:pt x="2326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1413000"/>
            <a:ext cx="2519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Comic Sans MS"/>
              </a:rPr>
              <a:t>win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6877080" y="5516640"/>
            <a:ext cx="431640" cy="287280"/>
          </a:xfrm>
          <a:custGeom>
            <a:avLst/>
            <a:gdLst>
              <a:gd name="textAreaLeft" fmla="*/ 17640 w 431640"/>
              <a:gd name="textAreaRight" fmla="*/ 414000 w 431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91" y="1350"/>
                </a:lnTo>
                <a:lnTo>
                  <a:pt x="1350" y="135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91" y="20250"/>
                </a:lnTo>
                <a:lnTo>
                  <a:pt x="31091" y="135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91" y="2025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41" h="21600">
                <a:moveTo>
                  <a:pt x="9177" y="10800"/>
                </a:moveTo>
                <a:lnTo>
                  <a:pt x="23264" y="3756"/>
                </a:lnTo>
                <a:lnTo>
                  <a:pt x="2326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4437000"/>
            <a:ext cx="158292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Comic Sans MS"/>
              </a:rPr>
              <a:t>f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7380360" y="2421000"/>
            <a:ext cx="431640" cy="287280"/>
          </a:xfrm>
          <a:custGeom>
            <a:avLst/>
            <a:gdLst>
              <a:gd name="textAreaLeft" fmla="*/ 17640 w 431640"/>
              <a:gd name="textAreaRight" fmla="*/ 414000 w 431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91" y="1350"/>
                </a:lnTo>
                <a:lnTo>
                  <a:pt x="1350" y="135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91" y="20250"/>
                </a:lnTo>
                <a:lnTo>
                  <a:pt x="31091" y="135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91" y="2025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41" h="21600">
                <a:moveTo>
                  <a:pt x="9177" y="10800"/>
                </a:moveTo>
                <a:lnTo>
                  <a:pt x="23264" y="3756"/>
                </a:lnTo>
                <a:lnTo>
                  <a:pt x="2326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720" y="1413000"/>
            <a:ext cx="2448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Comic Sans MS"/>
              </a:rPr>
              <a:t>sp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2627280" y="5734080"/>
            <a:ext cx="432000" cy="287280"/>
          </a:xfrm>
          <a:custGeom>
            <a:avLst/>
            <a:gdLst>
              <a:gd name="textAreaLeft" fmla="*/ 17640 w 432000"/>
              <a:gd name="textAreaRight" fmla="*/ 414360 w 43200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118" y="1350"/>
                </a:lnTo>
                <a:lnTo>
                  <a:pt x="1350" y="135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118" y="20250"/>
                </a:lnTo>
                <a:lnTo>
                  <a:pt x="31118" y="135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118" y="2025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68" h="21600">
                <a:moveTo>
                  <a:pt x="9190" y="10800"/>
                </a:moveTo>
                <a:lnTo>
                  <a:pt x="23278" y="3756"/>
                </a:lnTo>
                <a:lnTo>
                  <a:pt x="2327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365720"/>
            <a:ext cx="3348000" cy="21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omic Sans MS"/>
              </a:rPr>
              <a:t>summ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24000" y="404640"/>
            <a:ext cx="3960720" cy="2691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4500720" y="3645000"/>
            <a:ext cx="3887640" cy="2838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250920" y="3429000"/>
            <a:ext cx="4033800" cy="2887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rcRect l="0" t="0" r="14348" b="0"/>
          <a:stretch/>
        </p:blipFill>
        <p:spPr>
          <a:xfrm>
            <a:off x="4572000" y="333360"/>
            <a:ext cx="4032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57360"/>
            <a:ext cx="871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My birthday is in 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Whose birthday is in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89000"/>
            <a:ext cx="5688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Talk about your birth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92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June is in 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February is in 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October is in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April is in 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4437000"/>
            <a:ext cx="1800360" cy="1434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sp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1800" y="5661000"/>
            <a:ext cx="2301840" cy="1434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autum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4508640"/>
            <a:ext cx="1944720" cy="1434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wi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589720"/>
            <a:ext cx="2340000" cy="1434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sum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0"/>
            <a:ext cx="6191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oose the right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198 -0.74774 E">
                                      <p:cBhvr>
                                        <p:cTn id="205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903 -0.46451 E">
                                      <p:cBhvr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708 -0.49594 E">
                                      <p:cBhvr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087 -0.17086 E">
                                      <p:cBhvr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3:26:08Z</dcterms:created>
  <dc:creator/>
  <dc:description/>
  <dc:language>en-US</dc:language>
  <cp:lastModifiedBy/>
  <dcterms:modified xsi:type="dcterms:W3CDTF">2017-09-14T13:08:30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</Properties>
</file>