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gif" ContentType="image/gif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gif" ContentType="image/gif"/>
  <Override PartName="/ppt/media/image5.jpeg" ContentType="image/jpeg"/>
  <Override PartName="/ppt/media/image4.jpeg" ContentType="image/jpeg"/>
  <Override PartName="/ppt/media/image3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4A1-5ECF-4175-90D7-2A97E054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BFB-ADD0-4128-A536-07A06057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2EB-2223-44D3-A7E3-91533B53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242-6231-4E07-8879-A070861D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CBB-5484-4383-88E2-F924DF25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044-95C8-41D9-BB01-C6769BF3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8DD-D3D8-4954-B5B7-9C821210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A7F-4548-40F0-8CD3-DCA6D4C2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B19-BA6E-4861-B962-78600A96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9B1-7FC9-49EA-8A97-B8A6F76F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591-2A5B-49E6-AF1C-8A6D335B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7EF-C2ED-46D9-9C9C-6AD73EE2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BCD37DE1-69A9-4143-9D0A-43FAE4701C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9.gif"/><Relationship Id="rId4" Type="http://schemas.openxmlformats.org/officeDocument/2006/relationships/image" Target="../media/image6.gif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9.gif"/><Relationship Id="rId4" Type="http://schemas.openxmlformats.org/officeDocument/2006/relationships/image" Target="../media/image6.gif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6.gif"/><Relationship Id="rId4" Type="http://schemas.openxmlformats.org/officeDocument/2006/relationships/image" Target="../media/image9.gif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7.jpeg"/><Relationship Id="rId5" Type="http://schemas.openxmlformats.org/officeDocument/2006/relationships/slide" Target="slide14.xml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9.gif"/><Relationship Id="rId4" Type="http://schemas.openxmlformats.org/officeDocument/2006/relationships/image" Target="../media/image6.gif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628640"/>
            <a:ext cx="734544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Lesson  1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Rain and Su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5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四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18897" t="25197" r="18897" b="25197"/>
          <a:stretch/>
        </p:blipFill>
        <p:spPr>
          <a:xfrm>
            <a:off x="1778040" y="1722600"/>
            <a:ext cx="5734080" cy="3423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771640" y="765000"/>
            <a:ext cx="3541680" cy="2087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044720" y="2637000"/>
            <a:ext cx="2923920" cy="1887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508720" y="2637000"/>
            <a:ext cx="2627280" cy="1724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705120" y="3214800"/>
            <a:ext cx="1737000" cy="1700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3562200" y="4581360"/>
            <a:ext cx="205740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18897" t="25197" r="18897" b="25197"/>
          <a:stretch/>
        </p:blipFill>
        <p:spPr>
          <a:xfrm>
            <a:off x="1778040" y="1724040"/>
            <a:ext cx="5734080" cy="3422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629080" y="476280"/>
            <a:ext cx="3539880" cy="2089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348000" y="4581360"/>
            <a:ext cx="2590920" cy="1673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203640" y="2421000"/>
            <a:ext cx="2627280" cy="1724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010200" y="2490840"/>
            <a:ext cx="1730520" cy="1692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66560" y="2352600"/>
            <a:ext cx="2770200" cy="14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8897" t="25197" r="18897" b="25197"/>
          <a:stretch/>
        </p:blipFill>
        <p:spPr>
          <a:xfrm>
            <a:off x="1741320" y="1717560"/>
            <a:ext cx="5734080" cy="3424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987640" y="692280"/>
            <a:ext cx="3181320" cy="2089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044720" y="2492280"/>
            <a:ext cx="2625480" cy="1724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348000" y="2492280"/>
            <a:ext cx="3011400" cy="1946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000680" y="4653000"/>
            <a:ext cx="1314360" cy="128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6448320" y="2781360"/>
            <a:ext cx="205740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32360" y="3645000"/>
            <a:ext cx="3184560" cy="25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861080" y="549360"/>
            <a:ext cx="3228840" cy="26636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rId5" action="ppaction://hlinksldjump"/>
          </p:cNvPr>
          <p:cNvSpPr/>
          <p:nvPr/>
        </p:nvSpPr>
        <p:spPr>
          <a:xfrm>
            <a:off x="4140360" y="6093000"/>
            <a:ext cx="576000" cy="504720"/>
          </a:xfrm>
          <a:prstGeom prst="smileyFace">
            <a:avLst>
              <a:gd name="adj" fmla="val 465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828720" y="619200"/>
            <a:ext cx="3894120" cy="2019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1047600" y="3643200"/>
            <a:ext cx="2283120" cy="22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0" b="6299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0" t="0" r="54660" b="0"/>
          <a:stretch/>
        </p:blipFill>
        <p:spPr>
          <a:xfrm>
            <a:off x="36360" y="1413000"/>
            <a:ext cx="4497480" cy="3671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39109" t="0" r="0" b="31427"/>
          <a:stretch/>
        </p:blipFill>
        <p:spPr>
          <a:xfrm>
            <a:off x="3492360" y="1268280"/>
            <a:ext cx="5351760" cy="223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775640" y="6308640"/>
            <a:ext cx="1368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 rot="706200">
            <a:off x="1258920" y="3357720"/>
            <a:ext cx="734364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1" lang="en-US" sz="96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Let's sing a song!</a:t>
            </a:r>
            <a:endParaRPr b="1" lang="en-US" sz="96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42920" y="1125360"/>
            <a:ext cx="345600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January,Februr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ne and tw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 like to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n the snow with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arch,Apri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ree and f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louds and r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lose the do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ay,Ju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ive and s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Flowers bl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or us to look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94200" y="1106640"/>
            <a:ext cx="4249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July,Augu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even and 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’s the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eac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 sun is gre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eptember,Octo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ine and 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Leav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and win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chool and fri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ovember,Dec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 year is done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et’s sing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rom number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189000"/>
            <a:ext cx="64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The Month So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086760" cy="6811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404640"/>
            <a:ext cx="863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ook at the pictures.Read and check the sentences.Write "T" or "F" 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看图，判断正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95280" y="1339920"/>
            <a:ext cx="7026120" cy="1225440"/>
            <a:chOff x="395280" y="1339920"/>
            <a:chExt cx="7026120" cy="122544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395280" y="1339920"/>
              <a:ext cx="16556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340000" y="1557360"/>
              <a:ext cx="50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1. I can see the wind.      (      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95280" y="4940280"/>
            <a:ext cx="7296120" cy="1314360"/>
            <a:chOff x="395280" y="4940280"/>
            <a:chExt cx="7296120" cy="13143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395280" y="4940280"/>
              <a:ext cx="165744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195640" y="5300640"/>
              <a:ext cx="549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4. Snow is cold and white.  (     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4000" y="2708280"/>
            <a:ext cx="7921440" cy="949320"/>
            <a:chOff x="324000" y="2708280"/>
            <a:chExt cx="7921440" cy="94932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324000" y="2708280"/>
              <a:ext cx="17618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241720" y="2832120"/>
              <a:ext cx="600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.This is the sun .The sun is hot.  (      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95280" y="3645000"/>
            <a:ext cx="8569440" cy="1287360"/>
            <a:chOff x="395280" y="3645000"/>
            <a:chExt cx="8569440" cy="1287360"/>
          </a:xfrm>
        </p:grpSpPr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395280" y="3645000"/>
              <a:ext cx="165564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266920" y="4005360"/>
              <a:ext cx="6697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3.Can you see the cloud and the rain? (      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156360" y="1989000"/>
            <a:ext cx="5605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56360" y="1628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51640" y="285264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2360" y="530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01080" y="4076640"/>
            <a:ext cx="5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5315" b="70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63640" y="1773360"/>
            <a:ext cx="590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2060640"/>
            <a:ext cx="640872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1" lang="en-US" sz="9600" spc="-1" strike="noStrike">
                <a:ln w="0">
                  <a:noFill/>
                </a:ln>
                <a:solidFill>
                  <a:srgbClr val="66ff33"/>
                </a:solidFill>
                <a:latin typeface="宋体"/>
              </a:rPr>
              <a:t>Thanks</a:t>
            </a:r>
            <a:r>
              <a:rPr b="1" lang="zh-CN" sz="9600" spc="-1" strike="noStrike">
                <a:ln w="0">
                  <a:noFill/>
                </a:ln>
                <a:solidFill>
                  <a:srgbClr val="66ff33"/>
                </a:solidFill>
                <a:latin typeface="宋体"/>
              </a:rPr>
              <a:t>！</a:t>
            </a:r>
            <a:endParaRPr b="1" lang="en-US" sz="9600" spc="-1" strike="noStrike">
              <a:ln w="0">
                <a:noFill/>
              </a:ln>
              <a:solidFill>
                <a:srgbClr val="66ff33"/>
              </a:solidFill>
              <a:latin typeface="宋体"/>
              <a:ea typeface="宋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16000" y="5300640"/>
            <a:ext cx="75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flowers  bloo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12598" r="9894" b="6299"/>
          <a:stretch/>
        </p:blipFill>
        <p:spPr>
          <a:xfrm>
            <a:off x="0" y="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909720"/>
            <a:ext cx="7669080" cy="451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55180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 The sun is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o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89000"/>
            <a:ext cx="460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5518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388200" cy="4797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40000" y="4940280"/>
            <a:ext cx="45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bea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765000"/>
            <a:ext cx="1368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360" y="-15840"/>
            <a:ext cx="9120240" cy="6829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476360" y="-15840"/>
            <a:ext cx="7272360" cy="4308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76360" y="5013360"/>
            <a:ext cx="520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75640" y="6237360"/>
            <a:ext cx="136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542592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snow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Snow is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cold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white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5950080"/>
            <a:ext cx="88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Look at  the wind. This is the wi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0"/>
            <a:ext cx="1368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40000" y="5661000"/>
            <a:ext cx="36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01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cloud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6651360" cy="4378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03280" y="4508640"/>
            <a:ext cx="136836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4508640"/>
            <a:ext cx="136836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8720" y="522936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rain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5940360" cy="4900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5157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Do you see the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lou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rai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is is the cloud and the r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18897" b="25197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84360" y="1268280"/>
            <a:ext cx="8208720" cy="518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66ff33"/>
                </a:solidFill>
                <a:latin typeface="宋体"/>
              </a:rPr>
              <a:t>Let's play a game:</a:t>
            </a:r>
            <a:endParaRPr b="1" lang="en-US" sz="1800" spc="-1" strike="noStrike">
              <a:ln w="0">
                <a:noFill/>
              </a:ln>
              <a:solidFill>
                <a:srgbClr val="66ff33"/>
              </a:solidFill>
              <a:latin typeface="宋体"/>
              <a:ea typeface="宋体"/>
            </a:endParaRPr>
          </a:p>
          <a:p>
            <a:pPr>
              <a:tabLst>
                <a:tab algn="l" pos="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66ff33"/>
                </a:solidFill>
                <a:latin typeface="宋体"/>
              </a:rPr>
              <a:t>Who is missing?</a:t>
            </a:r>
            <a:endParaRPr b="1" lang="en-US" sz="1800" spc="-1" strike="noStrike">
              <a:ln w="0">
                <a:noFill/>
              </a:ln>
              <a:solidFill>
                <a:srgbClr val="66ff33"/>
              </a:solidFill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7380360" y="5157720"/>
            <a:ext cx="1368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18897" b="25197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3179880" cy="2087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492360" y="5184720"/>
            <a:ext cx="259092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940360" y="3068640"/>
            <a:ext cx="3027600" cy="1987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476360" y="2781360"/>
            <a:ext cx="2916360" cy="1511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438880" y="623880"/>
            <a:ext cx="1797120" cy="17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1:25:25Z</dcterms:created>
  <dc:creator/>
  <dc:description/>
  <dc:language>en-US</dc:language>
  <cp:lastModifiedBy/>
  <dcterms:modified xsi:type="dcterms:W3CDTF">2017-09-14T13:36:00Z</dcterms:modified>
  <cp:revision>9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</Properties>
</file>