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chimes.wav" ContentType="audio/x-wav"/>
  <Override PartName="/ppt/media/wind.wav" ContentType="audio/x-wav"/>
  <Override PartName="/ppt/media/image16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5999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076-891B-43BB-B6D5-3BB75EF9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B20-EFCD-4895-8AE6-721F1EDB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89D45-9389-4950-AEBF-5A903D3B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91686-24E0-4CE5-B519-C0FE7FC6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2560" y="199800"/>
            <a:ext cx="1132056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1D4D3-6A70-400F-A926-00FD15D0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06120-FC94-421A-BDF4-5BA44322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5A220-BD81-43CC-A98E-2E58E557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7C038-A0AF-427D-8C73-018EFCAF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DDFAF-E414-4AB9-84B9-EF47E5BC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05933-C504-4A3F-A0B6-DE2D8504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1008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3379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25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51008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83379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B3343-EBB7-4932-B485-C8C6AC99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53518-DAC7-4813-81F9-C1336F63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E24-ADD8-4414-951C-60208260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F24E4-8E86-42E5-954F-7EB3047E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979F5-6235-4613-A353-B717E7F7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7B23A-B78D-4702-B43F-2A62E111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BECEC-A35A-41FC-A459-0D6D9E52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2560" y="199800"/>
            <a:ext cx="1132056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BFD90-C580-4BDF-B893-6B53CC50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005B5-227C-4156-AB0D-806A6665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1774F-99A3-4512-B733-DCF2CF73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83195-0294-429F-B2E8-502525D5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9666F-9754-4AD3-8478-DB9912A4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B29A6-C27E-43D6-B32A-DBA70917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1008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379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1008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379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BC9-11E5-49B7-969C-B7202961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008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379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25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51008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379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3F253-1FBB-45C9-9D64-F7B500ED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C48B0-B61F-40B2-A185-0183018E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E21F2-DA5F-476F-8444-876AABD7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BF6C9-74B2-44A8-8A0F-67C81767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14B89-5A10-4B34-81D4-9AF9A2A7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8FC9A-BCBC-4B7A-ABCD-2905DCBF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2560" y="199800"/>
            <a:ext cx="1132056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1FA64-ED48-4D3F-A332-80EBD54A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BFD8A-D6DF-45B7-94F7-B0FA8074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89530-99FD-4E7D-951A-DD039E21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B4A46-2EE4-4CCC-888D-1DEFE8EC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89E9-7F18-41AC-BDCA-3CE1DA17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FA3AA-7BEC-48A3-8624-7AE4A2A5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3D822-17AE-472F-B7CE-1D8647B9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1008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379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25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51008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3379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D4546-B4E2-42E5-99E2-5D8D99B5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BB97F-3C2B-4A33-A139-BA9B2463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CD9B1-3578-44C7-9ACD-16FD0358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49270-ADF3-4390-B35D-0A3D8B55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F4FDB-6B0B-4862-BEB9-7E340FCB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E26E5-3513-4E8E-AE8B-1DF9BF95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2560" y="199800"/>
            <a:ext cx="1132056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735F5-E379-40E8-9CE3-DFC40923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4DD0C-2F48-4D1D-8B95-DB63A9A9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F602-7303-4F68-A77B-72481C79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B5019-CF5B-4433-B323-F665AE50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43E98-2374-4A0A-AF41-64267C3D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DD5AC-B2B0-401B-B5EB-81AC8719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2A9E8-6CC7-4414-BA88-9CDDFBE8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1008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379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25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51008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83379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088A4-7C39-40B0-B984-DCDCF471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8A1D5-6F1B-489A-BF99-071FFD9C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A39D2-64DF-49B1-A163-ADC7A373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003C8-0EA1-49A2-97D4-E27DAFC2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84F6B-7FA3-4494-B987-1199B25C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FB3A3-55C6-4ACF-B124-0ADF3EAE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029C-AE34-4CAA-8D9A-693CFA23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2560" y="199800"/>
            <a:ext cx="1132056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F4CD5-958F-4C08-A746-85600EA3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9E703-38AE-4F4A-A41A-2F1EE254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8ADCEF-E185-45FF-85D8-BB7DEDB3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68B43-F2D6-4E3D-86DC-1C64E654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E7C55-A697-4DE9-83F6-07A7084A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9E6BE-06CD-474D-ACB5-D7CC677E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1008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379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25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451008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83379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0B23A-3A3D-4719-B110-F5675EC4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7296-93C0-418A-BE10-ED0F8D6A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962A-280E-4280-9CCA-58200D58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2560" y="199800"/>
            <a:ext cx="1132056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9BF5-FA30-4A43-92A6-FCB1663F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CC1C-880A-438C-B7B7-4D9BE922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703-1D24-4BBE-AA4A-0A022B4F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044C-18FD-4C4A-98F7-C4669CB1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C1E5-9A8B-41EB-8EED-87A235E6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7001-5D2B-4E71-9CDF-5599FC47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727D-DCA9-470B-80AD-07C73007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008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379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25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1008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3379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753F-5C0C-4538-BBE6-8672A1F7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32E4D-5343-4831-9BD8-60A3D39D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40801-8394-41FB-B7A8-ABA0E7F9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B6DF4-A5D8-497E-8F8C-BADABEAF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688E7-8FA9-4925-8345-6225B7D0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8E1FF-CD96-469E-89C6-38A81B61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5D1-7D01-4E1E-9C88-6CCF4B50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2560" y="199800"/>
            <a:ext cx="1132056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C6B70-7973-4661-B3BA-835360E0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E1892-9F67-4877-B609-E4B0FCFE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60B06-7D4D-497E-8A04-72EDC940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3AE26-2033-4EB8-967A-88809114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51E6D-D9F0-43EE-9921-3722E797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09F3-18EF-4EB5-A426-2AE1A827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1008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379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25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51008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3379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D1EE-C5DE-4599-AA44-0CD4FEB0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7788-128D-41F5-B6F3-535B7EF7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48240-0DE0-41F3-91AC-1900FDA2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3F7FA-4976-41F2-A5A8-23A42039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6BE-0904-45A0-9A5E-AF6A468E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6CDB1-5382-4E89-906F-B15FE920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FF65-D66D-42AE-B49A-BA6942F4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2560" y="199800"/>
            <a:ext cx="1132056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B93F6-0EE0-4BEE-BBC0-8FBFF1DE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4EEC7-8DF4-4A87-A0CB-0D28A14E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8CE52-28C1-4AD3-AE58-03063C77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151AE-258A-4875-8504-738AA060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F5746-DAC8-4484-8B31-7B0F10B1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56A81-413D-409F-8535-A73B9063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1008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379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25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51008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3379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854EB-0AC5-4FE8-AB6B-CF5CF034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73801-A357-4B29-A0E4-176B3CFD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4BB-8529-4C0B-95CE-2B17E8D0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1C9FB-FAA5-4530-A7BA-C6469F52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7476F-902D-49AC-B8CD-F4F51DB6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5E1D9-44E9-45C9-8283-18B6B0ED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A5EC2-BD91-4788-872F-FCFD16DF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2560" y="199800"/>
            <a:ext cx="1132056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2CD25-C2DC-46B9-A387-6105A901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CA882-427C-4C2C-99A1-AB520DE0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5CF9D-5128-41F3-B84E-75CAA0FB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7B9DB-448F-4A0E-A246-787D552E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0D280-384A-4728-8AA3-0785EA53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48C48-D7FA-46FE-A49F-637F4869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199800"/>
            <a:ext cx="1132056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C07A-4E2F-41EB-9AD1-0E963236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1008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379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25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51008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83379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9ABAB-78DF-4588-A767-43F867EB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62A33-9EFD-415E-A202-579406E8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7CD17-3234-4C94-9CF3-C3AEC36C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70DB9-20B2-4464-93A5-6F8DFBFA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3BC88-0C96-4A83-B51C-BAD51C3D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FF850-EAF4-4062-A57A-9778D236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2560" y="199800"/>
            <a:ext cx="1132056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548C2-939C-48D5-9554-9F923609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0CAFC-254B-456A-A38C-03FB032E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3BC19-A322-4460-870A-D7355BF3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D0960-F76A-45EB-9952-D017106E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D65-7EFD-471E-AEC3-AAA06E4B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ED402-3D38-47B2-93E4-412F6880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34A09-FCDF-4B96-A547-12B6DC8B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1008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379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25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51008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83379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0006F-EEDF-4406-A860-E3D4C7F8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3FCC6-E524-4573-85A4-C578DDC4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332CF-54FA-472D-9EAC-05B20CB2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61D07-67F5-450D-B430-C5F869DC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CFF9C-EE40-4BD0-8D39-D74E4778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0C761-8366-4989-A469-DF0A4DA9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2560" y="199800"/>
            <a:ext cx="1132056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24319-D68F-4A93-B5C4-CBBD0F3A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36B8D-80CB-4E8E-A721-CCBDBB67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C8CC-4C16-4A07-9AF6-F4F91205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83A64-703C-4478-B1AE-614F28FC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B4DAF-DCC1-4812-8FAF-649E6BF8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D0C57-70DF-45FE-B4E5-2CCA692A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08157-E8D6-4B4E-9C45-D6712ED2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1008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379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25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51008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83379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18CA1-18A3-4BBB-BF1B-1089110F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FF1DE-8A30-4642-BCBD-C2C896B1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F429C-8F4E-4B68-9F62-D5E79ABB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C6332-7D81-4DB9-8A37-241FC4F7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18E67-EAF3-47D5-A25D-9AF40A28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86CA4-88CB-4740-B677-AA9CC4D2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6D4-61A7-4B5F-9DE8-25A83168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82560" y="199800"/>
            <a:ext cx="1132056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61B37-9BC3-4A2C-8E6C-6D871DB4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47828-61DC-4310-8775-05936EB5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A6687-CC19-452F-9D5D-5E05B3D7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237CB-A6B0-4813-9B2D-1876ABBD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82560" y="4014360"/>
            <a:ext cx="11320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A9FCE-27A1-42E9-A0ED-9009D66D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483240" y="132984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256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483240" y="4014360"/>
            <a:ext cx="55242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CB963-F7C8-48C2-89AE-DC28FB4F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1008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37960" y="132984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25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51008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8337960" y="4014360"/>
            <a:ext cx="3645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B67C2-FC63-4A25-A42B-20735600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37EEC-FFC2-449E-999C-5A817609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845C6-CEF7-4152-BD30-742F170D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7CFC8-91AE-4240-B993-397A31C5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360" y="274320"/>
            <a:ext cx="1133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0360" y="1600200"/>
            <a:ext cx="1133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360" y="6244920"/>
            <a:ext cx="2939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05240" y="6244920"/>
            <a:ext cx="398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029880" y="6244920"/>
            <a:ext cx="2939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99C1-B54A-448E-AA6D-174AE546F4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650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fa0b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866520" y="6356520"/>
            <a:ext cx="28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4173480" y="6356520"/>
            <a:ext cx="42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8897760" y="6356520"/>
            <a:ext cx="283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FEA4-B4AF-4208-A827-B678B5E0111F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650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fa0b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866520" y="6356520"/>
            <a:ext cx="28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4173480" y="6356520"/>
            <a:ext cx="42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8897760" y="6356520"/>
            <a:ext cx="283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7EF3-F45B-4FC6-A927-3E16D376C7E0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650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fa0b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866520" y="6356520"/>
            <a:ext cx="28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4173480" y="6356520"/>
            <a:ext cx="42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8897760" y="6356520"/>
            <a:ext cx="283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9D41-3B90-44A3-80E4-AF0085789771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650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fa0b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866520" y="6356520"/>
            <a:ext cx="28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4173480" y="6356520"/>
            <a:ext cx="42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8897760" y="6356520"/>
            <a:ext cx="283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7303-7B66-442C-8804-2551FBEA6F31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1" descr=""/>
          <p:cNvPicPr/>
          <p:nvPr/>
        </p:nvPicPr>
        <p:blipFill>
          <a:blip r:embed="rId3"/>
          <a:stretch/>
        </p:blipFill>
        <p:spPr>
          <a:xfrm>
            <a:off x="0" y="0"/>
            <a:ext cx="12600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0" y="0"/>
            <a:ext cx="12600000" cy="685800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866520" y="6356520"/>
            <a:ext cx="28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4173480" y="6356520"/>
            <a:ext cx="42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8897760" y="6356520"/>
            <a:ext cx="283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9D98-43C1-4E79-9D98-A1ED98BB1074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650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fa0b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8" descr=""/>
          <p:cNvPicPr/>
          <p:nvPr/>
        </p:nvPicPr>
        <p:blipFill>
          <a:blip r:embed="rId3"/>
          <a:stretch/>
        </p:blipFill>
        <p:spPr>
          <a:xfrm>
            <a:off x="0" y="0"/>
            <a:ext cx="12600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650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fa0b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30360" y="6244920"/>
            <a:ext cx="2939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305240" y="6244920"/>
            <a:ext cx="398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9029880" y="6244920"/>
            <a:ext cx="2939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99F6-3B47-4609-89BF-4A587A759194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650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fa0b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66520" y="6356520"/>
            <a:ext cx="28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173480" y="6356520"/>
            <a:ext cx="42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897760" y="6356520"/>
            <a:ext cx="283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B058-F980-4528-9B80-6D3579EC1CFC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650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fa0b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866520" y="6356520"/>
            <a:ext cx="28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4173480" y="6356520"/>
            <a:ext cx="42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8897760" y="6356520"/>
            <a:ext cx="283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0B0A-EF71-4904-8B27-85DE7FCA59FC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650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fa0b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866520" y="6356520"/>
            <a:ext cx="28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4173480" y="6356520"/>
            <a:ext cx="42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8897760" y="6356520"/>
            <a:ext cx="283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E8E4-2B81-4925-8EF0-03DBAB91C378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650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fa0b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866520" y="6356520"/>
            <a:ext cx="28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4173480" y="6356520"/>
            <a:ext cx="42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8897760" y="6356520"/>
            <a:ext cx="283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0490-EDE5-4353-AE37-2B38494E10E9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650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fa0b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866520" y="6356520"/>
            <a:ext cx="28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4173480" y="6356520"/>
            <a:ext cx="42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8897760" y="6356520"/>
            <a:ext cx="283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9987-79E8-41A6-B4CC-C55C3B77A97F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2560" y="199800"/>
            <a:ext cx="113205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650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b8650a"/>
              </a:solidFill>
              <a:latin typeface="微软雅黑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2560" y="1329840"/>
            <a:ext cx="113205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fa0b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186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f6186"/>
              </a:solidFill>
              <a:latin typeface="幼圆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866520" y="6356520"/>
            <a:ext cx="28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4173480" y="6356520"/>
            <a:ext cx="42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8897760" y="6356520"/>
            <a:ext cx="283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4D10-EAE3-4F1D-8B94-1791299CD8D7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857600" y="4870440"/>
            <a:ext cx="80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微软雅黑"/>
                <a:ea typeface="微软雅黑"/>
              </a:rPr>
              <a:t>Lesson 12  Mr. Moon's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WordArt 2" descr=""/>
          <p:cNvPicPr/>
          <p:nvPr/>
        </p:nvPicPr>
        <p:blipFill>
          <a:blip r:embed="rId1"/>
          <a:stretch/>
        </p:blipFill>
        <p:spPr>
          <a:xfrm>
            <a:off x="3267000" y="1195560"/>
            <a:ext cx="5407200" cy="3601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  <p:sndAc>
      <p:stSnd>
        <p:snd r:embed="rId2" name="wind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6877080" y="44280"/>
            <a:ext cx="5616720" cy="309564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3"/>
          <p:cNvSpPr/>
          <p:nvPr/>
        </p:nvSpPr>
        <p:spPr>
          <a:xfrm>
            <a:off x="6839280" y="3357720"/>
            <a:ext cx="51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hich month is the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r my birthday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845640" y="476280"/>
            <a:ext cx="25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ory tim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278640" y="1773360"/>
            <a:ext cx="74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r. Moon doesn't  have  a 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2270160" y="2349360"/>
            <a:ext cx="403200" cy="643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月亮先生没有生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7488720" y="4365720"/>
            <a:ext cx="3746880" cy="643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我的生日在哪个月份最好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08840" y="4076640"/>
            <a:ext cx="404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est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ood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最高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译为“最好的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723600" y="3141720"/>
            <a:ext cx="48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esn't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第三人称单数否定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4"/>
          <p:cNvSpPr/>
          <p:nvPr/>
        </p:nvSpPr>
        <p:spPr>
          <a:xfrm>
            <a:off x="3095280" y="260280"/>
            <a:ext cx="621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January says," I am the first 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2608920" y="2709720"/>
            <a:ext cx="985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bruary says ,"The Spring Festival often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 February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4789080" y="98100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月说：“我是第一个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4390200" y="3718080"/>
            <a:ext cx="33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月说：“春节通常在二月到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2857320" y="1628640"/>
            <a:ext cx="45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I am the best month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9268200" y="1773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是最好的月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0" descr="C:\Users\dell\AppData\Roaming\Tencent\Users\712326765\QQ\WinTemp\RichOle\WZ~X}4KU[PP5E92~RCXTE%8.png"/>
          <p:cNvPicPr/>
          <p:nvPr/>
        </p:nvPicPr>
        <p:blipFill>
          <a:blip r:embed="rId1"/>
          <a:stretch/>
        </p:blipFill>
        <p:spPr>
          <a:xfrm>
            <a:off x="441360" y="3500280"/>
            <a:ext cx="1276200" cy="10382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1" descr="C:\Users\dell\AppData\Roaming\Tencent\Users\712326765\QQ\WinTemp\RichOle\`0WOD]8J5%LW245]VLSAGNK.png"/>
          <p:cNvPicPr/>
          <p:nvPr/>
        </p:nvPicPr>
        <p:blipFill>
          <a:blip r:embed="rId2"/>
          <a:stretch/>
        </p:blipFill>
        <p:spPr>
          <a:xfrm>
            <a:off x="441360" y="1071720"/>
            <a:ext cx="1466640" cy="1409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3"/>
          <p:cNvSpPr/>
          <p:nvPr/>
        </p:nvSpPr>
        <p:spPr>
          <a:xfrm>
            <a:off x="3724920" y="1628640"/>
            <a:ext cx="585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rch says,"The weather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arm and suny in March 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1379880" y="4294080"/>
            <a:ext cx="11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pril says ,"There is rain,and trees are green in April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793320" y="33336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No ! We are the bes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4620240" y="893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不！我们是最好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5410440" y="2781360"/>
            <a:ext cx="34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  <a:ea typeface="宋体"/>
              </a:rPr>
              <a:t>三月说：“三月的天气温暖又晴朗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2799720" y="4941720"/>
            <a:ext cx="29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四月说：“四月有雨，树变绿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9" descr="C:\Users\dell\AppData\Roaming\Tencent\Users\712326765\QQ\WinTemp\RichOle\PP9A7UXG216DP~1I3]1N5_E.png"/>
          <p:cNvPicPr/>
          <p:nvPr/>
        </p:nvPicPr>
        <p:blipFill>
          <a:blip r:embed="rId1"/>
          <a:stretch/>
        </p:blipFill>
        <p:spPr>
          <a:xfrm>
            <a:off x="441360" y="1428840"/>
            <a:ext cx="2057400" cy="1819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himes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2268360" y="117360"/>
            <a:ext cx="4032360" cy="27813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7524720" y="2349360"/>
            <a:ext cx="4680000" cy="24480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4"/>
          <p:cNvSpPr/>
          <p:nvPr/>
        </p:nvSpPr>
        <p:spPr>
          <a:xfrm>
            <a:off x="2644200" y="2997360"/>
            <a:ext cx="80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3631320" y="3645000"/>
            <a:ext cx="34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ow about me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6841080" y="476280"/>
            <a:ext cx="55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y says ,"The flower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eautiful in May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2929320" y="5445000"/>
            <a:ext cx="69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June says ,"Children's Day is fun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7926120" y="148608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月说：“五月的花美丽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4043160" y="4221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4366080" y="609300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六月说：“儿童节很开心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3211560" y="4797360"/>
            <a:ext cx="47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abou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表示询问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·····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怎么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3" name="chimes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8893080" y="1260360"/>
            <a:ext cx="3598920" cy="316872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4"/>
          <p:cNvSpPr/>
          <p:nvPr/>
        </p:nvSpPr>
        <p:spPr>
          <a:xfrm>
            <a:off x="507960" y="333360"/>
            <a:ext cx="92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July and August say ,"We are hot and sunn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 there's a long holiday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027800" y="249228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holiday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假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6476760" y="4726080"/>
            <a:ext cx="35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We are the bes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2203560" y="909720"/>
            <a:ext cx="243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七月和八月说：“我们很热，很晴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而且有一个长假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7095960" y="54673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是最好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9" descr="C:\Users\dell\AppData\Roaming\Tencent\Users\712326765\QQ\WinTemp\RichOle\KAWWR(IAU$@($MP@C7YGV3N.png"/>
          <p:cNvPicPr/>
          <p:nvPr/>
        </p:nvPicPr>
        <p:blipFill>
          <a:blip r:embed="rId2"/>
          <a:stretch/>
        </p:blipFill>
        <p:spPr>
          <a:xfrm>
            <a:off x="6084720" y="2214720"/>
            <a:ext cx="1838520" cy="157140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3" name="chimes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9468000" y="189000"/>
            <a:ext cx="3098520" cy="367164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4"/>
          <p:cNvSpPr/>
          <p:nvPr/>
        </p:nvSpPr>
        <p:spPr>
          <a:xfrm>
            <a:off x="2085120" y="404640"/>
            <a:ext cx="13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Wai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913040" y="1270080"/>
            <a:ext cx="735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September and Octo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say ,"It's nice and co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in September and Octomber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4030560" y="40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等一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4175280" y="3502080"/>
            <a:ext cx="47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九月和十月说：“在九月和十月天气很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很凉爽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8" descr="office6\wpsassist\cache\53b39e548b958"/>
          <p:cNvPicPr/>
          <p:nvPr/>
        </p:nvPicPr>
        <p:blipFill>
          <a:blip r:embed="rId2"/>
          <a:stretch/>
        </p:blipFill>
        <p:spPr>
          <a:xfrm>
            <a:off x="4284720" y="4653000"/>
            <a:ext cx="2611440" cy="17240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C:\Users\dell\AppData\Roaming\Tencent\Users\712326765\QQ\WinTemp\RichOle\{Y`R9AH44)O}HGCNYB6X`FE.png"/>
          <p:cNvPicPr/>
          <p:nvPr/>
        </p:nvPicPr>
        <p:blipFill>
          <a:blip r:embed="rId3"/>
          <a:stretch/>
        </p:blipFill>
        <p:spPr>
          <a:xfrm>
            <a:off x="369720" y="3857760"/>
            <a:ext cx="1657440" cy="221904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4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2741400" cy="293364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4387680" y="1052640"/>
            <a:ext cx="35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We are the bes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44080" y="3286080"/>
            <a:ext cx="10967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November and December say ,"We are  the  eleven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and twelfth month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We are cold months .You can play in the snow .It's fun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870560" y="4437000"/>
            <a:ext cx="64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十一月和十二月说：“我们是第十一和第十二个月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4642560" y="5877000"/>
            <a:ext cx="7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是寒冷的月份。你可以在雪里玩。非常有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8" descr="C:\Users\dell\AppData\Roaming\Tencent\Users\712326765\QQ\WinTemp\RichOle\MVGWQ$ES${TB09GE]GMJ96S.png"/>
          <p:cNvPicPr/>
          <p:nvPr/>
        </p:nvPicPr>
        <p:blipFill>
          <a:blip r:embed="rId2"/>
          <a:stretch/>
        </p:blipFill>
        <p:spPr>
          <a:xfrm>
            <a:off x="8372520" y="571680"/>
            <a:ext cx="1685880" cy="1952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5616720" cy="309564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3"/>
          <p:cNvSpPr/>
          <p:nvPr/>
        </p:nvSpPr>
        <p:spPr>
          <a:xfrm>
            <a:off x="6661080" y="47628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Hmm...  I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244440" y="3429000"/>
            <a:ext cx="1057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Mr. Moon says ," My birthday can be in every month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In every month ,I will be big and round 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2326680" y="407664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月亮先生说：“我的生日可以在每一个月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2570760" y="544500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将在每一个月又大又圆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7488720" y="1197000"/>
            <a:ext cx="18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······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知道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0:03:58Z</dcterms:created>
  <dc:creator>asus</dc:creator>
  <dc:description/>
  <dc:language>en-US</dc:language>
  <cp:lastModifiedBy>BMT-6</cp:lastModifiedBy>
  <dcterms:modified xsi:type="dcterms:W3CDTF">2018-01-03T08:24:56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