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288-379B-467F-858A-1CEE2667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F65-F949-478F-8A2B-805453D3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7DF-9646-4857-80DB-2504BAEE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11B-91C9-4941-B2F3-A83D2202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EAD-257E-469A-828A-87F7D0F1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50B-7BA1-41D3-97EB-4BB86369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048-B5F8-42FE-8A5E-BAD99F60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091-1E79-4613-A57D-CB563C9D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E14-9BCE-45D3-A66B-06ABAC9D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90F-17BB-4330-A070-249C5098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D91-67C5-453F-963A-7B1E37F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639-902B-4C41-94F3-E5425E3A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6D48-535F-4895-A9B5-C70AA79798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6000" spc="-1" strike="noStrike">
                <a:solidFill>
                  <a:srgbClr val="ff0000"/>
                </a:solidFill>
                <a:latin typeface="Impact"/>
              </a:rPr>
              <a:t>Lesson 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32448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33ff"/>
                </a:solidFill>
                <a:latin typeface="Cataneo BT"/>
              </a:rPr>
              <a:t>What Do You Like To D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0"/>
          <p:cNvSpPr txBox="1"/>
          <p:nvPr/>
        </p:nvSpPr>
        <p:spPr>
          <a:xfrm>
            <a:off x="179280" y="26028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四年级英语下册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6661080" y="404640"/>
            <a:ext cx="15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nit 3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5363"/>
          <p:cNvSpPr txBox="1"/>
          <p:nvPr/>
        </p:nvSpPr>
        <p:spPr>
          <a:xfrm>
            <a:off x="1258920" y="1268280"/>
            <a:ext cx="633744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bye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220"/>
          <p:cNvSpPr/>
          <p:nvPr/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hat does he like to d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He like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to  </a:t>
            </a:r>
            <a:r>
              <a:rPr b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hat does she like to d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She like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to </a:t>
            </a:r>
            <a:r>
              <a:rPr b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4920" y="1123560"/>
            <a:ext cx="91440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int to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, point to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int to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 too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ow what thing do you se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int to it and then tell m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3081" descr="zhan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3083"/>
          <p:cNvSpPr/>
          <p:nvPr/>
        </p:nvSpPr>
        <p:spPr>
          <a:xfrm>
            <a:off x="1676520" y="380880"/>
            <a:ext cx="35049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ike to play basketball with my father and brother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4099" descr="pingpo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4100"/>
          <p:cNvSpPr/>
          <p:nvPr/>
        </p:nvSpPr>
        <p:spPr>
          <a:xfrm>
            <a:off x="1981080" y="152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ike to play ping-p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5123" descr="ki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5126"/>
          <p:cNvSpPr/>
          <p:nvPr/>
        </p:nvSpPr>
        <p:spPr>
          <a:xfrm>
            <a:off x="1981080" y="6094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5127"/>
          <p:cNvSpPr/>
          <p:nvPr/>
        </p:nvSpPr>
        <p:spPr>
          <a:xfrm>
            <a:off x="2286000" y="3049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ike to play with my doll and my skipping ro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6147" descr="d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6148"/>
          <p:cNvSpPr/>
          <p:nvPr/>
        </p:nvSpPr>
        <p:spPr>
          <a:xfrm>
            <a:off x="4343400" y="7621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114800" y="457200"/>
            <a:ext cx="40384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like to play on the compu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sk and 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 do you like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o you like to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 do you wan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’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 go to the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 like to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 want to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how me, ple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ing a s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do you like to do? E-I-E-I-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 like to play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. E-I-E-I-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lay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, play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lay, play, play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do you like to do? E-I-E-I-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Arial"/>
              </a:rPr>
              <a:t>(basketball / ping-pong 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c00ff"/>
                </a:solidFill>
                <a:latin typeface="Arial"/>
              </a:rPr>
              <a:t>with a doll /  on the comput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3:41:52Z</dcterms:created>
  <dc:creator/>
  <dc:description/>
  <cp:keywords/>
  <dc:language>en-US</dc:language>
  <cp:lastModifiedBy>微软用户</cp:lastModifiedBy>
  <dcterms:modified xsi:type="dcterms:W3CDTF">2016-04-28T06:11:42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NXTAG2">
    <vt:lpwstr>0008009a04000000000001024120</vt:lpwstr>
  </property>
</Properties>
</file>