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16C-5485-41E2-9DB7-360F0790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18E-0D8F-4F42-BDCD-51F1AE04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213-1349-4079-A28B-D1395D90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C68-F2FC-405A-961B-97590FC8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0E1-8CB0-4137-B822-208B0C7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FFC-E7E0-477A-AF87-7B11F8A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78F-078B-47DE-B564-D8EB95B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797-F351-4507-929A-5105F099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1D2-3ABB-453D-8DB5-1AC39E7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E8E-FE46-4D23-A071-4F6F0AA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9E8-6BBA-484D-B1D0-6F42E64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4A8-1C48-4B42-A923-B6B1B3C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A855-3BFC-4D2D-A7F4-81A846269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Class  begins!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Are  You  Ready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u=760408311,916432319&amp;fm=21&amp;gp=0"/>
          <p:cNvPicPr/>
          <p:nvPr/>
        </p:nvPicPr>
        <p:blipFill>
          <a:blip r:embed="rId1"/>
          <a:stretch/>
        </p:blipFill>
        <p:spPr>
          <a:xfrm>
            <a:off x="914400" y="137160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Matthew Hall&amp;Meagan Moore-When Christmas Comes To Town.mp3" descr=""/>
          <p:cNvPicPr/>
          <p:nvPr/>
        </p:nvPicPr>
        <p:blipFill>
          <a:blip r:embed="rId2"/>
          <a:stretch/>
        </p:blipFill>
        <p:spPr>
          <a:xfrm>
            <a:off x="1066680" y="1695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790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ittle  Stage(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微剧场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447920" y="2057400"/>
            <a:ext cx="6248160" cy="1893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37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ffff00"/>
                </a:solidFill>
                <a:latin typeface="Times New Roman"/>
              </a:rPr>
              <a:t>Let's Chant</a:t>
            </a:r>
            <a:endParaRPr b="0" lang="en-US" sz="7200" spc="1" strike="noStrike">
              <a:ln w="0">
                <a:noFill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6" descr="u=715863630,1736310747&amp;fm=21&amp;gp=0"/>
          <p:cNvPicPr/>
          <p:nvPr/>
        </p:nvPicPr>
        <p:blipFill>
          <a:blip r:embed="rId1"/>
          <a:stretch/>
        </p:blipFill>
        <p:spPr>
          <a:xfrm>
            <a:off x="990720" y="3352680"/>
            <a:ext cx="723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做练习册第五课</a:t>
            </a: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2.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和对子互相读课文并表演本节课对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3.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按照所给预习方法预习第六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u=1832097796,1301828377&amp;fm=21&amp;gp=0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riting  Ti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u=3337774940,454283967&amp;fm=21&amp;gp=0"/>
          <p:cNvPicPr/>
          <p:nvPr/>
        </p:nvPicPr>
        <p:blipFill>
          <a:blip r:embed="rId2"/>
          <a:stretch/>
        </p:blipFill>
        <p:spPr>
          <a:xfrm>
            <a:off x="0" y="4762440"/>
            <a:ext cx="6400800" cy="2095560"/>
          </a:xfrm>
          <a:prstGeom prst="rect">
            <a:avLst/>
          </a:prstGeom>
          <a:ln w="0">
            <a:noFill/>
          </a:ln>
        </p:spPr>
      </p:pic>
      <p:sp>
        <p:nvSpPr>
          <p:cNvPr id="47" name="WordArt 9"/>
          <p:cNvSpPr txBox="1"/>
          <p:nvPr/>
        </p:nvSpPr>
        <p:spPr>
          <a:xfrm>
            <a:off x="457200" y="1523880"/>
            <a:ext cx="8686800" cy="22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Your  writing pose?                         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09480" y="1066680"/>
            <a:ext cx="80773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Capital  letter first!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首字母要大写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Keep one “a”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单词之间有距离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ⅲ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Letters no separation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单词里的字母不分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Symbols at the tails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句尾加标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u=2715804035,1539539294&amp;fm=21&amp;gp=0"/>
          <p:cNvPicPr/>
          <p:nvPr/>
        </p:nvPicPr>
        <p:blipFill>
          <a:blip r:embed="rId1"/>
          <a:stretch/>
        </p:blipFill>
        <p:spPr>
          <a:xfrm>
            <a:off x="0" y="1295280"/>
            <a:ext cx="236232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685800" y="2362320"/>
            <a:ext cx="8096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Be  Happy  to  Sing and Dance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53" name="Picture 7" descr="u=4053058387,2288462766&amp;fm=21&amp;gp=0"/>
          <p:cNvPicPr/>
          <p:nvPr/>
        </p:nvPicPr>
        <p:blipFill>
          <a:blip r:embed="rId2"/>
          <a:stretch/>
        </p:blipFill>
        <p:spPr>
          <a:xfrm>
            <a:off x="7010280" y="3505320"/>
            <a:ext cx="213372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u=3078451696,272619119&amp;fm=23&amp;gp=0"/>
          <p:cNvPicPr/>
          <p:nvPr/>
        </p:nvPicPr>
        <p:blipFill>
          <a:blip r:embed="rId3"/>
          <a:stretch/>
        </p:blipFill>
        <p:spPr>
          <a:xfrm>
            <a:off x="2895480" y="40384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u=381073106,1343590028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1  Hello Ag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esson 5  Where Is Dann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earning  A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can listen and say: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ehind, he, s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ⅱ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We  can ask, answer and us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is a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se 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/she  is  wear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Difficulties  S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My  preview  mar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ir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ook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ranslate and show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u=1875152738,3210634846&amp;fm=21&amp;gp=0"/>
          <p:cNvPicPr/>
          <p:nvPr/>
        </p:nvPicPr>
        <p:blipFill>
          <a:blip r:embed="rId1"/>
          <a:stretch/>
        </p:blipFill>
        <p:spPr>
          <a:xfrm>
            <a:off x="6248520" y="838080"/>
            <a:ext cx="1523880" cy="209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u=3589576318,3863253490&amp;fm=23&amp;gp=0"/>
          <p:cNvPicPr/>
          <p:nvPr/>
        </p:nvPicPr>
        <p:blipFill>
          <a:blip r:embed="rId2"/>
          <a:stretch/>
        </p:blipFill>
        <p:spPr>
          <a:xfrm>
            <a:off x="1600200" y="990720"/>
            <a:ext cx="150984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eyes?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ears?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ook  and  listen  carefully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u=1786015335,1383363515&amp;fm=21&amp;gp=0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et’s Rea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Read by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yourself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nd with  your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artners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=970769540,4005408909&amp;fm=21&amp;gp=0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24T01:57:1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