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11.gif" ContentType="image/gif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chimes.wav" ContentType="audio/x-wav"/>
  <Override PartName="/ppt/media/image6.jpeg" ContentType="image/jpeg"/>
  <Override PartName="/ppt/media/applause.wav" ContentType="audio/x-wav"/>
  <Override PartName="/ppt/media/camera.wav" ContentType="audio/x-wav"/>
  <Override PartName="/ppt/media/image7.jpeg" ContentType="image/jpeg"/>
  <Override PartName="/ppt/media/image5.gif" ContentType="image/gif"/>
  <Override PartName="/ppt/media/image10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0FC5-1860-43F4-9B36-E512E421A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E73A-4E1D-412F-9756-7F68E59878D4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7AF8-4DF4-45CD-97DD-45AA58CF1821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C483-6F43-476C-A585-F0AE660C440F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22A8-F660-4C26-A256-D732DEDEE474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CDC-6403-465C-89EE-DC67B422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CB0-18FA-459E-8E22-D4DF5A76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AAF-5FD1-48AC-A1D1-8AAAD843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376-03B7-4491-B711-503C366B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751C-D1A5-4D0A-8D5B-45D98CE5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90CC-312D-487F-B745-0AFC7E0B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8DDF-74AE-4EAC-94FC-4187EBB6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F86E-BE4A-41F9-9CC9-1D5C6211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A995-EE4E-4766-A3FF-F970C907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FF45-8DE2-4D08-983A-3E1EA920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63C7-6603-4126-B03A-629F6247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E86-D8A6-46EC-B79D-B6095B3D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12EA-ACC6-4B07-8A59-010D2B1C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5E4D-BB7F-47DE-AB9F-BF637F3B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890F-EE39-4C08-8CCB-22933553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F05C-2DAA-4A7C-81EF-22B6FBDE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A04C-1E4E-4D46-A1B1-7F7CBF8B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E2B-8E6E-4FED-998E-19B66091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310-CB96-4EDA-91B0-E14D47C6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695-E46C-4DB2-901B-949B4E0F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D1E9-61A8-477E-9B75-D20990E2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A86-4535-4345-80D7-26CC2569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F40-CB31-479C-80D4-21014A33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FE7-7E45-4618-A067-4FE22491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84E6-313A-42D9-B162-E87E0CA58E7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A9DA-B2BF-4F99-B03D-1086CBC1CAA2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彩虹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新感觉"/>
          <p:cNvPicPr/>
          <p:nvPr/>
        </p:nvPicPr>
        <p:blipFill>
          <a:blip r:embed="rId3"/>
          <a:stretch/>
        </p:blipFill>
        <p:spPr>
          <a:xfrm>
            <a:off x="0" y="0"/>
            <a:ext cx="9144000" cy="3284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1680" y="2332080"/>
            <a:ext cx="854064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Do the activity book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Page 8, part 4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9" name="Picture 7" descr="logo0445"/>
          <p:cNvPicPr/>
          <p:nvPr/>
        </p:nvPicPr>
        <p:blipFill>
          <a:blip r:embed="rId2"/>
          <a:stretch/>
        </p:blipFill>
        <p:spPr>
          <a:xfrm>
            <a:off x="324000" y="260280"/>
            <a:ext cx="2952720" cy="12016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468360" y="404640"/>
            <a:ext cx="24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Exercise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2627280" y="2924280"/>
            <a:ext cx="72072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4a"/>
          <p:cNvPicPr/>
          <p:nvPr/>
        </p:nvPicPr>
        <p:blipFill>
          <a:blip r:embed="rId2"/>
          <a:stretch/>
        </p:blipFill>
        <p:spPr>
          <a:xfrm>
            <a:off x="0" y="0"/>
            <a:ext cx="2438280" cy="2454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340000" y="1125360"/>
            <a:ext cx="46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Arial"/>
              </a:rPr>
              <a:t>Homework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39640" y="270828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1.Listen to the tape and follow along.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听录音，模仿跟读。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2.Make a dialogue.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仿照课文创编对话。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wefr"/>
          <p:cNvPicPr/>
          <p:nvPr/>
        </p:nvPicPr>
        <p:blipFill>
          <a:blip r:embed="rId2"/>
          <a:stretch/>
        </p:blipFill>
        <p:spPr>
          <a:xfrm>
            <a:off x="1692360" y="2708280"/>
            <a:ext cx="5975280" cy="36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2184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"/>
              </a:rPr>
              <a:t>Lesson 2: 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3399"/>
                </a:solidFill>
                <a:latin typeface="Arial"/>
              </a:rPr>
              <a:t>Is This Your Pencil?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WordArt 20"/>
          <p:cNvSpPr txBox="1"/>
          <p:nvPr/>
        </p:nvSpPr>
        <p:spPr>
          <a:xfrm>
            <a:off x="539640" y="189000"/>
            <a:ext cx="468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冀教版四年级英语下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086520" y="404640"/>
            <a:ext cx="15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c0c0"/>
                </a:solidFill>
                <a:latin typeface="Arial"/>
              </a:rPr>
              <a:t>Unit 1</a:t>
            </a:r>
            <a:r>
              <a:rPr b="1" lang="en-US" sz="28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468360" y="333360"/>
            <a:ext cx="26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60093"/>
                </a:solidFill>
                <a:latin typeface="Times New Roman"/>
              </a:rPr>
              <a:t>Let’s say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11280" y="1700280"/>
            <a:ext cx="5040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This is </a:t>
            </a:r>
            <a:r>
              <a:rPr b="1" lang="en-US" sz="3600" spc="-1" strike="noStrike" u="sng">
                <a:solidFill>
                  <a:srgbClr val="007a77"/>
                </a:solidFill>
                <a:uFillTx/>
                <a:latin typeface="Times New Roman"/>
              </a:rPr>
              <a:t>Lily</a:t>
            </a:r>
            <a:r>
              <a:rPr b="0" lang="en-US" sz="36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7a77"/>
                </a:solidFill>
                <a:uFillTx/>
                <a:latin typeface="Times New Roman"/>
              </a:rPr>
              <a:t>She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 is a </a:t>
            </a:r>
            <a:r>
              <a:rPr b="1" lang="en-US" sz="3600" spc="-1" strike="noStrike" u="sng">
                <a:solidFill>
                  <a:srgbClr val="007a77"/>
                </a:solidFill>
                <a:uFillTx/>
                <a:latin typeface="Times New Roman"/>
              </a:rPr>
              <a:t>girl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7a77"/>
                </a:solidFill>
                <a:uFillTx/>
                <a:latin typeface="Times New Roman"/>
              </a:rPr>
              <a:t>She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 is my friend.     Lily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5" name="Picture 10" descr="smiling"/>
          <p:cNvPicPr/>
          <p:nvPr/>
        </p:nvPicPr>
        <p:blipFill>
          <a:blip r:embed="rId2"/>
          <a:stretch/>
        </p:blipFill>
        <p:spPr>
          <a:xfrm>
            <a:off x="5796000" y="3500280"/>
            <a:ext cx="14400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468360" y="18900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Let’s learn</a:t>
            </a:r>
            <a:r>
              <a:rPr b="0" lang="en-US" sz="6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" name="Picture 10" descr="smiling"/>
          <p:cNvPicPr/>
          <p:nvPr/>
        </p:nvPicPr>
        <p:blipFill>
          <a:blip r:embed="rId2"/>
          <a:stretch/>
        </p:blipFill>
        <p:spPr>
          <a:xfrm>
            <a:off x="6948360" y="333360"/>
            <a:ext cx="1368720" cy="1197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2"/>
          <p:cNvSpPr/>
          <p:nvPr/>
        </p:nvSpPr>
        <p:spPr>
          <a:xfrm>
            <a:off x="611280" y="6308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572000" y="4221000"/>
            <a:ext cx="273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6600" spc="-1" strike="noStrike">
                <a:solidFill>
                  <a:srgbClr val="007a77"/>
                </a:solidFill>
                <a:latin typeface="Arial"/>
              </a:rPr>
              <a:t>r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6600" spc="-1" strike="noStrike">
                <a:solidFill>
                  <a:srgbClr val="007a77"/>
                </a:solidFill>
                <a:latin typeface="Arial"/>
              </a:rPr>
              <a:t>ser.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0" name="Picture 33" descr="文具"/>
          <p:cNvPicPr/>
          <p:nvPr/>
        </p:nvPicPr>
        <p:blipFill>
          <a:blip r:embed="rId3"/>
          <a:stretch/>
        </p:blipFill>
        <p:spPr>
          <a:xfrm>
            <a:off x="1908000" y="1557360"/>
            <a:ext cx="4608720" cy="223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4" descr="图片11"/>
          <p:cNvPicPr/>
          <p:nvPr/>
        </p:nvPicPr>
        <p:blipFill>
          <a:blip r:embed="rId4"/>
          <a:stretch/>
        </p:blipFill>
        <p:spPr>
          <a:xfrm>
            <a:off x="2771640" y="2060640"/>
            <a:ext cx="2880000" cy="14396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5"/>
          <p:cNvSpPr/>
          <p:nvPr/>
        </p:nvSpPr>
        <p:spPr>
          <a:xfrm>
            <a:off x="1835280" y="4292640"/>
            <a:ext cx="27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a77"/>
                </a:solidFill>
                <a:latin typeface="Arial"/>
              </a:rPr>
              <a:t>It’s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an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ircle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468360" y="18900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Let’s learn</a:t>
            </a:r>
            <a:r>
              <a:rPr b="0" lang="en-US" sz="6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4" name="Picture 4" descr="smiling"/>
          <p:cNvPicPr/>
          <p:nvPr/>
        </p:nvPicPr>
        <p:blipFill>
          <a:blip r:embed="rId2"/>
          <a:stretch/>
        </p:blipFill>
        <p:spPr>
          <a:xfrm>
            <a:off x="6948360" y="333360"/>
            <a:ext cx="1368720" cy="1197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468360" y="6237360"/>
            <a:ext cx="84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11280" y="6308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195640" y="4172040"/>
            <a:ext cx="183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1187280" y="155736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9" name="Picture 47" descr="u=245696260,3681808726&amp;fm=51&amp;gp=0"/>
          <p:cNvPicPr/>
          <p:nvPr/>
        </p:nvPicPr>
        <p:blipFill>
          <a:blip r:embed="rId3"/>
          <a:srcRect l="0" t="31080" r="0" b="37750"/>
          <a:stretch/>
        </p:blipFill>
        <p:spPr>
          <a:xfrm>
            <a:off x="3492360" y="2205000"/>
            <a:ext cx="2394000" cy="79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9" descr="u=245696260,3681808726&amp;fm=51&amp;gp=0"/>
          <p:cNvPicPr/>
          <p:nvPr/>
        </p:nvPicPr>
        <p:blipFill>
          <a:blip r:embed="rId4"/>
          <a:srcRect l="0" t="0" r="0" b="68942"/>
          <a:stretch/>
        </p:blipFill>
        <p:spPr>
          <a:xfrm>
            <a:off x="3492360" y="1557360"/>
            <a:ext cx="2394000" cy="64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0" descr="u=245696260,3681808726&amp;fm=51&amp;gp=0"/>
          <p:cNvPicPr/>
          <p:nvPr/>
        </p:nvPicPr>
        <p:blipFill>
          <a:blip r:embed="rId5"/>
          <a:srcRect l="0" t="62272" r="0" b="0"/>
          <a:stretch/>
        </p:blipFill>
        <p:spPr>
          <a:xfrm>
            <a:off x="3492360" y="2997360"/>
            <a:ext cx="2394000" cy="826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4"/>
          <p:cNvSpPr/>
          <p:nvPr/>
        </p:nvSpPr>
        <p:spPr>
          <a:xfrm>
            <a:off x="4643280" y="4076640"/>
            <a:ext cx="187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a77"/>
                </a:solidFill>
                <a:latin typeface="Arial"/>
              </a:rPr>
              <a:t>g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lu</a:t>
            </a:r>
            <a:r>
              <a:rPr b="0" lang="en-US" sz="6600" spc="-1" strike="noStrike">
                <a:solidFill>
                  <a:srgbClr val="007a77"/>
                </a:solidFill>
                <a:latin typeface="Arial"/>
              </a:rPr>
              <a:t>e.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55"/>
          <p:cNvSpPr/>
          <p:nvPr/>
        </p:nvSpPr>
        <p:spPr>
          <a:xfrm>
            <a:off x="3203640" y="4149720"/>
            <a:ext cx="15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a77"/>
                </a:solidFill>
                <a:latin typeface="Arial"/>
              </a:rPr>
              <a:t>It’s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ircle/>
    <p:sndAc>
      <p:stSnd>
        <p:snd r:embed="rId6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 rot="356400">
            <a:off x="0" y="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686000"/>
                </a:gradFill>
                <a:latin typeface="宋体"/>
              </a:rPr>
              <a:t>Pairs 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686000"/>
              </a:gradFill>
              <a:latin typeface="宋体"/>
              <a:ea typeface="宋体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11280" y="1844640"/>
            <a:ext cx="7561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A: Is it your ---?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B: Yes , it is. It’s my ---.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No, it isn’t. It’s not my --.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1763640" y="5805360"/>
            <a:ext cx="5919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Is this / that 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/an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79280" y="119700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7a77"/>
                </a:solidFill>
                <a:latin typeface="Arial"/>
              </a:rPr>
              <a:t>Whose pencil is this?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324000" y="2205000"/>
            <a:ext cx="691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7a77"/>
                </a:solidFill>
                <a:latin typeface="Arial"/>
              </a:rPr>
              <a:t>It’s ___ pencil.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68360" y="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0093"/>
                </a:solidFill>
                <a:latin typeface="Arial"/>
              </a:rPr>
              <a:t>Let’s listen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3132000" y="3429000"/>
            <a:ext cx="266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. Jenny ‘s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B. Steven’s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C. Kim’s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D. Danny’s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340000" y="2492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amera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900000" y="4941720"/>
            <a:ext cx="990720" cy="106704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900000" y="3573360"/>
            <a:ext cx="990720" cy="106704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50920" y="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Times New Roman"/>
              </a:rPr>
              <a:t>Listen and number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268360" y="2276640"/>
            <a:ext cx="5442120" cy="10321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: Is it Kim’s pencil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: No. It’s not her pencil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411280" y="3645000"/>
            <a:ext cx="5975640" cy="10321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: Is this your pencil, Jenny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: No, Mr. Wood. It’s not my pencil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484360" y="4941720"/>
            <a:ext cx="4824360" cy="10321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: Is it Steven’s pencil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: No, it’s not Steven’s pencil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826920" y="981000"/>
            <a:ext cx="990720" cy="106704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116000" y="3645000"/>
            <a:ext cx="52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a77"/>
                </a:solidFill>
                <a:latin typeface="Times New Roman"/>
              </a:rPr>
              <a:t>1</a:t>
            </a:r>
            <a:endParaRPr b="0" lang="en-US" sz="5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1116000" y="5013360"/>
            <a:ext cx="527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a77"/>
                </a:solidFill>
                <a:latin typeface="Times New Roman"/>
              </a:rPr>
              <a:t>2</a:t>
            </a:r>
            <a:endParaRPr b="0" lang="en-US" sz="5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826920" y="2276640"/>
            <a:ext cx="990720" cy="106668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340000" y="981000"/>
            <a:ext cx="5441760" cy="10321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: Is it Danny’s pencil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: Yes, it ’s his pencil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1042920" y="2421000"/>
            <a:ext cx="457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a77"/>
                </a:solidFill>
                <a:latin typeface="Times New Roman"/>
              </a:rPr>
              <a:t>3</a:t>
            </a:r>
            <a:endParaRPr b="0" lang="en-US" sz="5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116000" y="1052640"/>
            <a:ext cx="50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a77"/>
                </a:solidFill>
                <a:latin typeface="Times New Roman"/>
              </a:rPr>
              <a:t>4</a:t>
            </a:r>
            <a:endParaRPr b="0" lang="en-US" sz="5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amera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logo0445"/>
          <p:cNvPicPr/>
          <p:nvPr/>
        </p:nvPicPr>
        <p:blipFill>
          <a:blip r:embed="rId2"/>
          <a:stretch/>
        </p:blipFill>
        <p:spPr>
          <a:xfrm>
            <a:off x="871560" y="404640"/>
            <a:ext cx="2952720" cy="12020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58760" y="2131560"/>
            <a:ext cx="725976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ind the owner 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找失主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: Is it xx’s ____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？</a:t>
            </a:r>
            <a:r>
              <a:rPr b="1" i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: Yes. It’s his / her ____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No. It’s not his / her ___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042920" y="549360"/>
            <a:ext cx="24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et’s play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5:22:39Z</dcterms:created>
  <dc:creator/>
  <dc:description/>
  <dc:language>en-US</dc:language>
  <cp:lastModifiedBy>微软用户</cp:lastModifiedBy>
  <dcterms:modified xsi:type="dcterms:W3CDTF">2016-04-24T13:00:28Z</dcterms:modified>
  <cp:revision>15</cp:revision>
  <dc:subject/>
  <dc:title>幻灯片 1</dc:title>
</cp:coreProperties>
</file>