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applause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7F7-5E1F-4999-B5B3-063C7804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BDB-F7D9-46A2-9F44-FF41CDD7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E697-B72C-4B65-B266-6FFE9743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D580-2657-4245-BEEA-FEF361AC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8CB8-D17B-4BE7-B960-38F53E3E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3B82-32C9-48E7-B4B4-B313AE07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3B6C-7D34-4F2D-ACD4-685F32EB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038A-BBCC-4AE7-8781-FA3BD013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4F8F-0A0C-4BD0-8952-0FE3E4FF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4F1-5C9B-411D-BE18-DF0CDA18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F6E-29DF-461D-B9CE-E0CAC730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B12-D0A6-4E30-8DDB-96181D36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046B-4C19-4AD8-908D-EA6288707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332000" y="2060640"/>
            <a:ext cx="66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Lesson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258920" y="3860640"/>
            <a:ext cx="69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How  Many Books Are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067280" y="2133720"/>
            <a:ext cx="458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39640" y="69228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冀教版四年级英语下册课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651640" y="549000"/>
            <a:ext cx="3241440" cy="52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How  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erasers do I h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You  have fourteen eras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1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485960" cy="5808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组合作练习，展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How  many …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There ar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1" name="chimes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1403280" y="1700280"/>
            <a:ext cx="55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学习课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68360" y="4762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611280" y="184464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0" y="1916640"/>
            <a:ext cx="766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</a:t>
            </a: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boy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n our classro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irl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n our classro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teacher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n our classro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179280" y="620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5. 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扩展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1476360" y="1916280"/>
            <a:ext cx="5904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ank you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trips dir="rd"/>
    <p:sndAc>
      <p:stSnd>
        <p:snd r:embed="rId3" name="applause.wav"/>
      </p:stSnd>
    </p:sndAc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0" y="90792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1.Greetin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2.Freetal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3.Review (</a:t>
            </a:r>
            <a:r>
              <a:rPr b="0" lang="zh-CN" sz="4400" spc="-1" strike="noStrike">
                <a:solidFill>
                  <a:srgbClr val="cc0099"/>
                </a:solidFill>
                <a:latin typeface="Arial"/>
              </a:rPr>
              <a:t>词汇</a:t>
            </a: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cc0099"/>
                </a:solidFill>
                <a:latin typeface="Arial"/>
              </a:rPr>
              <a:t>方位介词</a:t>
            </a: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cc0099"/>
                </a:solidFill>
                <a:latin typeface="Arial"/>
              </a:rPr>
              <a:t>数字</a:t>
            </a: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6836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1 :class opening and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249720" y="907920"/>
            <a:ext cx="45864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11280" y="126828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Arial"/>
              </a:rPr>
              <a:t>Step 2. Numb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  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  tw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  th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   f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  f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   si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   sev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   e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   n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 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  el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  twel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  thir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  four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  fif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  six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7  seven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  eigh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  nine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  twen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95280" y="33300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   thir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   for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   fif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   six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0   seven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0   eigh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0   nine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  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one  hund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找规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13-19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数字结尾加 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整十结尾加 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几十几就是整十加个位数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发音，十几后为长音，几十后为短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6"/>
          <p:cNvSpPr/>
          <p:nvPr/>
        </p:nvSpPr>
        <p:spPr>
          <a:xfrm>
            <a:off x="1116000" y="2637000"/>
            <a:ext cx="6120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250920" y="2349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Seven d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611280" y="39337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Twelve  mon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468360" y="3141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any months  in a y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-181080" y="1557360"/>
            <a:ext cx="69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any days  in a wee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250920" y="33336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3.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7"/>
          <p:cNvSpPr/>
          <p:nvPr/>
        </p:nvSpPr>
        <p:spPr>
          <a:xfrm>
            <a:off x="1547640" y="1413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There are twelve penc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0" y="260280"/>
            <a:ext cx="76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How  many pencils are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1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7989840" cy="3789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43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How  many books are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There are twelve boo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1" descr=""/>
          <p:cNvPicPr/>
          <p:nvPr/>
        </p:nvPicPr>
        <p:blipFill>
          <a:blip r:embed="rId1"/>
          <a:stretch/>
        </p:blipFill>
        <p:spPr>
          <a:xfrm>
            <a:off x="4788000" y="549360"/>
            <a:ext cx="3752640" cy="5761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03:34:26Z</dcterms:created>
  <dc:creator>微软用户</dc:creator>
  <dc:description/>
  <cp:keywords/>
  <dc:language>en-US</dc:language>
  <cp:lastModifiedBy>微软用户</cp:lastModifiedBy>
  <dcterms:modified xsi:type="dcterms:W3CDTF">2016-04-25T12:13:36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