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37.gif" ContentType="image/gif"/>
  <Override PartName="/ppt/media/image28.jpeg" ContentType="image/jpeg"/>
  <Override PartName="/ppt/media/image26.gif" ContentType="image/gif"/>
  <Override PartName="/ppt/media/image20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19.jpeg" ContentType="image/jpeg"/>
  <Override PartName="/ppt/media/image25.png" ContentType="image/png"/>
  <Override PartName="/ppt/media/image1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34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13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BDA-B4BE-4B00-99D4-81C22439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C58-8CD2-4E87-864E-AC4C4C04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F0F-801D-4C1B-AAA9-F254A7E0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B46-B8D5-420D-9F3C-7BCBAB24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78A-6DB9-4503-AEC2-C0F20DD5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434-51FD-47F1-AA93-3D17A404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0E7-2C86-499B-9351-DBA15AFC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439-ACE4-42B0-B6DA-9310F01E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491-82AF-4B2E-B523-4826574F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472-8A17-43A9-93DF-EC52FF1B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00D-5521-4BBE-938C-EA38D8C2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32C-76FF-40DE-BC45-D9F0E687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D7A6-1732-48D1-9C08-61744BACC6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image" Target="../media/image34.jpeg"/><Relationship Id="rId9" Type="http://schemas.openxmlformats.org/officeDocument/2006/relationships/image" Target="../media/image29.jpeg"/><Relationship Id="rId10" Type="http://schemas.openxmlformats.org/officeDocument/2006/relationships/hyperlink" Target="file:///tmp/home/.config/libreoffice/4/user/gallery/007.wav" TargetMode="External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image" Target="../media/image34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gi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2133720"/>
            <a:ext cx="54889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Module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My favourite th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3333cc"/>
                </a:solidFill>
                <a:latin typeface="Arial"/>
              </a:rPr>
              <a:t>Unit 2 My toy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57360" y="549360"/>
            <a:ext cx="31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沪教牛津   四年级英语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635280" y="55897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908000" y="429264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908000" y="537372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908000" y="321300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908000" y="98100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1908000" y="2133720"/>
            <a:ext cx="1224000" cy="100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4360" y="26028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Task 2: How do you choose your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2200" y="242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94360" y="1289160"/>
            <a:ext cx="1310040" cy="4832280"/>
            <a:chOff x="594360" y="1289160"/>
            <a:chExt cx="1310040" cy="4832280"/>
          </a:xfrm>
        </p:grpSpPr>
        <p:sp>
          <p:nvSpPr>
            <p:cNvPr id="120" name=""/>
            <p:cNvSpPr/>
            <p:nvPr/>
          </p:nvSpPr>
          <p:spPr>
            <a:xfrm>
              <a:off x="665640" y="128916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r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5280" y="2440080"/>
              <a:ext cx="105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kac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4560" y="3592440"/>
              <a:ext cx="88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zz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4200" y="46735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pp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4360" y="5753160"/>
              <a:ext cx="13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auty 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76360" y="1125360"/>
            <a:ext cx="6264360" cy="4535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8400" y="163440"/>
            <a:ext cx="47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ask 2: How do you choose your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835280" y="4581360"/>
            <a:ext cx="936360" cy="873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835280" y="5589720"/>
            <a:ext cx="936360" cy="81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835280" y="3573360"/>
            <a:ext cx="936360" cy="870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835280" y="1484280"/>
            <a:ext cx="936360" cy="892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835280" y="2565360"/>
            <a:ext cx="936360" cy="878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55640" y="26028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Task 2: How do you choose your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717440" y="1700280"/>
            <a:ext cx="1300320" cy="4419000"/>
            <a:chOff x="4717440" y="1700280"/>
            <a:chExt cx="1300320" cy="4419000"/>
          </a:xfrm>
        </p:grpSpPr>
        <p:sp>
          <p:nvSpPr>
            <p:cNvPr id="135" name=""/>
            <p:cNvSpPr/>
            <p:nvPr/>
          </p:nvSpPr>
          <p:spPr>
            <a:xfrm>
              <a:off x="4717800" y="364356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rubb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8520" y="2708640"/>
              <a:ext cx="95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g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17440" y="465156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w_ _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18520" y="170028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_ _as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17800" y="565956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_ _o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843280" y="1844640"/>
            <a:ext cx="1942920" cy="1079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3280" y="2852640"/>
            <a:ext cx="1942920" cy="1008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3933720"/>
            <a:ext cx="1871640" cy="936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4941720"/>
            <a:ext cx="1871640" cy="935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5280" y="5708520"/>
            <a:ext cx="25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close    clap    c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16720" y="566100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 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4724280"/>
            <a:ext cx="167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woof  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3080" y="4653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609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43280" y="1989000"/>
            <a:ext cx="1871640" cy="3888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72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55280" y="1700280"/>
            <a:ext cx="26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plane    place   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6160" y="836640"/>
            <a:ext cx="69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’s the … made of?     It’s made of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912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2200" y="163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6520" y="17002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8512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ka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440" y="386064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zz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4797360"/>
            <a:ext cx="9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p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5805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uty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1295640" cy="1150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116000" y="1268280"/>
            <a:ext cx="1297080" cy="1152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132000" y="981000"/>
            <a:ext cx="1295640" cy="1152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804000" y="1197000"/>
            <a:ext cx="1297080" cy="1122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4932360" y="5229360"/>
            <a:ext cx="1297080" cy="1120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1297080" cy="1152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7524720" y="2924280"/>
            <a:ext cx="1295280" cy="115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611280" y="2924280"/>
            <a:ext cx="1295280" cy="115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6877080" y="4581360"/>
            <a:ext cx="1006560" cy="1741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48240" y="182520"/>
            <a:ext cx="47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Task 2: How do you choose your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5003640" y="981000"/>
            <a:ext cx="1295640" cy="1152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16360" y="278136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like th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t is made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86000" y="2368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¥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452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¥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4880" y="213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¥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21800" y="227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¥  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77640" y="40971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¥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74360" y="6329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¥ 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50520" y="63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¥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9800" y="6308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¥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78880" y="5661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¥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3800" y="40053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¥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12040" y="35733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think it’s goo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o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/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u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5640" y="42926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t is cheap/ d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03184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9320" y="111240"/>
            <a:ext cx="47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ask 2: How do you choose your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332000" y="1125360"/>
            <a:ext cx="6480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2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3492360" cy="4968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971640" y="2349360"/>
            <a:ext cx="2808360" cy="3095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05320" y="255600"/>
            <a:ext cx="47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Task 2: How do you choose your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09480" y="2637000"/>
            <a:ext cx="411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t’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angerou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for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nder 3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09840" y="3789360"/>
            <a:ext cx="41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t’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af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for children ab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067280" y="2924280"/>
            <a:ext cx="475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China Compulsory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C C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强制认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284720" y="3284640"/>
            <a:ext cx="2736360" cy="503280"/>
            <a:chOff x="4284720" y="3284640"/>
            <a:chExt cx="2736360" cy="503280"/>
          </a:xfrm>
        </p:grpSpPr>
        <p:sp>
          <p:nvSpPr>
            <p:cNvPr id="195" name=""/>
            <p:cNvSpPr/>
            <p:nvPr/>
          </p:nvSpPr>
          <p:spPr>
            <a:xfrm>
              <a:off x="4284720" y="3284640"/>
              <a:ext cx="1512720" cy="503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48360" y="3284640"/>
              <a:ext cx="1008000" cy="431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589440" y="3284640"/>
              <a:ext cx="431640" cy="431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897480" y="333360"/>
            <a:ext cx="47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Task 2: How do you choose your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600360" cy="4826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900000" y="2565360"/>
            <a:ext cx="29512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336680" y="1125360"/>
            <a:ext cx="42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I buy the toy becaus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258920" y="1989000"/>
            <a:ext cx="6777000" cy="1878120"/>
            <a:chOff x="1258920" y="1989000"/>
            <a:chExt cx="6777000" cy="1878120"/>
          </a:xfrm>
        </p:grpSpPr>
        <p:sp>
          <p:nvSpPr>
            <p:cNvPr id="204" name=""/>
            <p:cNvSpPr/>
            <p:nvPr/>
          </p:nvSpPr>
          <p:spPr>
            <a:xfrm>
              <a:off x="1258920" y="1989000"/>
              <a:ext cx="6777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i="1" lang="zh-CN" sz="2400" spc="-1" strike="noStrike">
                  <a:solidFill>
                    <a:srgbClr val="333399"/>
                  </a:solidFill>
                  <a:latin typeface="Arial"/>
                </a:rPr>
                <a:t>it’s made of …(texture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i="1" lang="zh-CN" sz="2400" spc="-1" strike="noStrike">
                  <a:solidFill>
                    <a:srgbClr val="333399"/>
                  </a:solidFill>
                  <a:latin typeface="Arial"/>
                </a:rPr>
                <a:t>it’s safe / dangerous for...(safety mark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i="1" lang="zh-CN" sz="2400" spc="-1" strike="noStrike">
                  <a:solidFill>
                    <a:srgbClr val="333399"/>
                  </a:solidFill>
                  <a:latin typeface="Arial"/>
                </a:rPr>
                <a:t>it’s good for body/ brain/ fun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4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1" i="1" lang="zh-CN" sz="2400" spc="-1" strike="noStrike">
                  <a:solidFill>
                    <a:srgbClr val="333399"/>
                  </a:solidFill>
                  <a:latin typeface="Arial"/>
                </a:rPr>
                <a:t>func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i="1" lang="zh-CN" sz="2400" spc="-1" strike="noStrike">
                  <a:solidFill>
                    <a:srgbClr val="333399"/>
                  </a:solidFill>
                  <a:latin typeface="Arial"/>
                </a:rPr>
                <a:t>it’s cheap / dear.( pric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58920" y="3409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89320" y="111240"/>
            <a:ext cx="476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00"/>
                </a:solidFill>
                <a:latin typeface="Arial"/>
              </a:rPr>
              <a:t>Task 2: How do you choose your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69160" y="4292640"/>
            <a:ext cx="62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f we want to buy a toy, we should see its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xtur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afety mark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pric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now its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unction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1258920" y="1052640"/>
            <a:ext cx="6626160" cy="4752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1258920" y="1052640"/>
            <a:ext cx="6626160" cy="4752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1258920" y="1052640"/>
            <a:ext cx="6626160" cy="475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258920" y="1052640"/>
            <a:ext cx="6626160" cy="4752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1258920" y="1052640"/>
            <a:ext cx="6626160" cy="4752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1403280" y="1125360"/>
            <a:ext cx="6337440" cy="4535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1403280" y="1125360"/>
            <a:ext cx="6337440" cy="4535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6156360" y="404640"/>
            <a:ext cx="1971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Help her!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00000" y="765000"/>
            <a:ext cx="316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Help me!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218" name=""/>
          <p:cNvSpPr/>
          <p:nvPr/>
        </p:nvSpPr>
        <p:spPr>
          <a:xfrm>
            <a:off x="535320" y="115920"/>
            <a:ext cx="44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ask 3: How do you treat your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80360" y="5734080"/>
            <a:ext cx="17636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10"/>
          </p:cNvPr>
          <p:cNvSpPr/>
          <p:nvPr/>
        </p:nvSpPr>
        <p:spPr>
          <a:xfrm>
            <a:off x="7451640" y="5589720"/>
            <a:ext cx="1692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050920" y="981000"/>
            <a:ext cx="489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7880" y="111240"/>
            <a:ext cx="44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ask 3: How do you treat your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5160" y="3357720"/>
            <a:ext cx="652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y does the toy car c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     ) 1. Fanny likes him very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     ) 2. Fanny draws something on his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d leaves him at the cor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     ) 3. Fanny doesn’t play with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     ) 4. He is lon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     ) 5. He worries about Fanny’s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47640" y="3716280"/>
            <a:ext cx="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49440" y="414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49440" y="558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49440" y="486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47640" y="5229360"/>
            <a:ext cx="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547640" y="620640"/>
            <a:ext cx="1441800" cy="1106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3708360" y="62064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796000" y="62064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826920" y="1989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2556000" y="1989000"/>
            <a:ext cx="1441440" cy="1079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4500720" y="1916280"/>
            <a:ext cx="1441440" cy="1079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6659640" y="1916280"/>
            <a:ext cx="1439640" cy="1079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6227640" y="1844640"/>
            <a:ext cx="71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Help me!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667640" y="134136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Help her!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14920" y="4508640"/>
            <a:ext cx="2736720" cy="2076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346560" y="3645000"/>
            <a:ext cx="2736720" cy="210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714920" y="1989000"/>
            <a:ext cx="2736720" cy="208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346560" y="333360"/>
            <a:ext cx="2736720" cy="208908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1042920" y="2276640"/>
            <a:ext cx="1944720" cy="1726920"/>
            <a:chOff x="1042920" y="2276640"/>
            <a:chExt cx="1944720" cy="1726920"/>
          </a:xfrm>
        </p:grpSpPr>
        <p:sp>
          <p:nvSpPr>
            <p:cNvPr id="49" name=""/>
            <p:cNvSpPr/>
            <p:nvPr/>
          </p:nvSpPr>
          <p:spPr>
            <a:xfrm>
              <a:off x="1042920" y="2276640"/>
              <a:ext cx="100944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52360" y="2276640"/>
              <a:ext cx="91440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042920" y="3140280"/>
              <a:ext cx="1009440" cy="86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52360" y="3140280"/>
              <a:ext cx="935280" cy="86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493080" y="1916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61440" y="35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45640" y="517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61440" y="609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826920" y="62064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11592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ask 3: How do you treat your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87280" y="836640"/>
            <a:ext cx="698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I’m a toy car. I’m made of plastic. I’m g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for fun. Fanny likes me very mu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But some days later, she draws some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on my body. She leaves me at the corner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doesn’t play with me any more. She doesn’t like me now because I’m dirty. She plays Gameboy for a long time. But I think it’s not good for her eyes. I feel lonely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Please help me! Please help 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8604360" y="6192720"/>
            <a:ext cx="360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85344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136000" cy="5759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993040" y="2276640"/>
            <a:ext cx="3177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on’t 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on’t 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lease 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lease 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9160" y="182520"/>
            <a:ext cx="44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Task 3: How do you treat your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908000" y="2637000"/>
            <a:ext cx="547236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Arial"/>
              </a:rPr>
              <a:t>Don’t leave toys here and there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Arial"/>
              </a:rPr>
              <a:t>Don’t draw on the to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Arial"/>
              </a:rPr>
              <a:t>Don’t play Gameboy for a long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Arial"/>
              </a:rPr>
              <a:t>Please keep the toys cl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Arial"/>
              </a:rPr>
              <a:t>Please let the toys go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0040" y="235080"/>
            <a:ext cx="44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Task 3: How do you treat your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900000" y="549360"/>
            <a:ext cx="7417080" cy="61214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619280" y="4149720"/>
            <a:ext cx="637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Give the toys to the little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Exchange the toys with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Sell the toys to raise money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children who need help.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7880" y="255600"/>
            <a:ext cx="442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00"/>
                </a:solidFill>
                <a:latin typeface="Arial"/>
              </a:rPr>
              <a:t>Task 3: How do you treat your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264680" y="1292400"/>
            <a:ext cx="716076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33cc33"/>
                </a:solidFill>
                <a:latin typeface="Arial"/>
              </a:rPr>
              <a:t>Introduce one toy you like best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cc33"/>
                </a:solidFill>
                <a:latin typeface="Arial"/>
              </a:rPr>
              <a:t>     </a:t>
            </a:r>
            <a:r>
              <a:rPr b="1" i="1" lang="zh-CN" sz="2800" spc="-1" strike="noStrike">
                <a:solidFill>
                  <a:srgbClr val="33cc33"/>
                </a:solidFill>
                <a:latin typeface="Arial"/>
              </a:rPr>
              <a:t>your classm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cc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33cc33"/>
                </a:solidFill>
                <a:latin typeface="Arial"/>
              </a:rPr>
              <a:t>Exchange the toys you don’t like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cc33"/>
                </a:solidFill>
                <a:latin typeface="Arial"/>
              </a:rPr>
              <a:t>     </a:t>
            </a:r>
            <a:r>
              <a:rPr b="1" i="1" lang="zh-CN" sz="2800" spc="-1" strike="noStrike">
                <a:solidFill>
                  <a:srgbClr val="33cc33"/>
                </a:solidFill>
                <a:latin typeface="Arial"/>
              </a:rPr>
              <a:t>your  classm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cc3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cc33"/>
                </a:solidFill>
                <a:latin typeface="Arial"/>
              </a:rPr>
              <a:t>  </a:t>
            </a:r>
            <a:r>
              <a:rPr b="1" i="1" lang="zh-CN" sz="2800" spc="-1" strike="noStrike">
                <a:solidFill>
                  <a:srgbClr val="33cc33"/>
                </a:solidFill>
                <a:latin typeface="Arial"/>
              </a:rPr>
              <a:t>Try to participate in Haha Chari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cc33"/>
                </a:solidFill>
                <a:latin typeface="Arial"/>
              </a:rPr>
              <a:t>     </a:t>
            </a:r>
            <a:r>
              <a:rPr b="1" i="1" lang="zh-CN" sz="2800" spc="-1" strike="noStrike">
                <a:solidFill>
                  <a:srgbClr val="33cc33"/>
                </a:solidFill>
                <a:latin typeface="Arial"/>
              </a:rPr>
              <a:t>Activities(</a:t>
            </a:r>
            <a:r>
              <a:rPr b="1" i="1" lang="zh-CN" sz="2800" spc="-1" strike="noStrike">
                <a:solidFill>
                  <a:srgbClr val="33cc33"/>
                </a:solidFill>
                <a:latin typeface="Arial"/>
              </a:rPr>
              <a:t>慈善 活动</a:t>
            </a:r>
            <a:r>
              <a:rPr b="1" i="1" lang="zh-CN" sz="2800" spc="-1" strike="noStrike">
                <a:solidFill>
                  <a:srgbClr val="33cc33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87280" y="2060640"/>
            <a:ext cx="702972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Thank you so much!</a:t>
            </a:r>
            <a:endParaRPr b="1" lang="en-US" sz="6000" spc="1" strike="noStrike">
              <a:ln w="936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492360" y="4797360"/>
            <a:ext cx="198144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124000" y="2276640"/>
            <a:ext cx="1944720" cy="1726920"/>
            <a:chOff x="2124000" y="2276640"/>
            <a:chExt cx="1944720" cy="1726920"/>
          </a:xfrm>
        </p:grpSpPr>
        <p:sp>
          <p:nvSpPr>
            <p:cNvPr id="58" name=""/>
            <p:cNvSpPr/>
            <p:nvPr/>
          </p:nvSpPr>
          <p:spPr>
            <a:xfrm>
              <a:off x="2124000" y="2276640"/>
              <a:ext cx="100944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33440" y="2276640"/>
              <a:ext cx="91440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24000" y="3140280"/>
              <a:ext cx="1009440" cy="86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33440" y="3140280"/>
              <a:ext cx="935280" cy="86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96000" y="4508640"/>
            <a:ext cx="2736720" cy="207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427640" y="3645000"/>
            <a:ext cx="2736720" cy="2100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95280" y="1052640"/>
            <a:ext cx="2736720" cy="208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427640" y="333360"/>
            <a:ext cx="2736720" cy="2089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53640" y="193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" y="258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26720" y="517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22000" y="6040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2124000" y="2276640"/>
            <a:ext cx="1944720" cy="1726920"/>
            <a:chOff x="2124000" y="2276640"/>
            <a:chExt cx="1944720" cy="1726920"/>
          </a:xfrm>
        </p:grpSpPr>
        <p:sp>
          <p:nvSpPr>
            <p:cNvPr id="71" name=""/>
            <p:cNvSpPr/>
            <p:nvPr/>
          </p:nvSpPr>
          <p:spPr>
            <a:xfrm>
              <a:off x="2124000" y="2276640"/>
              <a:ext cx="100944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33440" y="2276640"/>
              <a:ext cx="91440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24000" y="3140280"/>
              <a:ext cx="1009440" cy="86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3440" y="3140280"/>
              <a:ext cx="935280" cy="86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96000" y="4508640"/>
            <a:ext cx="2736720" cy="2076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427640" y="3645000"/>
            <a:ext cx="2736720" cy="2100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07880" y="1052640"/>
            <a:ext cx="2737080" cy="2089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132000" y="1052640"/>
            <a:ext cx="2737080" cy="2089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58000" y="265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280" y="265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26720" y="517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4360" y="6087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124000" y="2276640"/>
            <a:ext cx="1944720" cy="1726920"/>
            <a:chOff x="2124000" y="2276640"/>
            <a:chExt cx="1944720" cy="1726920"/>
          </a:xfrm>
        </p:grpSpPr>
        <p:sp>
          <p:nvSpPr>
            <p:cNvPr id="85" name=""/>
            <p:cNvSpPr/>
            <p:nvPr/>
          </p:nvSpPr>
          <p:spPr>
            <a:xfrm>
              <a:off x="2124000" y="2276640"/>
              <a:ext cx="100944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33440" y="2276640"/>
              <a:ext cx="914400" cy="8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24000" y="3140280"/>
              <a:ext cx="1009440" cy="86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33440" y="3140280"/>
              <a:ext cx="935280" cy="86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96000" y="4508640"/>
            <a:ext cx="2736720" cy="2076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2736720" cy="2100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95280" y="1052640"/>
            <a:ext cx="2736720" cy="2089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119400" y="1052640"/>
            <a:ext cx="2736720" cy="208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184560" y="2641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57640" y="27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" y="251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58000" y="258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7242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22000" y="6040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024000" cy="2306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92360" y="3357720"/>
            <a:ext cx="3095640" cy="2303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92360" y="981000"/>
            <a:ext cx="3095640" cy="2376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788000" y="98100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26160" y="4797360"/>
            <a:ext cx="132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22240" y="40464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00"/>
                </a:solidFill>
                <a:latin typeface="Arial"/>
              </a:rPr>
              <a:t>Task 1: How is your favourite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6985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75600" y="907920"/>
            <a:ext cx="6576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zh-CN" sz="3600" spc="-1" strike="noStrike">
                <a:solidFill>
                  <a:srgbClr val="33cc33"/>
                </a:solidFill>
                <a:latin typeface="Arial"/>
              </a:rPr>
              <a:t>My favourite t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My favourite toy is a/an 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t’s from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t’s for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t i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t h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t ca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 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6600" y="16344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ff00"/>
                </a:solidFill>
                <a:latin typeface="Arial"/>
              </a:rPr>
              <a:t>Task 1: How is your favourite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87280" y="981000"/>
            <a:ext cx="6840720" cy="4753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8400" y="163440"/>
            <a:ext cx="47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ask 2: How do you choose your t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2:01:08Z</dcterms:created>
  <dc:creator>教师</dc:creator>
  <dc:description/>
  <dc:language>en-US</dc:language>
  <cp:lastModifiedBy>ydz</cp:lastModifiedBy>
  <dcterms:modified xsi:type="dcterms:W3CDTF">2012-05-23T03:58:52Z</dcterms:modified>
  <cp:revision>108</cp:revision>
  <dc:subject/>
  <dc:title>幻灯片 1</dc:title>
</cp:coreProperties>
</file>