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laser.wav" ContentType="audio/x-wav"/>
  <Override PartName="/ppt/media/image3.png" ContentType="image/png"/>
  <Override PartName="/ppt/media/image17.jpeg" ContentType="image/jpeg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wmf" ContentType="image/x-wmf"/>
  <Override PartName="/ppt/media/image23.jpeg" ContentType="image/jpeg"/>
  <Override PartName="/ppt/media/image18.jpeg" ContentType="image/jpeg"/>
  <Override PartName="/ppt/media/image21.jpeg" ContentType="image/jpeg"/>
  <Override PartName="/ppt/media/image19.gif" ContentType="image/gif"/>
  <Override PartName="/ppt/media/image15.png" ContentType="image/png"/>
  <Override PartName="/ppt/media/image24.jpeg" ContentType="image/jpeg"/>
  <Override PartName="/ppt/media/image16.png" ContentType="image/png"/>
  <Override PartName="/ppt/media/image13.gif" ContentType="image/gif"/>
  <Override PartName="/ppt/media/image12.png" ContentType="image/png"/>
  <Override PartName="/ppt/media/image20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888-96EE-425C-B1F3-25C4B083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E6D-E686-4C53-9E52-C9E46B35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8E6-B7E2-4847-8015-24CF26DA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E3E-AC75-4467-99F0-79C1D9AD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934-11B4-43B8-9866-2D446A8B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83B-EAE2-47D9-AAF8-8184942F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EDC-0E69-4B8D-A8A6-995F249A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045-0EF2-4FCE-8475-D8769303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0D2-0E19-4F17-B0C9-C166812A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9D5E-706A-437A-9DFC-70794A3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942-FBC1-408F-9023-04282C5D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F85-9687-4BDB-ADD3-2246E034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DF84-AEE2-4C69-8434-ABA857615D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uqin.com.cn/upload/forum/2005031915422128.gif" TargetMode="External"/><Relationship Id="rId2" Type="http://schemas.openxmlformats.org/officeDocument/2006/relationships/image" Target="../media/image25.gi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66680" y="1219320"/>
            <a:ext cx="6534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Unit6  Let’s go by taxi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00600" y="38016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苏教牛津版）四年级英语下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y pla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foo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0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y minibu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A: Shall we go to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… by …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B: Ok. / All r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95280" y="228600"/>
            <a:ext cx="5943240" cy="4022280"/>
            <a:chOff x="1295280" y="228600"/>
            <a:chExt cx="5943240" cy="40222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295280" y="228600"/>
              <a:ext cx="5943240" cy="34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648520" y="3609360"/>
              <a:ext cx="431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86200" y="1676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Let’s go to the hospital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Ok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How do we go ther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hall we go to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hospital by minibus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Ok. Let’s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 rot="760200">
            <a:off x="6324120" y="4647960"/>
            <a:ext cx="205128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772480" y="380880"/>
            <a:ext cx="37152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828800" y="457200"/>
            <a:ext cx="48006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et's chant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rcRect l="5668" t="0" r="3623" b="0"/>
          <a:stretch/>
        </p:blipFill>
        <p:spPr>
          <a:xfrm>
            <a:off x="0" y="1523880"/>
            <a:ext cx="3657600" cy="236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25210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14440" y="160020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Let’s go to the theatre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Grea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How do we go ther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hall we go to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theatre by bik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Ok. Let’s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760200">
            <a:off x="6324120" y="4647960"/>
            <a:ext cx="2051280" cy="180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772480" y="380880"/>
            <a:ext cx="3715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828800" y="304920"/>
            <a:ext cx="48006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et's chant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rcRect l="7241" t="3397" r="4660" b="16464"/>
          <a:stretch/>
        </p:blipFill>
        <p:spPr>
          <a:xfrm>
            <a:off x="0" y="1447920"/>
            <a:ext cx="4038480" cy="2690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447920" y="4572000"/>
            <a:ext cx="1752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66720" y="1752480"/>
            <a:ext cx="4496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Let’s go to Shanghai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Great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How do we go ther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hall we go 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Shanghai by bik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Ok. Let’s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760200">
            <a:off x="6324120" y="4647960"/>
            <a:ext cx="2051280" cy="1805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772480" y="380880"/>
            <a:ext cx="37152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828800" y="304920"/>
            <a:ext cx="48006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et's chant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3962520" cy="3124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066680" y="4724280"/>
            <a:ext cx="2521080" cy="19447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724280" y="4114800"/>
            <a:ext cx="4038840" cy="2514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-274680"/>
            <a:ext cx="5867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810240" cy="2514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4083120" cy="243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3810240" cy="2514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ke dialogues: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: Shall we go to …… by ……?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: Ok. All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5791320"/>
            <a:ext cx="3024000" cy="301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772480" y="0"/>
            <a:ext cx="37152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958240" y="765000"/>
            <a:ext cx="371520" cy="5715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 rot="760200">
            <a:off x="6324120" y="4723920"/>
            <a:ext cx="2051280" cy="1805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 rot="319800">
            <a:off x="533520" y="457200"/>
            <a:ext cx="5040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Homework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6668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⒈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opy the new words four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抄写新单词四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. Listen to the tape, and read the n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听录音，跟读新单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553080" y="533520"/>
            <a:ext cx="1873440" cy="148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7308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hank you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2349360"/>
            <a:ext cx="5545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oodbye 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914400" y="0"/>
            <a:ext cx="11428920" cy="6344640"/>
            <a:chOff x="-914400" y="0"/>
            <a:chExt cx="11428920" cy="63446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01880" y="0"/>
              <a:ext cx="8888760" cy="53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-914400" y="5702400"/>
              <a:ext cx="114289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522720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  supermark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3280" cy="6136560"/>
            <a:chOff x="0" y="0"/>
            <a:chExt cx="9143280" cy="613656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518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142280" y="5494680"/>
              <a:ext cx="6400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a libra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3280" cy="6087240"/>
            <a:chOff x="0" y="0"/>
            <a:chExt cx="9143280" cy="608724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54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142280" y="5447160"/>
              <a:ext cx="70858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92720" y="5334120"/>
            <a:ext cx="419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 theat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3280" cy="5695560"/>
            <a:chOff x="0" y="0"/>
            <a:chExt cx="9143280" cy="56955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280" cy="51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82240" y="5054760"/>
              <a:ext cx="664560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a hospit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 st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5526" t="5822" r="5465" b="10846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6172200" y="0"/>
            <a:ext cx="2971800" cy="2631600"/>
            <a:chOff x="6172200" y="0"/>
            <a:chExt cx="2971800" cy="263160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6172200" y="0"/>
              <a:ext cx="2971800" cy="21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849000" y="2050200"/>
              <a:ext cx="21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  hospit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200400" y="152280"/>
            <a:ext cx="2895480" cy="2436840"/>
            <a:chOff x="3200400" y="152280"/>
            <a:chExt cx="2895480" cy="243684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3200400" y="152280"/>
              <a:ext cx="2895480" cy="175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562200" y="2007720"/>
              <a:ext cx="202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 libra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0" y="228600"/>
            <a:ext cx="3429000" cy="2391840"/>
            <a:chOff x="0" y="228600"/>
            <a:chExt cx="3429000" cy="2391840"/>
          </a:xfrm>
        </p:grpSpPr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304920" y="228600"/>
              <a:ext cx="2666880" cy="169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0" y="203904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 supermark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8600" y="2590920"/>
            <a:ext cx="2666880" cy="2597760"/>
            <a:chOff x="228600" y="2590920"/>
            <a:chExt cx="2666880" cy="259776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228600" y="2590920"/>
              <a:ext cx="2666880" cy="20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61600" y="4607280"/>
              <a:ext cx="206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a theat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2514960" y="4800240"/>
            <a:ext cx="10667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A: Let’s go to …… .</a:t>
            </a:r>
            <a:br>
              <a:rPr sz="5400"/>
            </a:b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B: Great! / O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rcRect l="5526" t="5822" r="5465" b="10846"/>
          <a:stretch/>
        </p:blipFill>
        <p:spPr>
          <a:xfrm>
            <a:off x="3124080" y="2590920"/>
            <a:ext cx="2667240" cy="198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81280" y="46483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rcRect l="0" t="10852" r="3621" b="11538"/>
          <a:stretch/>
        </p:blipFill>
        <p:spPr>
          <a:xfrm>
            <a:off x="6172200" y="2743200"/>
            <a:ext cx="259092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77120" y="4648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ir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ow do we go t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867280" y="2514600"/>
            <a:ext cx="26672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y tra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4-25T08:03:5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