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7AD-B542-4E8D-93DB-0B472DCF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E63-7FAD-4678-843E-DA5FCD55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C3D-5A5F-4573-81CF-E8A54B23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BFF-0D99-4BF9-B960-CE2D43DA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854F-CF70-43B6-8826-8BEE286D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02D9-CCE3-4633-B618-978973F2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9468-FC47-4247-9D7A-0A148435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0A5E-48E6-4841-93A8-D3797D18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A04A-B35B-411D-BA5C-7F69EC36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98B2-7833-48E3-BA5A-D29C044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2A6-AAF1-4C80-B72A-41AF6043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223-ED19-46C6-8546-7DE3A05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30DA-FA08-4F91-AA02-D16895E1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480D-0A4E-486F-ABE1-6511372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8168-D957-433C-8639-21AC6C32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E802-2596-43D5-8B5B-D711475E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8360-39B8-441F-9830-EDAB150F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5A9-FF99-4B59-9F13-B00F8366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55C-983C-4EB8-B8C6-6266F101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940-E183-4E49-98B2-3FB784B2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2AB-E882-459F-AE7E-49FED565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1B1-997F-4540-B757-808B18C3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24F-C833-43AA-90A2-45CECF8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D8B-034E-42F5-A576-70E210C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5FCD-A935-4A2D-8DA7-45F91C52D33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D734-F53E-4F1B-AE8B-69C24F44E08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qcreations.com/eindwerk05/pages/decor_woonkamer/20050130_felt_pen.jpg&amp;imgrefurl=http://www.cqcreations.com/eindwerk05/index.php%3Fsection%3Ddecor_woonkamer&amp;h=432&amp;w=768&amp;sz=24&amp;tbnid=THuL7zpv3yUh3M:&amp;tbnh=79&amp;tbnw=141&amp;hl=zh-CN&amp;start=2&amp;prev=/images%3Fq%3Dfelt%2Bpen%26svnum%3D10%26hl%3Dzh-CN%26lr%3D%26newwindow%3D1%26sa%3DN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2920" y="1844640"/>
            <a:ext cx="691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dule 1 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sing my five senses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40000" y="5084640"/>
            <a:ext cx="4429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Unit 1 Look!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49640" y="47628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沪教牛津 四年级英语下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981000"/>
            <a:ext cx="2808360" cy="1652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26720" y="4113360"/>
            <a:ext cx="198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felt pe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26000" y="411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4720" y="4011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毡头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720" y="3283920"/>
            <a:ext cx="12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[felt]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5080" y="5157000"/>
            <a:ext cx="159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[pen]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0" t="0" r="21013" b="0"/>
          <a:stretch/>
        </p:blipFill>
        <p:spPr>
          <a:xfrm>
            <a:off x="971640" y="3357720"/>
            <a:ext cx="1655640" cy="132372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-360" y="0"/>
            <a:ext cx="3203640" cy="2420640"/>
            <a:chOff x="-360" y="0"/>
            <a:chExt cx="3203640" cy="2420640"/>
          </a:xfrm>
        </p:grpSpPr>
        <p:sp>
          <p:nvSpPr>
            <p:cNvPr id="157" name=""/>
            <p:cNvSpPr/>
            <p:nvPr/>
          </p:nvSpPr>
          <p:spPr>
            <a:xfrm>
              <a:off x="1067040" y="361440"/>
              <a:ext cx="259560" cy="2570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240" y="940680"/>
              <a:ext cx="193680" cy="192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4880" y="683640"/>
              <a:ext cx="193680" cy="192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49520" y="1907280"/>
              <a:ext cx="259200" cy="192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38680" y="1712880"/>
              <a:ext cx="258480" cy="1940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1600" y="1392120"/>
              <a:ext cx="388080" cy="192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61600" y="0"/>
              <a:ext cx="259560" cy="361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621160" y="297360"/>
              <a:ext cx="258120" cy="2566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9680" y="747720"/>
              <a:ext cx="45360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-360" y="1778040"/>
              <a:ext cx="420840" cy="192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5360" y="2099880"/>
              <a:ext cx="259200" cy="2570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43040" y="2163960"/>
              <a:ext cx="65520" cy="2566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092400" y="981000"/>
            <a:ext cx="60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hese felt pens are new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9440" y="3897360"/>
            <a:ext cx="584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hose felt pens are old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2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74840" y="0"/>
            <a:ext cx="51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Make the sentences: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8680" y="620640"/>
            <a:ext cx="51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rayons --- thin/thick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87840" y="98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7040" y="1341360"/>
            <a:ext cx="61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These crayons are thin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Those crayons are thick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97400" y="2637000"/>
            <a:ext cx="51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rushes---long/short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63600" y="3213000"/>
            <a:ext cx="62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These brushes are long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Those brushes are short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5240" y="4581360"/>
            <a:ext cx="406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aints---new/old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91600" y="5373720"/>
            <a:ext cx="54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These paints are new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Those paints are old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44320" y="404640"/>
            <a:ext cx="62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What have you got, Ben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657080" cy="1538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631600" y="1628640"/>
            <a:ext cx="56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I’ve got these crayons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30520" y="242100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hey’re thick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880" y="3249720"/>
            <a:ext cx="64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What have you got, Kitty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7440" y="4041720"/>
            <a:ext cx="624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I’ve got these paints and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hese brushes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443640" y="4437000"/>
            <a:ext cx="23749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835280" y="2205000"/>
            <a:ext cx="54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OODBYE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64000" y="5661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43400" cy="5950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867280" y="1773360"/>
            <a:ext cx="3048120" cy="244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59280" y="5157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8520" y="436572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ol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135240" cy="371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51280" y="4076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5157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ick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211640" y="981000"/>
            <a:ext cx="436572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14160" y="134136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hick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916360" y="981000"/>
            <a:ext cx="914400" cy="2016000"/>
            <a:chOff x="2916360" y="981000"/>
            <a:chExt cx="914400" cy="2016000"/>
          </a:xfrm>
        </p:grpSpPr>
        <p:sp>
          <p:nvSpPr>
            <p:cNvPr id="97" name=""/>
            <p:cNvSpPr/>
            <p:nvPr/>
          </p:nvSpPr>
          <p:spPr>
            <a:xfrm>
              <a:off x="2916360" y="1700280"/>
              <a:ext cx="914400" cy="55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19640" y="981000"/>
              <a:ext cx="0" cy="647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419640" y="2276280"/>
              <a:ext cx="0" cy="720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916360" y="4221000"/>
            <a:ext cx="914400" cy="1368360"/>
            <a:chOff x="2916360" y="4221000"/>
            <a:chExt cx="914400" cy="1368360"/>
          </a:xfrm>
        </p:grpSpPr>
        <p:sp>
          <p:nvSpPr>
            <p:cNvPr id="101" name=""/>
            <p:cNvSpPr/>
            <p:nvPr/>
          </p:nvSpPr>
          <p:spPr>
            <a:xfrm>
              <a:off x="2916360" y="4868640"/>
              <a:ext cx="914400" cy="144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21080" y="4221000"/>
              <a:ext cx="0" cy="5763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421080" y="5013360"/>
              <a:ext cx="0" cy="5760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29440" y="458136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hi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84720" y="1268280"/>
            <a:ext cx="1584360" cy="914400"/>
            <a:chOff x="6084720" y="1268280"/>
            <a:chExt cx="1584360" cy="914400"/>
          </a:xfrm>
        </p:grpSpPr>
        <p:sp>
          <p:nvSpPr>
            <p:cNvPr id="106" name=""/>
            <p:cNvSpPr/>
            <p:nvPr/>
          </p:nvSpPr>
          <p:spPr>
            <a:xfrm>
              <a:off x="6516720" y="1268280"/>
              <a:ext cx="62676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84720" y="1700280"/>
              <a:ext cx="4320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235640" y="1700280"/>
              <a:ext cx="4334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443640" y="4508640"/>
            <a:ext cx="937800" cy="914400"/>
            <a:chOff x="6443640" y="4508640"/>
            <a:chExt cx="937800" cy="914400"/>
          </a:xfrm>
        </p:grpSpPr>
        <p:sp>
          <p:nvSpPr>
            <p:cNvPr id="110" name=""/>
            <p:cNvSpPr/>
            <p:nvPr/>
          </p:nvSpPr>
          <p:spPr>
            <a:xfrm>
              <a:off x="6878520" y="4508640"/>
              <a:ext cx="12240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43640" y="4940280"/>
              <a:ext cx="4348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021080" y="4940280"/>
              <a:ext cx="3603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15520" y="3003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0" y="28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36040" y="5805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92040" y="5734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520720" cy="1982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284328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6551640" cy="3503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566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pens are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436572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ff66ff"/>
                </a:solidFill>
                <a:latin typeface="Arial"/>
              </a:rPr>
              <a:t>se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35280" y="436572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ff66ff"/>
                </a:solidFill>
                <a:latin typeface="Arial"/>
              </a:rPr>
              <a:t>se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5516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pencils are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3772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103560"/>
            <a:ext cx="5003640" cy="3754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442764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19640" y="530064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ese apples are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ose apples are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684360" y="765000"/>
            <a:ext cx="1510920" cy="1942920"/>
            <a:chOff x="684360" y="765000"/>
            <a:chExt cx="1510920" cy="194292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684360" y="765000"/>
              <a:ext cx="1510920" cy="13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rcRect l="0" t="0" r="0" b="26900"/>
            <a:stretch/>
          </p:blipFill>
          <p:spPr>
            <a:xfrm>
              <a:off x="684360" y="1736640"/>
              <a:ext cx="1510920" cy="97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2918160" y="10526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ai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69280" y="3105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i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62000" y="3033720"/>
            <a:ext cx="16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i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er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99440" y="3105000"/>
            <a:ext cx="22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i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res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97280" y="974880"/>
            <a:ext cx="8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ei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7800" y="1052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1440" y="1052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1800" y="1052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908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59800" y="3946680"/>
            <a:ext cx="348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cc"/>
                </a:solidFill>
                <a:latin typeface="Arial"/>
              </a:rPr>
              <a:t>n.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油漆；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颜料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；涂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涂层，漆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cc"/>
                </a:solidFill>
                <a:latin typeface="Arial"/>
              </a:rPr>
              <a:t>v.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绘画，给……着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油漆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涂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414520" y="4292640"/>
            <a:ext cx="189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Br__sh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61080" y="4292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429264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0" t="5259" r="-680" b="0"/>
          <a:stretch/>
        </p:blipFill>
        <p:spPr>
          <a:xfrm>
            <a:off x="2771640" y="404640"/>
            <a:ext cx="2808360" cy="3889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444000" y="4291920"/>
            <a:ext cx="14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[brʌʃ]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03:15:46Z</dcterms:created>
  <dc:creator>zyj</dc:creator>
  <dc:description/>
  <dc:language>en-US</dc:language>
  <cp:lastModifiedBy>ydz</cp:lastModifiedBy>
  <dcterms:modified xsi:type="dcterms:W3CDTF">2012-05-23T04:03:13Z</dcterms:modified>
  <cp:revision>9</cp:revision>
  <dc:subject/>
  <dc:title>幻灯片 1</dc:title>
</cp:coreProperties>
</file>