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2.jpeg" ContentType="image/jpeg"/>
  <Override PartName="/ppt/media/image9.png" ContentType="image/png"/>
  <Override PartName="/ppt/media/image10.gif" ContentType="image/gif"/>
  <Override PartName="/ppt/media/image8.png" ContentType="image/png"/>
  <Override PartName="/ppt/media/image29.jpeg" ContentType="image/jpe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chimes.wav" ContentType="audio/x-wav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A77-F127-408C-88B2-054EFC2B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112-F1A5-4F54-A345-E42F11AE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2BC-203A-4324-9577-F3149BD1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CC2-1D4F-491F-A52C-E46CE18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BEA-84AE-464C-B365-B3903E3B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7B6-EA78-4D40-80AC-0DA728F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8B4-2C08-41B3-A56C-0112C2C7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AED-1912-48B9-BD03-3152571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6B2-96FE-408E-B880-0A5B50F8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438-B31B-4CBA-B66E-7798012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AEF-0DF2-4454-96B3-42E256A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934-3146-4945-9161-6D85CCF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B07D-B92C-45FE-B445-234AA7B4C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hyperlink" Target="E:\&#65288;&#27818;&#25945;&#29275;&#27941;&#29256;&#65289;&#22235;&#24180;&#32423;&#33521;&#35821;&#19979;&#20876;&#38899;&#39057; Module 2 Unit 2(1)\&#65288;&#27818;&#25945;&#29275;&#27941;&#29256;&#65289;&#22235;&#24180;&#32423;&#33521;&#35821;&#19979;&#20876;&#38899;&#39057; Module 2 Unit 2(1).au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C:\Documents and Settings\Administrator\&#26700;&#38754;\&#27818;&#25945;&#29256;&#29275;&#27941;&#33521;&#35821;&#22235;&#24180;&#32423;modul2unit2My  toys\&#65288;&#27818;&#25945;&#29275;&#27941;&#29256;&#65289;&#22235;&#24180;&#32423;&#33521;&#35821;&#19979;&#20876;&#38899;&#39057; Module 2 Unit 2(1).au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hyperlink" Target="C:\Documents and Settings\Administrator\&#26700;&#38754;\&#27818;&#25945;&#29256;&#29275;&#27941;&#33521;&#35821;&#22235;&#24180;&#32423;modul2unit2My  toys\&#38382;&#39064;.au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29.jpeg"/><Relationship Id="rId16" Type="http://schemas.openxmlformats.org/officeDocument/2006/relationships/image" Target="../media/image29.jpeg"/><Relationship Id="rId17" Type="http://schemas.openxmlformats.org/officeDocument/2006/relationships/image" Target="../media/image29.jpe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9.jpeg"/><Relationship Id="rId22" Type="http://schemas.openxmlformats.org/officeDocument/2006/relationships/image" Target="../media/image14.png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2.jpe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060640"/>
            <a:ext cx="84596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Module 2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My favourite thing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 2 My toy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333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宋体"/>
              </a:rPr>
              <a:t>沪教牛津 四年级英语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2800" cy="1490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511960" y="0"/>
            <a:ext cx="1960560" cy="1463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rcRect l="0" t="0" r="4384" b="19708"/>
          <a:stretch/>
        </p:blipFill>
        <p:spPr>
          <a:xfrm>
            <a:off x="3780000" y="260280"/>
            <a:ext cx="1698480" cy="11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886040" y="0"/>
            <a:ext cx="1903320" cy="1490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0" y="2581200"/>
            <a:ext cx="2108160" cy="1982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2108160" y="2655720"/>
            <a:ext cx="2065320" cy="1938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rcRect l="0" t="2748" r="-1241" b="2997"/>
          <a:stretch/>
        </p:blipFill>
        <p:spPr>
          <a:xfrm>
            <a:off x="4179960" y="2708280"/>
            <a:ext cx="2697120" cy="180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557360"/>
            <a:ext cx="18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86040" y="1612800"/>
            <a:ext cx="15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536840"/>
            <a:ext cx="16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ob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6480" y="1463760"/>
            <a:ext cx="17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o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594320"/>
            <a:ext cx="20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30280" y="4668840"/>
            <a:ext cx="20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ld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03880" y="4594320"/>
            <a:ext cx="295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aero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rcRect l="0" t="0" r="-1890" b="4416"/>
          <a:stretch/>
        </p:blipFill>
        <p:spPr>
          <a:xfrm>
            <a:off x="6770520" y="2637000"/>
            <a:ext cx="2373480" cy="1852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7510320" y="0"/>
            <a:ext cx="1633680" cy="1463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369200" y="148428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uzz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62720" y="4594320"/>
            <a:ext cx="17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1835280" y="5264280"/>
            <a:ext cx="2328840" cy="1593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995640" y="6156360"/>
            <a:ext cx="177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63640" y="2060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      twenty-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3640" y="2060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708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2060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03640" y="27082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3716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4581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        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3860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3860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38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rId4"/>
          </p:cNvPr>
          <p:cNvSpPr/>
          <p:nvPr/>
        </p:nvSpPr>
        <p:spPr>
          <a:xfrm>
            <a:off x="5651640" y="321300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9749"/>
                </a:moveTo>
                <a:lnTo>
                  <a:pt x="8224" y="9749"/>
                </a:lnTo>
                <a:lnTo>
                  <a:pt x="12645" y="5136"/>
                </a:lnTo>
                <a:lnTo>
                  <a:pt x="12645" y="19149"/>
                </a:lnTo>
                <a:lnTo>
                  <a:pt x="8224" y="14536"/>
                </a:lnTo>
                <a:lnTo>
                  <a:pt x="3794" y="14536"/>
                </a:lnTo>
                <a:close/>
              </a:path>
              <a:path fill="darken" w="21600" h="24285">
                <a:moveTo>
                  <a:pt x="14299" y="12142"/>
                </a:moveTo>
                <a:lnTo>
                  <a:pt x="17806" y="12142"/>
                </a:lnTo>
              </a:path>
              <a:path fill="darken" w="21600" h="24285">
                <a:moveTo>
                  <a:pt x="14299" y="9749"/>
                </a:moveTo>
                <a:lnTo>
                  <a:pt x="17806" y="6981"/>
                </a:lnTo>
              </a:path>
              <a:path fill="darken" w="21600" h="24285">
                <a:moveTo>
                  <a:pt x="14299" y="14536"/>
                </a:moveTo>
                <a:lnTo>
                  <a:pt x="17806" y="17304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47640" y="620640"/>
            <a:ext cx="576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484280"/>
            <a:ext cx="56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0"/>
            <a:ext cx="935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0"/>
            <a:ext cx="3743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s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nty-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3"/>
          </p:cNvPr>
          <p:cNvSpPr/>
          <p:nvPr/>
        </p:nvSpPr>
        <p:spPr>
          <a:xfrm>
            <a:off x="5435640" y="306864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9741"/>
                </a:moveTo>
                <a:lnTo>
                  <a:pt x="8224" y="9741"/>
                </a:lnTo>
                <a:lnTo>
                  <a:pt x="12645" y="5128"/>
                </a:lnTo>
                <a:lnTo>
                  <a:pt x="12645" y="19141"/>
                </a:lnTo>
                <a:lnTo>
                  <a:pt x="8224" y="14528"/>
                </a:lnTo>
                <a:lnTo>
                  <a:pt x="3794" y="14528"/>
                </a:lnTo>
                <a:close/>
              </a:path>
              <a:path fill="darken" w="21600" h="24270">
                <a:moveTo>
                  <a:pt x="14299" y="12135"/>
                </a:moveTo>
                <a:lnTo>
                  <a:pt x="17806" y="12135"/>
                </a:lnTo>
              </a:path>
              <a:path fill="darken" w="21600" h="24270">
                <a:moveTo>
                  <a:pt x="14299" y="9741"/>
                </a:moveTo>
                <a:lnTo>
                  <a:pt x="17806" y="6974"/>
                </a:lnTo>
              </a:path>
              <a:path fill="darken" w="21600" h="24270">
                <a:moveTo>
                  <a:pt x="14299" y="14528"/>
                </a:moveTo>
                <a:lnTo>
                  <a:pt x="17806" y="17296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th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423720"/>
            <a:ext cx="266544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ty-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 f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404640"/>
            <a:ext cx="25192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s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-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43640" y="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  fi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981000"/>
            <a:ext cx="136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423720"/>
            <a:ext cx="2305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eight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-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rcRect l="0" t="0" r="0" b="100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042920" y="313056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285264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/>
          </p:cNvPr>
          <p:cNvSpPr/>
          <p:nvPr/>
        </p:nvSpPr>
        <p:spPr>
          <a:xfrm>
            <a:off x="6012000" y="9079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8413"/>
                </a:moveTo>
                <a:lnTo>
                  <a:pt x="8224" y="8413"/>
                </a:lnTo>
                <a:lnTo>
                  <a:pt x="12645" y="3800"/>
                </a:lnTo>
                <a:lnTo>
                  <a:pt x="12645" y="17813"/>
                </a:lnTo>
                <a:lnTo>
                  <a:pt x="8224" y="13200"/>
                </a:lnTo>
                <a:lnTo>
                  <a:pt x="3794" y="13200"/>
                </a:lnTo>
                <a:close/>
              </a:path>
              <a:path fill="darken" w="21600" h="21613">
                <a:moveTo>
                  <a:pt x="14299" y="10807"/>
                </a:moveTo>
                <a:lnTo>
                  <a:pt x="17806" y="10807"/>
                </a:lnTo>
              </a:path>
              <a:path fill="darken" w="21600" h="21613">
                <a:moveTo>
                  <a:pt x="14299" y="8413"/>
                </a:moveTo>
                <a:lnTo>
                  <a:pt x="17806" y="5645"/>
                </a:lnTo>
              </a:path>
              <a:path fill="darken" w="21600" h="21613">
                <a:moveTo>
                  <a:pt x="14299" y="13200"/>
                </a:moveTo>
                <a:lnTo>
                  <a:pt x="17806" y="15968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832360" y="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040360" y="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103640" y="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3168720" y="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303640" y="0"/>
            <a:ext cx="987120" cy="1079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476360" y="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307280" y="54936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6370560" y="54936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5433840" y="62244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4425840" y="62244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3490920" y="62244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2625840" y="62244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4"/>
          <a:stretch/>
        </p:blipFill>
        <p:spPr>
          <a:xfrm>
            <a:off x="1763640" y="62244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5"/>
          <a:stretch/>
        </p:blipFill>
        <p:spPr>
          <a:xfrm>
            <a:off x="1403280" y="141300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6"/>
          <a:stretch/>
        </p:blipFill>
        <p:spPr>
          <a:xfrm>
            <a:off x="2268360" y="1413000"/>
            <a:ext cx="987480" cy="1079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7"/>
          <a:stretch/>
        </p:blipFill>
        <p:spPr>
          <a:xfrm>
            <a:off x="3059280" y="1413000"/>
            <a:ext cx="987120" cy="1079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8"/>
          <a:stretch/>
        </p:blipFill>
        <p:spPr>
          <a:xfrm>
            <a:off x="6696000" y="148428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9"/>
          <a:stretch/>
        </p:blipFill>
        <p:spPr>
          <a:xfrm>
            <a:off x="5796000" y="148428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0"/>
          <a:stretch/>
        </p:blipFill>
        <p:spPr>
          <a:xfrm>
            <a:off x="3889440" y="1484280"/>
            <a:ext cx="987480" cy="1079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1"/>
          <a:stretch/>
        </p:blipFill>
        <p:spPr>
          <a:xfrm>
            <a:off x="4859280" y="1484280"/>
            <a:ext cx="987480" cy="1079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2852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How many bear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58920" y="4365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  are                 bear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95640" y="4941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4720" y="4292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2"/>
          <a:stretch/>
        </p:blipFill>
        <p:spPr>
          <a:xfrm>
            <a:off x="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684360" y="2276640"/>
            <a:ext cx="8111520" cy="1066680"/>
            <a:chOff x="684360" y="2276640"/>
            <a:chExt cx="8111520" cy="106668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684360" y="2276640"/>
              <a:ext cx="13428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2052360" y="2276640"/>
              <a:ext cx="13428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4787640" y="2276640"/>
              <a:ext cx="13428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6084720" y="2276640"/>
              <a:ext cx="13428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6"/>
            <a:stretch/>
          </p:blipFill>
          <p:spPr>
            <a:xfrm>
              <a:off x="7453080" y="2276640"/>
              <a:ext cx="13428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3420720" y="2276640"/>
              <a:ext cx="13428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468360" y="1268280"/>
            <a:ext cx="1342800" cy="1067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4572000" y="1268280"/>
            <a:ext cx="134316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5869080" y="1268280"/>
            <a:ext cx="1342800" cy="1067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7237440" y="1268280"/>
            <a:ext cx="134316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3205080" y="1268280"/>
            <a:ext cx="134316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2268360" y="333360"/>
            <a:ext cx="134316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>
            <a:off x="3564000" y="260280"/>
            <a:ext cx="13428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5"/>
          <a:stretch/>
        </p:blipFill>
        <p:spPr>
          <a:xfrm>
            <a:off x="1836720" y="1268280"/>
            <a:ext cx="1343160" cy="10670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68360" y="39337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ow  many  soldiers  are  ther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661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6"/>
          <a:stretch/>
        </p:blipFill>
        <p:spPr>
          <a:xfrm>
            <a:off x="7453440" y="1484280"/>
            <a:ext cx="13428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87280" y="4797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are                    soldi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1280" y="537372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80000" y="4653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y-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981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 How many puzzles are the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03480" y="2060640"/>
            <a:ext cx="68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7040" y="3209760"/>
            <a:ext cx="83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. how many cars are the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436572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          ca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00000" y="2349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  are                puzz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2852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213372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4221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7620120" cy="306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159696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01000" y="4114800"/>
            <a:ext cx="762120" cy="380880"/>
          </a:xfrm>
          <a:prstGeom prst="wedgeEllipseCallout">
            <a:avLst>
              <a:gd name="adj1" fmla="val 9791"/>
              <a:gd name="adj2" fmla="val 7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77680" y="411480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28560" y="675000"/>
            <a:ext cx="4020120" cy="694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 习 数 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619280" y="2924280"/>
            <a:ext cx="6192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771640" y="1052640"/>
            <a:ext cx="3606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e e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9684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0" y="762120"/>
            <a:ext cx="1725480" cy="154296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52280" y="2590920"/>
            <a:ext cx="1679760" cy="1190520"/>
            <a:chOff x="152280" y="2590920"/>
            <a:chExt cx="1679760" cy="1190520"/>
          </a:xfrm>
        </p:grpSpPr>
        <p:sp>
          <p:nvSpPr>
            <p:cNvPr id="51" name=""/>
            <p:cNvSpPr/>
            <p:nvPr/>
          </p:nvSpPr>
          <p:spPr>
            <a:xfrm>
              <a:off x="152280" y="2590920"/>
              <a:ext cx="1679760" cy="1190520"/>
            </a:xfrm>
            <a:prstGeom prst="flowChartDecision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55560" y="2971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05120" y="2590920"/>
            <a:ext cx="1679400" cy="1190520"/>
            <a:chOff x="1905120" y="2590920"/>
            <a:chExt cx="1679400" cy="1190520"/>
          </a:xfrm>
        </p:grpSpPr>
        <p:sp>
          <p:nvSpPr>
            <p:cNvPr id="54" name=""/>
            <p:cNvSpPr/>
            <p:nvPr/>
          </p:nvSpPr>
          <p:spPr>
            <a:xfrm>
              <a:off x="1905120" y="2590920"/>
              <a:ext cx="1679400" cy="1190520"/>
            </a:xfrm>
            <a:prstGeom prst="flowChartDecision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4120" y="29718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581280" y="259092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3240" y="2971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5909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00600" y="2971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259092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94840" y="2971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9400" y="38386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8386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792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8386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8052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8386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1480" y="4191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38386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05720" y="41911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9400" y="51055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680" y="5486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51055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4400" y="5486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4360" y="510552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4864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i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51055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3440" y="54864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513396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45520" y="5486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28600"/>
            <a:ext cx="4876920" cy="1523880"/>
          </a:xfrm>
          <a:custGeom>
            <a:avLst/>
            <a:gdLst>
              <a:gd name="textAreaLeft" fmla="*/ 761760 w 4876920"/>
              <a:gd name="textAreaRight" fmla="*/ 4546080 w 4876920"/>
              <a:gd name="textAreaTop" fmla="*/ 414720 h 1523880"/>
              <a:gd name="textAreaBottom" fmla="*/ 1109160 h 1523880"/>
            </a:gdLst>
            <a:ahLst/>
            <a:rect l="textAreaLeft" t="textAreaTop" r="textAreaRight" b="textAreaBottom"/>
            <a:pathLst>
              <a:path w="21600" h="21600">
                <a:moveTo>
                  <a:pt x="3375" y="5878"/>
                </a:moveTo>
                <a:lnTo>
                  <a:pt x="18382" y="5878"/>
                </a:lnTo>
                <a:lnTo>
                  <a:pt x="18382" y="0"/>
                </a:lnTo>
                <a:lnTo>
                  <a:pt x="21600" y="10800"/>
                </a:lnTo>
                <a:lnTo>
                  <a:pt x="18382" y="21600"/>
                </a:lnTo>
                <a:lnTo>
                  <a:pt x="18382" y="15722"/>
                </a:lnTo>
                <a:lnTo>
                  <a:pt x="3375" y="15722"/>
                </a:lnTo>
                <a:close/>
              </a:path>
              <a:path w="21600" h="21600">
                <a:moveTo>
                  <a:pt x="0" y="5878"/>
                </a:moveTo>
                <a:lnTo>
                  <a:pt x="675" y="5878"/>
                </a:lnTo>
                <a:lnTo>
                  <a:pt x="675" y="15722"/>
                </a:lnTo>
                <a:lnTo>
                  <a:pt x="0" y="15722"/>
                </a:lnTo>
                <a:close/>
              </a:path>
              <a:path w="21600" h="21600">
                <a:moveTo>
                  <a:pt x="1350" y="5878"/>
                </a:moveTo>
                <a:lnTo>
                  <a:pt x="2700" y="5878"/>
                </a:lnTo>
                <a:lnTo>
                  <a:pt x="2700" y="15722"/>
                </a:lnTo>
                <a:lnTo>
                  <a:pt x="1350" y="15722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华文彩云"/>
              </a:rPr>
              <a:t>复　习　数　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00200"/>
            <a:ext cx="1752480" cy="838080"/>
          </a:xfrm>
          <a:prstGeom prst="cloudCallout">
            <a:avLst>
              <a:gd name="adj1" fmla="val -61504"/>
              <a:gd name="adj2" fmla="val -23106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600200"/>
            <a:ext cx="1752480" cy="838080"/>
          </a:xfrm>
          <a:prstGeom prst="cloudCallout">
            <a:avLst>
              <a:gd name="adj1" fmla="val 61958"/>
              <a:gd name="adj2" fmla="val -68370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47240" y="167652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El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06600" y="167652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9684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0" y="762120"/>
            <a:ext cx="1725480" cy="15429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52280" y="2590920"/>
            <a:ext cx="1679760" cy="1190520"/>
            <a:chOff x="152280" y="2590920"/>
            <a:chExt cx="1679760" cy="1190520"/>
          </a:xfrm>
        </p:grpSpPr>
        <p:sp>
          <p:nvSpPr>
            <p:cNvPr id="90" name=""/>
            <p:cNvSpPr/>
            <p:nvPr/>
          </p:nvSpPr>
          <p:spPr>
            <a:xfrm>
              <a:off x="152280" y="2590920"/>
              <a:ext cx="1679760" cy="1190520"/>
            </a:xfrm>
            <a:prstGeom prst="flowChartDecision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560" y="2971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905120" y="2590920"/>
            <a:ext cx="1679400" cy="1190520"/>
            <a:chOff x="1905120" y="2590920"/>
            <a:chExt cx="1679400" cy="1190520"/>
          </a:xfrm>
        </p:grpSpPr>
        <p:sp>
          <p:nvSpPr>
            <p:cNvPr id="93" name=""/>
            <p:cNvSpPr/>
            <p:nvPr/>
          </p:nvSpPr>
          <p:spPr>
            <a:xfrm>
              <a:off x="1905120" y="2590920"/>
              <a:ext cx="1679400" cy="1190520"/>
            </a:xfrm>
            <a:prstGeom prst="flowChartDecision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4120" y="29718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581280" y="259092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3240" y="2971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25909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00600" y="2971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259092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94840" y="2971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9400" y="38386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8386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7920" y="4191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8386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8052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38386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1480" y="4191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38386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05720" y="41911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9400" y="51055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4680" y="54864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1055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4400" y="5486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4360" y="510552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560" y="54864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i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51055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3440" y="54864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513396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45520" y="5486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8800" y="642960"/>
            <a:ext cx="3784320" cy="6944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omic Sans MS"/>
                <a:ea typeface="华文彩云"/>
              </a:rPr>
              <a:t>复 习 数 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600200"/>
            <a:ext cx="1752480" cy="838080"/>
          </a:xfrm>
          <a:prstGeom prst="cloudCallout">
            <a:avLst>
              <a:gd name="adj1" fmla="val -61504"/>
              <a:gd name="adj2" fmla="val -23106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600200"/>
            <a:ext cx="1752480" cy="838080"/>
          </a:xfrm>
          <a:prstGeom prst="cloudCallout">
            <a:avLst>
              <a:gd name="adj1" fmla="val 61958"/>
              <a:gd name="adj2" fmla="val -68370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47240" y="167652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El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600" y="167652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d9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8000" y="8668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1280" y="1247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130480" y="866880"/>
            <a:ext cx="1679400" cy="1190520"/>
            <a:chOff x="2130480" y="866880"/>
            <a:chExt cx="1679400" cy="1190520"/>
          </a:xfrm>
        </p:grpSpPr>
        <p:sp>
          <p:nvSpPr>
            <p:cNvPr id="129" name=""/>
            <p:cNvSpPr/>
            <p:nvPr/>
          </p:nvSpPr>
          <p:spPr>
            <a:xfrm>
              <a:off x="2130480" y="866880"/>
              <a:ext cx="1679400" cy="1190520"/>
            </a:xfrm>
            <a:prstGeom prst="flowChartDecision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9480" y="12477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807000" y="8668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88600" y="12477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8668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5960" y="12477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6000" y="8668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20200" y="1247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4760" y="211464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2240" y="2467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0480" y="211464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73280" y="2467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211464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05880" y="2467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3160" y="211464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37200" y="2467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6000" y="2085840"/>
            <a:ext cx="1679400" cy="119088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31080" y="24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4760" y="33814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0400" y="37623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0480" y="33814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9760" y="3762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79720" y="33814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1920" y="3762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i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9480" y="33814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88800" y="37623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6000" y="340992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70880" y="37623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4960" y="4829040"/>
            <a:ext cx="1679400" cy="119088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8480" y="52102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87880" y="4829040"/>
            <a:ext cx="1679400" cy="1190880"/>
          </a:xfrm>
          <a:prstGeom prst="flowChartDecision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98800" y="5210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35440" y="5210280"/>
            <a:ext cx="352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经典趣体简"/>
              </a:rPr>
              <a:t>+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经典趣体简"/>
              <a:ea typeface="经典趣体简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16680" y="52862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经典趣体简"/>
              </a:rPr>
              <a:t>=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经典趣体简"/>
              <a:ea typeface="经典趣体简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38880" y="4606920"/>
            <a:ext cx="1497240" cy="225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400" y="4572000"/>
            <a:ext cx="209232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600880" y="4613400"/>
            <a:ext cx="3085920" cy="216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607840" y="1206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经典趣体简"/>
              </a:rPr>
              <a:t>算  一  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4191120"/>
            <a:ext cx="1752480" cy="838080"/>
          </a:xfrm>
          <a:prstGeom prst="cloudCallout">
            <a:avLst>
              <a:gd name="adj1" fmla="val -37319"/>
              <a:gd name="adj2" fmla="val 59282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43434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8280" y="1892160"/>
            <a:ext cx="1679760" cy="1190520"/>
            <a:chOff x="368280" y="1892160"/>
            <a:chExt cx="1679760" cy="1190520"/>
          </a:xfrm>
        </p:grpSpPr>
        <p:sp>
          <p:nvSpPr>
            <p:cNvPr id="172" name=""/>
            <p:cNvSpPr/>
            <p:nvPr/>
          </p:nvSpPr>
          <p:spPr>
            <a:xfrm>
              <a:off x="368280" y="1892160"/>
              <a:ext cx="1679760" cy="1190520"/>
            </a:xfrm>
            <a:prstGeom prst="flowChartDecision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1560" y="22730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120760" y="1892160"/>
            <a:ext cx="1679400" cy="1190520"/>
            <a:chOff x="2120760" y="1892160"/>
            <a:chExt cx="1679400" cy="1190520"/>
          </a:xfrm>
        </p:grpSpPr>
        <p:sp>
          <p:nvSpPr>
            <p:cNvPr id="175" name=""/>
            <p:cNvSpPr/>
            <p:nvPr/>
          </p:nvSpPr>
          <p:spPr>
            <a:xfrm>
              <a:off x="2120760" y="1892160"/>
              <a:ext cx="1679400" cy="1190520"/>
            </a:xfrm>
            <a:prstGeom prst="flowChartDecision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79760" y="22730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楷体_GB2312"/>
                </a:rPr>
                <a:t>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797280" y="189216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8880" y="22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73800" y="1892160"/>
            <a:ext cx="167940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16240" y="22734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26280" y="189216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10840" y="22734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040" y="313992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2880" y="3492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0760" y="313992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63560" y="34923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97280" y="313992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6520" y="3492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3800" y="3139920"/>
            <a:ext cx="167940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27480" y="3492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26280" y="313992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21360" y="34923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5040" y="440676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0680" y="4788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0760" y="440676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0400" y="4788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70360" y="4406760"/>
            <a:ext cx="167940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02560" y="47880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hi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49760" y="440676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79080" y="47880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ou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6280" y="443556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61160" y="47880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if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8280" y="56260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" y="6006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ix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0760" y="5654520"/>
            <a:ext cx="1679760" cy="119088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74120" y="60069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even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73600" y="56260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02560" y="60069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igh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26080" y="5626080"/>
            <a:ext cx="167976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55400" y="6006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nine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02600" y="5626080"/>
            <a:ext cx="1679400" cy="1190520"/>
          </a:xfrm>
          <a:prstGeom prst="flowChartDecision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08960" y="60069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06560" y="444600"/>
            <a:ext cx="2343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et's rea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6624720" cy="4346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219320" y="76320"/>
            <a:ext cx="5562360" cy="2057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352680" y="990720"/>
            <a:ext cx="243864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Let's pl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1680" y="169848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方正舒体"/>
                <a:ea typeface="方正舒体"/>
              </a:rPr>
              <a:t>单词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56560" y="264636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  <a:ea typeface="楷体_GB2312"/>
              </a:rPr>
              <a:t>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27040" y="264636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  <a:ea typeface="楷体_GB2312"/>
              </a:rPr>
              <a:t>seve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1080" y="264636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楷体_GB2312"/>
              </a:rPr>
              <a:t>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5480" y="365760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nine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7960" y="36576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  <a:ea typeface="楷体_GB2312"/>
              </a:rPr>
              <a:t>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7764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one                          11   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two                          12   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three                        13   thirt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four                          14   four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  five                           15   fif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 six                            16   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  seven                       17   seve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  eight                         18   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  nine                          19   ninetee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  ten                          20   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3:20:44Z</dcterms:created>
  <dc:creator>微软用户</dc:creator>
  <dc:description/>
  <dc:language>en-US</dc:language>
  <cp:lastModifiedBy>ydz</cp:lastModifiedBy>
  <dcterms:modified xsi:type="dcterms:W3CDTF">2012-05-23T04:05:57Z</dcterms:modified>
  <cp:revision>21</cp:revision>
  <dc:subject/>
  <dc:title>幻灯片 1</dc:title>
</cp:coreProperties>
</file>