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8FE-B589-4E03-ADD8-153AC7FD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C71-7725-4902-8B3A-E6719A4D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418-8E08-4CD6-BE46-21B954CB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DE2-FB7E-404C-B2F2-E404942C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F1C-77DD-48AF-AFBF-744E9412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DA7-CD9D-44EA-A4A0-B18FAB9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7A4-C9CB-4237-867B-E92A808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54D-EC98-4DAD-B8BC-34CACE2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22F-FAEA-4A47-B372-6F740053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F45-4458-4977-9615-90C02D4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DB2-1EC4-4604-9AD3-89AA1B2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C2D-62F1-474D-92D4-03274083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C74-CF7B-4AAA-9BFA-58A424FB5D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3276720"/>
            <a:ext cx="60199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文鼎水管体"/>
              </a:rPr>
              <a:t>Unit3 What can you feel?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文鼎水管体"/>
              <a:ea typeface="文鼎水管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2514600"/>
            <a:ext cx="54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dule1 Using my five sens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78240" y="76212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沪教牛津 四年级英语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71600" y="2209680"/>
            <a:ext cx="6423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Ｔ</a:t>
            </a: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hank you !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务目标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IN TAS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0" y="228600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能用所学的知识描述物品的特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8320" y="304812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能用祈使句要求别人做什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4400" y="3809880"/>
            <a:ext cx="8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在情景的创设中熟练运用所学句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87800" y="1066680"/>
            <a:ext cx="55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学习目标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 LEARNING OBJECTIV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1600200"/>
            <a:ext cx="24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知识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4720" y="21337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词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VOCABULA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7432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习所学的动物单词引入新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nke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以及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onke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的单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l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581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描述物品特征的形容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lu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f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ug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并可以适当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luff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毛茸茸的）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ick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粘的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724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并能在情境中运用动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ll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培养学生的实践操作能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87800" y="762120"/>
            <a:ext cx="55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学习目标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 LEARNING OBJECTIV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4920" y="1295280"/>
            <a:ext cx="24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知识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02760" y="18288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法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并掌握用所学的形容词来描述物品的特性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lunt. These are h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50532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并祈使句以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t…in (on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介词词组的综合运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t o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ut 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ke o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不同用法掌握用特殊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 have you got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了解别人的一些信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用特殊疑问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ow does it fe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了解对方触摸物品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感觉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ose balloon is thi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询问物品的所属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6240" y="83808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技能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133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熟练运用祈使句让学生进行一些活动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el the donke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281952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用英语准确表达自己的感觉和客观真实描述事物的特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5053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鼓励学生在有效的课堂游戏中学习、感悟和运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236232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91120" y="28195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…in (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91440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at can you feel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0" y="16002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 feel cold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19720" y="3429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…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81080" y="106668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at can you feel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0" y="1752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 feel ho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3114720" cy="46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029200" y="152388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onk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3124080"/>
            <a:ext cx="327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t's a donkey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14479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fe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3114720" cy="4647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334120" y="3352680"/>
            <a:ext cx="1447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of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3T06:11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