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4.jpeg" ContentType="image/jpeg"/>
  <Override PartName="/ppt/media/image15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C2C-4C70-4A50-8318-6F7763C8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3E1-D8AB-42DA-BB7A-888F9951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852-F522-481D-BE7F-ED04571D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7CA-53E1-4470-A643-C294FCE4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034-2A1A-4330-BEFD-28E82F50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4DF-1023-400A-84E2-889C5873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CDF-4F6A-439E-858C-3BD1AA12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1E-9D7A-45D7-BCF1-39BED11B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64B-D433-4544-8D99-90703E1E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E3F-F7EC-4057-8895-50DB8D36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3FC-3E48-4A92-9406-BA350FE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794-7B53-496E-8491-5B1C2E76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5AA-9A37-454F-9184-2759B05EFC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hyperlink" Target="http://www.gs.xinhuanet.com/gansushuhua/maaimin/1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3809880"/>
            <a:ext cx="5334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文鼎水管体"/>
              </a:rPr>
              <a:t>Unit 4 What can you smell and taste?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文鼎水管体"/>
              <a:ea typeface="文鼎水管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95680" y="5029200"/>
            <a:ext cx="4191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dule1 Using my five sense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47920" y="2971800"/>
            <a:ext cx="590544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Module 1 Using my five sen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944720" y="144792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沪教牛津 四年级英语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00200" y="2209680"/>
            <a:ext cx="57913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Ｔ</a:t>
            </a: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hank you !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240" y="1066680"/>
            <a:ext cx="24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务目标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AIN TAS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2320" y="190512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能运用所学知识表达某人的能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040" y="2666880"/>
            <a:ext cx="5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熟练运用句型描述一些食物、水果的外形以及闻到的感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8080" y="350532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运用掌握的语言知识了解别人有什么以及物品的特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22360" y="4419720"/>
            <a:ext cx="36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游戏能激发学生运用多种感官参与语言交流活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16400" y="1066680"/>
            <a:ext cx="55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学习目标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 LEARNING OBJECTIV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520" y="1523880"/>
            <a:ext cx="24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知识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63320" y="19810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词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VOCABULA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习并巩固一些动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e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me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s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ou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引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li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a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以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ab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6576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一些有关果汁的单词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ineapple ju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pple ju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me ju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通过学生的自主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可以拓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emona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-u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单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0440" y="990720"/>
            <a:ext cx="55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学习目标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 LEARNING OBJECTIVE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560" y="1523880"/>
            <a:ext cx="24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言知识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55040" y="20574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法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74320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情态动词表达某人的能力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e can sm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3526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特殊疑问句询问对方闻到或尝到了什么，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at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ou smel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1148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运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句型描述物品的全部特征，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t’s smoo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t’s 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82560" y="137160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技能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KIL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205740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能运用所学知识表达一种能力和真实的感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81952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能根据真实的语境进行自然的交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65760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生能在生动的游戏活动中巩固所学的知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00800" y="4267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95680" y="22096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124080" y="4267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295280" y="4267080"/>
            <a:ext cx="1595520" cy="1513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981080" y="2743200"/>
            <a:ext cx="1295640" cy="123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248520" y="1143000"/>
            <a:ext cx="165096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4800600" y="4267080"/>
            <a:ext cx="1473120" cy="152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2971800" y="990720"/>
            <a:ext cx="13986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1447920" y="1143000"/>
            <a:ext cx="1143000" cy="123984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1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914400"/>
            <a:ext cx="4691160" cy="495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371600"/>
            <a:ext cx="2362320" cy="1371600"/>
          </a:xfrm>
          <a:prstGeom prst="cloudCallout">
            <a:avLst>
              <a:gd name="adj1" fmla="val 79097"/>
              <a:gd name="adj2" fmla="val 121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’t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962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bl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90840" y="2057400"/>
            <a:ext cx="1352520" cy="301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86520" y="2438280"/>
            <a:ext cx="1305000" cy="2828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62440" y="1219320"/>
            <a:ext cx="3047760" cy="380880"/>
          </a:xfrm>
          <a:prstGeom prst="wedgeRoundRectCallout">
            <a:avLst>
              <a:gd name="adj1" fmla="val -43518"/>
              <a:gd name="adj2" fmla="val 31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you sm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3190680" y="4572000"/>
            <a:ext cx="2895480" cy="533520"/>
          </a:xfrm>
          <a:prstGeom prst="wedgeRoundRectCallout">
            <a:avLst>
              <a:gd name="adj1" fmla="val -52361"/>
              <a:gd name="adj2" fmla="val 2026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smell like a cak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114720" y="2819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1352520" cy="3016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2438280"/>
            <a:ext cx="1304640" cy="282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120" y="1371600"/>
            <a:ext cx="2209680" cy="914400"/>
          </a:xfrm>
          <a:prstGeom prst="cloudCallout">
            <a:avLst>
              <a:gd name="adj1" fmla="val -4375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124080"/>
            <a:ext cx="1143000" cy="10670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1185200">
            <a:off x="3769920" y="4568400"/>
            <a:ext cx="2209680" cy="762120"/>
          </a:xfrm>
          <a:prstGeom prst="wedgeEllipseCallout">
            <a:avLst>
              <a:gd name="adj1" fmla="val -40902"/>
              <a:gd name="adj2" fmla="val 145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3T06:13:2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