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0D2-6565-45E3-B16F-7794A4BB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267-69BE-493F-8F43-A2D2E0AC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33F-2930-47DB-8A4D-F26B054E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391-7BAC-4C78-8914-67EFA711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620E-E338-4DDF-9494-940AB7F4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41A9-6A44-4264-AD68-D7FE1FC8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7E35-AA8F-4226-815B-8821656D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861F-147A-489F-9E2F-205406D8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06FB-8680-4DFC-9F78-C8A60F62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F61A-A673-4504-86B9-355BE2D9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1EF4-6330-491E-9D85-DD4629F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7A6-BA0D-44F7-AD74-ABF99629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5E13-6BA2-4D14-AB29-97AEC466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6CF3-04C9-452E-98D0-2168831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0925-F25C-4B62-A4C4-5B6DDE22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9D8C-8D4C-43C0-AC33-22606AEA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B1D3-9ECA-4945-8548-4834F42A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7D1-62E0-4B00-BDC1-2BE46F6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F0A-B3F9-434D-A1EB-7D20DA3B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3A6-230D-490E-BC46-A08AE3A8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C91-F68B-40E2-812E-D809CBE4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DA9-80E4-4DE1-8884-B66445D2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C97-9421-43E7-9478-4B96A559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0B2-687B-43F3-941F-E8FD4F02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7485-F3E0-4CD1-959F-2B3AD1B678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82EA-478E-4146-84E0-F1C5B66D13C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8FB9-13C9-43D9-8E23-5598063013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071800" y="2714760"/>
            <a:ext cx="505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Unit4 Free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穿着，戴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= is/am/are wea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71640" y="1486080"/>
            <a:ext cx="648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I/ You have got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我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你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she/he has got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她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他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的名字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 has g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QQ截图20131117202150"/>
          <p:cNvPicPr/>
          <p:nvPr/>
        </p:nvPicPr>
        <p:blipFill>
          <a:blip r:embed="rId1"/>
          <a:stretch/>
        </p:blipFill>
        <p:spPr>
          <a:xfrm>
            <a:off x="252360" y="117360"/>
            <a:ext cx="8891640" cy="2592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427120" y="29034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弹钢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79280" y="2903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打乒乓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803840" y="290340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倒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035840" y="290340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踢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QQ截图20131117202239"/>
          <p:cNvPicPr/>
          <p:nvPr/>
        </p:nvPicPr>
        <p:blipFill>
          <a:blip r:embed="rId2"/>
          <a:stretch/>
        </p:blipFill>
        <p:spPr>
          <a:xfrm>
            <a:off x="196920" y="3429000"/>
            <a:ext cx="8718480" cy="2894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6360" y="63230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游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413080" y="632304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滑旱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788000" y="6323040"/>
            <a:ext cx="18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滑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6892920" y="63230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骑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40" y="241200"/>
            <a:ext cx="3708720" cy="5672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440" y="591336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He can play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068720" y="9360"/>
            <a:ext cx="4753080" cy="5904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754520" y="617220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He can play the p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8163060_160333371110_2"/>
          <p:cNvPicPr/>
          <p:nvPr/>
        </p:nvPicPr>
        <p:blipFill>
          <a:blip r:embed="rId1"/>
          <a:srcRect l="0" t="0" r="0" b="4799"/>
          <a:stretch/>
        </p:blipFill>
        <p:spPr>
          <a:xfrm>
            <a:off x="252360" y="982800"/>
            <a:ext cx="6264360" cy="466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rcRect l="0" t="0" r="0" b="6576"/>
          <a:stretch/>
        </p:blipFill>
        <p:spPr>
          <a:xfrm>
            <a:off x="5219640" y="135000"/>
            <a:ext cx="3895920" cy="5365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793800" y="6172200"/>
            <a:ext cx="49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He can play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a1349540923dd5403c6de83d009b3de9d8248a7"/>
          <p:cNvPicPr/>
          <p:nvPr/>
        </p:nvPicPr>
        <p:blipFill>
          <a:blip r:embed="rId1"/>
          <a:stretch/>
        </p:blipFill>
        <p:spPr>
          <a:xfrm>
            <a:off x="36360" y="119160"/>
            <a:ext cx="3961080" cy="529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20130225084929_7875"/>
          <p:cNvPicPr/>
          <p:nvPr/>
        </p:nvPicPr>
        <p:blipFill>
          <a:blip r:embed="rId2"/>
          <a:srcRect l="0" t="0" r="0" b="21151"/>
          <a:stretch/>
        </p:blipFill>
        <p:spPr>
          <a:xfrm>
            <a:off x="3997440" y="1557360"/>
            <a:ext cx="4922640" cy="387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466560" y="5827680"/>
            <a:ext cx="35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He can sw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313160" y="119160"/>
            <a:ext cx="46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She can play table 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440" y="117360"/>
            <a:ext cx="4283280" cy="571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392360" cy="4760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440" y="5827680"/>
            <a:ext cx="49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He can stand on your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284720" y="981000"/>
            <a:ext cx="49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He can  roller 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6360" y="2063880"/>
            <a:ext cx="4802400" cy="460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838760" y="-9360"/>
            <a:ext cx="4305240" cy="5445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4861080" y="5592600"/>
            <a:ext cx="49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she can ride 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360" y="1484280"/>
            <a:ext cx="49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She can 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7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can </a:t>
            </a: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能，会，可以   </a:t>
            </a: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can not=can`t </a:t>
            </a: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不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genius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天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uperstar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超级明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drive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开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a racing car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赛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Can you ......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？你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.....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Yes, I can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是的，我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No, I can′t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，我不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I/she/he can ......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她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他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2-08T12:13:20Z</dcterms:modified>
  <cp:revision>2</cp:revision>
  <dc:subject/>
  <dc:title>幻灯片 1</dc:title>
</cp:coreProperties>
</file>