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15.jpeg" ContentType="image/jpeg"/>
  <Override PartName="/ppt/media/image13.png" ContentType="image/png"/>
  <Override PartName="/ppt/media/image12.png" ContentType="image/png"/>
  <Override PartName="/ppt/media/click.wav" ContentType="audio/x-wav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laser.wav" ContentType="audio/x-wav"/>
  <Override PartName="/ppt/media/image4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B3B2-90D8-4243-B060-4D04F7728B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1077-6761-4E4D-BD86-1915C5F3EC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60F8-6F45-460A-9FDF-E5F522E471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0C1D-41C1-4E09-902A-4F6D90AF3B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6CF-F700-41D8-9A9F-DE6320EEBC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648D-DA57-476B-879B-27DBA5D19F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6926-46CD-419A-9026-A65F23686F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48E7-1B86-47D7-8989-704A4D3484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B6BA-AA18-4B33-B567-62F116CA3C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0018-0D15-4A72-8070-68A8674D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C06-1FB3-4354-8D74-947317FD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B14-9521-427D-9FE1-723EC77C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955-6AF9-4AA6-BDC0-851B4FE6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C81-0874-42BB-BCCB-E6981956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A1E-4582-473F-84D5-A45FAA7D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63B-8BD5-42BB-A0BA-A36C56CB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5CE-984B-4F6B-87E4-6D916934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B03-CBE6-4019-9667-F9345884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0416-2326-48DB-ABD2-2FB555DB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CBC-6EED-4AC9-83A7-9F17613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3E6-0F12-485F-9EA4-86A62EA0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A0E6-9386-4D8D-9B04-F2691C7C7E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E443-C24F-4375-9858-96B092B944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22235;&#19978;/song.swf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click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audio" Target="../media/click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lick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7ECE-EC02-4DA2-A78F-F67D92D7B8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4315455_163707089554_2">
            <a:hlinkClick r:id="rId1"/>
          </p:cNvPr>
          <p:cNvPicPr/>
          <p:nvPr/>
        </p:nvPicPr>
        <p:blipFill>
          <a:blip r:embed="rId2"/>
          <a:srcRect l="0" t="0" r="0" b="42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QQ截图20131109213805"/>
          <p:cNvPicPr/>
          <p:nvPr/>
        </p:nvPicPr>
        <p:blipFill>
          <a:blip r:embed="rId3"/>
          <a:stretch/>
        </p:blipFill>
        <p:spPr>
          <a:xfrm>
            <a:off x="4211640" y="422100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6035040" y="414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厨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666680" y="414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客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QQ截图20131109212632"/>
          <p:cNvPicPr/>
          <p:nvPr/>
        </p:nvPicPr>
        <p:blipFill>
          <a:blip r:embed="rId4"/>
          <a:stretch/>
        </p:blipFill>
        <p:spPr>
          <a:xfrm>
            <a:off x="4211640" y="3060720"/>
            <a:ext cx="1368360" cy="101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QQ截图20131109212847"/>
          <p:cNvPicPr/>
          <p:nvPr/>
        </p:nvPicPr>
        <p:blipFill>
          <a:blip r:embed="rId5"/>
          <a:stretch/>
        </p:blipFill>
        <p:spPr>
          <a:xfrm>
            <a:off x="2771640" y="4149720"/>
            <a:ext cx="129564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4953960" y="306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卧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912760" y="41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卫生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0"/>
          <p:cNvSpPr txBox="1"/>
          <p:nvPr/>
        </p:nvSpPr>
        <p:spPr>
          <a:xfrm>
            <a:off x="2052720" y="189000"/>
            <a:ext cx="48448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Unit2 Our new home</a:t>
            </a:r>
            <a:endParaRPr b="0" lang="en-US" sz="2800" spc="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  <p:sndAc>
      <p:stSnd>
        <p:snd r:embed="rId6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80880" y="907920"/>
            <a:ext cx="861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What's in your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你们学校有哪些场所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539640" y="1989000"/>
            <a:ext cx="3287880" cy="2202120"/>
          </a:xfrm>
          <a:prstGeom prst="irregularSeal1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3708360" y="1844640"/>
            <a:ext cx="3581280" cy="2563920"/>
          </a:xfrm>
          <a:prstGeom prst="irregularSeal1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play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044720" y="4149720"/>
            <a:ext cx="3286080" cy="2201760"/>
          </a:xfrm>
          <a:prstGeom prst="irregularSeal1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teacher's off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79200" y="324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8"/>
          <p:cNvSpPr/>
          <p:nvPr/>
        </p:nvSpPr>
        <p:spPr>
          <a:xfrm>
            <a:off x="4716360" y="4292640"/>
            <a:ext cx="3287880" cy="2203560"/>
          </a:xfrm>
          <a:prstGeom prst="irregularSeal1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9"/>
          <p:cNvSpPr txBox="1"/>
          <p:nvPr/>
        </p:nvSpPr>
        <p:spPr>
          <a:xfrm>
            <a:off x="1187280" y="189000"/>
            <a:ext cx="1371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Review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6013440" y="549360"/>
            <a:ext cx="3286080" cy="2203200"/>
          </a:xfrm>
          <a:prstGeom prst="irregularSeal1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7" name="click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16000" y="-20520"/>
            <a:ext cx="705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Comic Sans MS"/>
              </a:rPr>
              <a:t>This is  our new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332000" y="836640"/>
            <a:ext cx="2881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Let's learn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grpSp>
        <p:nvGrpSpPr>
          <p:cNvPr id="68" name="Group 5"/>
          <p:cNvGrpSpPr/>
          <p:nvPr/>
        </p:nvGrpSpPr>
        <p:grpSpPr>
          <a:xfrm>
            <a:off x="76320" y="1440"/>
            <a:ext cx="914400" cy="914400"/>
            <a:chOff x="76320" y="1440"/>
            <a:chExt cx="914400" cy="914400"/>
          </a:xfrm>
        </p:grpSpPr>
        <p:sp>
          <p:nvSpPr>
            <p:cNvPr id="69" name="Rectangle 6"/>
            <p:cNvSpPr/>
            <p:nvPr/>
          </p:nvSpPr>
          <p:spPr>
            <a:xfrm>
              <a:off x="76320" y="1440"/>
              <a:ext cx="91440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7" descr=""/>
            <p:cNvPicPr/>
            <p:nvPr/>
          </p:nvPicPr>
          <p:blipFill>
            <a:blip r:embed="rId1"/>
            <a:srcRect l="0" t="0" r="-332" b="148"/>
            <a:stretch/>
          </p:blipFill>
          <p:spPr>
            <a:xfrm>
              <a:off x="155520" y="92520"/>
              <a:ext cx="701640" cy="73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8"/>
          <p:cNvGrpSpPr/>
          <p:nvPr/>
        </p:nvGrpSpPr>
        <p:grpSpPr>
          <a:xfrm>
            <a:off x="87480" y="1440"/>
            <a:ext cx="914400" cy="914400"/>
            <a:chOff x="87480" y="1440"/>
            <a:chExt cx="914400" cy="914400"/>
          </a:xfrm>
        </p:grpSpPr>
        <p:sp>
          <p:nvSpPr>
            <p:cNvPr id="72" name="Rectangle 9"/>
            <p:cNvSpPr/>
            <p:nvPr/>
          </p:nvSpPr>
          <p:spPr>
            <a:xfrm>
              <a:off x="87480" y="1440"/>
              <a:ext cx="914400" cy="9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0" descr=""/>
            <p:cNvPicPr/>
            <p:nvPr/>
          </p:nvPicPr>
          <p:blipFill>
            <a:blip r:embed="rId2"/>
            <a:srcRect l="0" t="0" r="-332" b="148"/>
            <a:stretch/>
          </p:blipFill>
          <p:spPr>
            <a:xfrm>
              <a:off x="166680" y="92520"/>
              <a:ext cx="701640" cy="7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Text Box 11"/>
          <p:cNvSpPr/>
          <p:nvPr/>
        </p:nvSpPr>
        <p:spPr>
          <a:xfrm>
            <a:off x="971640" y="105264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Let's gu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"/>
          <p:cNvPicPr/>
          <p:nvPr/>
        </p:nvPicPr>
        <p:blipFill>
          <a:blip r:embed="rId3"/>
          <a:srcRect l="0" t="0" r="0" b="5197"/>
          <a:stretch/>
        </p:blipFill>
        <p:spPr>
          <a:xfrm>
            <a:off x="612720" y="1844640"/>
            <a:ext cx="2592360" cy="2084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4"/>
          <p:cNvSpPr/>
          <p:nvPr/>
        </p:nvSpPr>
        <p:spPr>
          <a:xfrm>
            <a:off x="539640" y="1917720"/>
            <a:ext cx="2664000" cy="2060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"/>
          <p:cNvPicPr/>
          <p:nvPr/>
        </p:nvPicPr>
        <p:blipFill>
          <a:blip r:embed="rId4"/>
          <a:srcRect l="0" t="0" r="0" b="12182"/>
          <a:stretch/>
        </p:blipFill>
        <p:spPr>
          <a:xfrm>
            <a:off x="3419640" y="1989000"/>
            <a:ext cx="2736720" cy="17971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2"/>
          <p:cNvSpPr/>
          <p:nvPr/>
        </p:nvSpPr>
        <p:spPr>
          <a:xfrm>
            <a:off x="3357720" y="1928880"/>
            <a:ext cx="2735280" cy="2133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5"/>
          <a:srcRect l="0" t="0" r="0" b="11985"/>
          <a:stretch/>
        </p:blipFill>
        <p:spPr>
          <a:xfrm>
            <a:off x="6300720" y="1917720"/>
            <a:ext cx="2374920" cy="1725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5"/>
          <p:cNvSpPr/>
          <p:nvPr/>
        </p:nvSpPr>
        <p:spPr>
          <a:xfrm>
            <a:off x="6072120" y="1928880"/>
            <a:ext cx="2743200" cy="2133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"/>
          <p:cNvPicPr/>
          <p:nvPr/>
        </p:nvPicPr>
        <p:blipFill>
          <a:blip r:embed="rId6"/>
          <a:stretch/>
        </p:blipFill>
        <p:spPr>
          <a:xfrm>
            <a:off x="539640" y="4292640"/>
            <a:ext cx="2624400" cy="18702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611280" y="4076640"/>
            <a:ext cx="2666880" cy="213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0" descr=""/>
          <p:cNvPicPr/>
          <p:nvPr/>
        </p:nvPicPr>
        <p:blipFill>
          <a:blip r:embed="rId7"/>
          <a:srcRect l="0" t="6828" r="0" b="0"/>
          <a:stretch/>
        </p:blipFill>
        <p:spPr>
          <a:xfrm>
            <a:off x="3419640" y="4357800"/>
            <a:ext cx="2665080" cy="1861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1"/>
          <p:cNvSpPr/>
          <p:nvPr/>
        </p:nvSpPr>
        <p:spPr>
          <a:xfrm>
            <a:off x="3429000" y="4071960"/>
            <a:ext cx="2666880" cy="213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Room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2" descr=""/>
          <p:cNvPicPr/>
          <p:nvPr/>
        </p:nvPicPr>
        <p:blipFill>
          <a:blip r:embed="rId8"/>
          <a:srcRect l="0" t="0" r="0" b="12547"/>
          <a:stretch/>
        </p:blipFill>
        <p:spPr>
          <a:xfrm>
            <a:off x="6156360" y="4292640"/>
            <a:ext cx="2736720" cy="16365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"/>
          <p:cNvSpPr/>
          <p:nvPr/>
        </p:nvSpPr>
        <p:spPr>
          <a:xfrm>
            <a:off x="6143760" y="4071960"/>
            <a:ext cx="2666880" cy="213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29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182520" y="117360"/>
            <a:ext cx="3814920" cy="7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Let’s lear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068720" y="189000"/>
            <a:ext cx="532764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hat's in your new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0" r="0" b="8157"/>
          <a:stretch/>
        </p:blipFill>
        <p:spPr>
          <a:xfrm>
            <a:off x="108000" y="1052640"/>
            <a:ext cx="2592360" cy="20192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34920" y="907920"/>
            <a:ext cx="2662200" cy="2521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9280" y="3429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 liv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rcRect l="0" t="0" r="0" b="11867"/>
          <a:stretch/>
        </p:blipFill>
        <p:spPr>
          <a:xfrm>
            <a:off x="2844720" y="1197000"/>
            <a:ext cx="2735280" cy="18032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8"/>
          <p:cNvSpPr/>
          <p:nvPr/>
        </p:nvSpPr>
        <p:spPr>
          <a:xfrm>
            <a:off x="2627280" y="1125360"/>
            <a:ext cx="3240000" cy="2159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844720" y="342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 dining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rcRect l="0" t="0" r="0" b="12391"/>
          <a:stretch/>
        </p:blipFill>
        <p:spPr>
          <a:xfrm>
            <a:off x="5797440" y="1197000"/>
            <a:ext cx="2940120" cy="18748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11"/>
          <p:cNvSpPr/>
          <p:nvPr/>
        </p:nvSpPr>
        <p:spPr>
          <a:xfrm>
            <a:off x="6012000" y="907920"/>
            <a:ext cx="2592360" cy="237492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372360" y="3429000"/>
            <a:ext cx="19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 bed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4"/>
          <a:stretch/>
        </p:blipFill>
        <p:spPr>
          <a:xfrm>
            <a:off x="36360" y="4076640"/>
            <a:ext cx="2624400" cy="18684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4"/>
          <p:cNvSpPr/>
          <p:nvPr/>
        </p:nvSpPr>
        <p:spPr>
          <a:xfrm>
            <a:off x="34920" y="4005360"/>
            <a:ext cx="3022560" cy="2089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6" descr=""/>
          <p:cNvPicPr/>
          <p:nvPr/>
        </p:nvPicPr>
        <p:blipFill>
          <a:blip r:embed="rId5"/>
          <a:srcRect l="0" t="6400" r="0" b="0"/>
          <a:stretch/>
        </p:blipFill>
        <p:spPr>
          <a:xfrm>
            <a:off x="2844720" y="4143240"/>
            <a:ext cx="2879640" cy="20224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7"/>
          <p:cNvSpPr/>
          <p:nvPr/>
        </p:nvSpPr>
        <p:spPr>
          <a:xfrm>
            <a:off x="2844720" y="3933720"/>
            <a:ext cx="2879640" cy="201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2987640" y="6310440"/>
            <a:ext cx="21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 bath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"/>
          <p:cNvPicPr/>
          <p:nvPr/>
        </p:nvPicPr>
        <p:blipFill>
          <a:blip r:embed="rId6"/>
          <a:srcRect l="0" t="0" r="0" b="11653"/>
          <a:stretch/>
        </p:blipFill>
        <p:spPr>
          <a:xfrm>
            <a:off x="5940360" y="4076640"/>
            <a:ext cx="2949480" cy="1781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0"/>
          <p:cNvSpPr/>
          <p:nvPr/>
        </p:nvSpPr>
        <p:spPr>
          <a:xfrm>
            <a:off x="6012000" y="4005360"/>
            <a:ext cx="2879640" cy="2016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.What’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6300720" y="631044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 g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95D7-A9A1-4768-9470-B3B36D9686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8"/>
          <p:cNvPicPr/>
          <p:nvPr/>
        </p:nvPicPr>
        <p:blipFill>
          <a:blip r:embed="rId1"/>
          <a:stretch/>
        </p:blipFill>
        <p:spPr>
          <a:xfrm>
            <a:off x="-714240" y="0"/>
            <a:ext cx="9858240" cy="6959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252360" y="5824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let's  find the lost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539640" y="1268280"/>
            <a:ext cx="1368360" cy="129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客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419640" y="1341360"/>
            <a:ext cx="151272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厨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6588000" y="1197000"/>
            <a:ext cx="1513080" cy="136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餐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611280" y="3573360"/>
            <a:ext cx="1512720" cy="136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卧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3780000" y="3573360"/>
            <a:ext cx="1512720" cy="136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花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6877080" y="3573360"/>
            <a:ext cx="1511280" cy="1366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浴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-30240" y="2565360"/>
            <a:ext cx="2659320" cy="79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 l_v_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2916360" y="2565360"/>
            <a:ext cx="2447640" cy="865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 k_tch_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 rot="21540000">
            <a:off x="5653080" y="2565360"/>
            <a:ext cx="3041640" cy="789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 d_n_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-30240" y="4869000"/>
            <a:ext cx="2659320" cy="793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b_dr_ _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132000" y="4941720"/>
            <a:ext cx="266544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_rd_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156360" y="4941720"/>
            <a:ext cx="2663640" cy="792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b_thr_ _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39640" y="2637000"/>
            <a:ext cx="9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 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708360" y="270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     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6300720" y="2709720"/>
            <a:ext cx="9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 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539640" y="5013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   o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3635280" y="5013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   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661080" y="50864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     o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1656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Let's 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5480" y="907560"/>
            <a:ext cx="849924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ving room ,liv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's a living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s there a living r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s there a living roo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your new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your new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es ,Yes,ther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No,there is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919080" y="574524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你会用其它词替换吗？试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-2088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ake phrases: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让我们组个词吧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260360" y="69192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m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home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的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ur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my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ew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的新家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ur new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ou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home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们的家：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your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ew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们的新家：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们的新家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your new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187280" y="44370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的卧室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y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044720" y="537372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两个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卧室：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wo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edroom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187280" y="5805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在卧室：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the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187280" y="4869000"/>
            <a:ext cx="41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卧室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 bed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背景2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矩形 17" descr=""/>
          <p:cNvPicPr/>
          <p:nvPr/>
        </p:nvPicPr>
        <p:blipFill>
          <a:blip r:embed="rId2"/>
          <a:stretch/>
        </p:blipFill>
        <p:spPr>
          <a:xfrm>
            <a:off x="2305080" y="2505240"/>
            <a:ext cx="4668840" cy="113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3:54:05Z</dcterms:created>
  <dc:creator/>
  <dc:description/>
  <dc:language>en-US</dc:language>
  <cp:lastModifiedBy/>
  <dcterms:modified xsi:type="dcterms:W3CDTF">2016-12-28T00:54:14Z</dcterms:modified>
  <cp:revision>1</cp:revision>
  <dc:subject/>
  <dc:title/>
</cp:coreProperties>
</file>