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606B-B9B3-412B-BF6F-5A148EC1EAF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784-5DBD-418C-A256-225C2B56858F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35A-16FF-41DD-958A-B9C82FBE143C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BD18-5BDC-40C0-86E7-DFBCAAAAD484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1BD-D3A3-4181-858A-840F1FB26EFD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A8E-B2B7-4695-85F5-404478A8F703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FA0-1698-4F2C-B268-6E376AE3EA74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610-7DF3-48C7-A702-501D1CA0C606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96C-6A51-41C4-B776-34F5F9848F91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6BCC-BC4A-4A43-A092-5EAE84426B16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353-854E-4A5D-96A6-28CBE4F55AC3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86F-703F-4B51-B4F8-AA9EF9025C20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21D-C315-41DA-94A2-5F25E6915D54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C0F-08B4-4AD2-936C-958027DBEFA3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063-48FB-452C-91ED-2D5CD86E777A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9D5B-A2B7-4B1B-9F7F-FC9BA2080C90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A4C-E7BF-4E52-A1F8-E20616F379EE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6C0-E45C-4A86-ABA1-AF0EF733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9E0-A24D-45C4-8E99-1A716BD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A83-C906-4236-B4DE-63B7505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B20-8D0A-4690-A95D-4627C64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A50-13EE-4FC6-BDC8-BE232346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56CA-83EE-4B55-B8A1-B3F8D1FE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900-ED2D-4706-A1E6-E30E562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5EB-1BE5-48FD-BB03-6175D8C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5DB-0369-4A39-9B80-238F6F52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6902-45E2-47A5-A38C-2CA5AFA7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278-1A33-41DC-B335-64247F0A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441-0DAA-4495-A0D5-A61CD1F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AC4-32BA-4DAD-A8D2-5B0E235A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AC6-794C-4CEF-98ED-11E985C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F2C-78F2-4C74-B57F-EF9AE960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D5D0-BBED-4FA2-8F64-B1498E3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D193-0ED3-4A1B-82A7-24A9E9F1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C9CC-1158-4531-BFB3-CBBEA555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5BA0-6CCF-4EC5-9ECA-1115F2E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F97B-504F-42D8-BCAA-DEDC81B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E087-6A60-4070-A3B8-F69F247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A2BE-C3B8-4C29-8C9D-14D3CE1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D77-1D13-46F8-93C8-18A3FEC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4F8E-490C-4485-B989-82C04293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2CAA-7FC8-4E22-9B35-B73F4E3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EFE-395F-4335-8B3E-932239B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0C41-DA6F-4C36-A304-DF8B874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904C-F729-42C6-9D2F-053CAD7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3D15-F311-40D3-9555-20696B91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36A0-430D-4353-AB13-0E3DF744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621B-49C8-4697-8D93-3960D51C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4992-3FFF-45BA-A785-58CC268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D16E-C9B3-4553-ADF9-27AB93C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02C-C9C2-4AC5-B25A-BC749DB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F2DC-321D-4CAD-BE96-0588BE4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57FC-44AF-4AE3-9E8A-612BBDE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1B89-798F-43FD-9506-7B426946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946E-B139-4EF1-AB3F-E242C4E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C166-D6E6-427A-BC9E-183C7CE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E37B-8906-4B26-A38C-B7D172A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1AB6-0B3F-4004-B35D-B7A31D5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03F2-94A6-4DA9-8F5A-293E2C9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2B67-692C-4A35-9694-A13E2D2B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EFA-F5BA-4124-859F-94745F3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976-F667-48BA-BEF8-6EAA80A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F6A-10F0-4731-8866-38A4B80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392-00B4-4956-8BF4-C4C3BF7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AB-7CAA-4176-B2B4-9E085B5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B1E9-7349-4C2C-A321-1914F519B77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5EA6-96A3-4259-AA0A-B5264423C5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64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65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6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6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6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3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3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37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7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7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8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81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82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3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4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5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6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7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8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89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0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1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2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3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4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5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FC98-248D-4841-9C1A-1B710579AC5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4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4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5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5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45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5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5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5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5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05EA-26A7-4FCA-B3F5-8D2ACAE207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0" y="5589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nit 3  Bank or Beach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3" name="Picture 13" descr="沙滩2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银行"/>
          <p:cNvPicPr/>
          <p:nvPr/>
        </p:nvPicPr>
        <p:blipFill>
          <a:blip r:embed="rId2"/>
          <a:srcRect l="0" t="0" r="0" b="4432"/>
          <a:stretch/>
        </p:blipFill>
        <p:spPr>
          <a:xfrm>
            <a:off x="0" y="0"/>
            <a:ext cx="4444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中国餐馆1"/>
          <p:cNvPicPr/>
          <p:nvPr/>
        </p:nvPicPr>
        <p:blipFill>
          <a:blip r:embed="rId1"/>
          <a:stretch/>
        </p:blipFill>
        <p:spPr>
          <a:xfrm>
            <a:off x="1619280" y="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395280" y="59500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a restaurant  </a:t>
            </a:r>
            <a:r>
              <a:rPr b="0" lang="zh-CN" sz="4000" spc="-1" strike="noStrike">
                <a:solidFill>
                  <a:srgbClr val="ff3300"/>
                </a:solidFill>
                <a:latin typeface="Arial Black"/>
              </a:rPr>
              <a:t>一家餐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中国餐馆"/>
          <p:cNvPicPr/>
          <p:nvPr/>
        </p:nvPicPr>
        <p:blipFill>
          <a:blip r:embed="rId1"/>
          <a:srcRect l="0" t="0" r="0" b="4783"/>
          <a:stretch/>
        </p:blipFill>
        <p:spPr>
          <a:xfrm>
            <a:off x="826920" y="0"/>
            <a:ext cx="8045640" cy="52149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755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</a:rPr>
              <a:t>一个中国餐馆</a:t>
            </a:r>
            <a:r>
              <a:rPr b="0" lang="zh-CN" sz="3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851280" y="5805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a Chinese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 restaura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日式餐馆"/>
          <p:cNvPicPr/>
          <p:nvPr/>
        </p:nvPicPr>
        <p:blipFill>
          <a:blip r:embed="rId1"/>
          <a:srcRect l="0" t="0" r="0" b="4058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468360" y="566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e103"/>
                </a:solidFill>
                <a:latin typeface="Arial Black"/>
              </a:rPr>
              <a:t>一个日式料理餐馆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348000" y="5734080"/>
            <a:ext cx="57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 Japanese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restaur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</a:rPr>
              <a:t>（</a:t>
            </a: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Sushi</a:t>
            </a:r>
            <a:r>
              <a:rPr b="0" lang="zh-CN" sz="3200" spc="-1" strike="noStrike">
                <a:solidFill>
                  <a:srgbClr val="ffe103"/>
                </a:solidFill>
                <a:latin typeface="Arial Black"/>
              </a:rPr>
              <a:t>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公园2"/>
          <p:cNvPicPr/>
          <p:nvPr/>
        </p:nvPicPr>
        <p:blipFill>
          <a:blip r:embed="rId1"/>
          <a:srcRect l="0" t="0" r="0" b="5790"/>
          <a:stretch/>
        </p:blipFill>
        <p:spPr>
          <a:xfrm>
            <a:off x="539640" y="0"/>
            <a:ext cx="8604360" cy="5786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黄石公园"/>
          <p:cNvPicPr/>
          <p:nvPr/>
        </p:nvPicPr>
        <p:blipFill>
          <a:blip r:embed="rId2"/>
          <a:stretch/>
        </p:blipFill>
        <p:spPr>
          <a:xfrm>
            <a:off x="0" y="0"/>
            <a:ext cx="8820000" cy="58802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826920" y="63388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a park  </a:t>
            </a:r>
            <a:r>
              <a:rPr b="0" lang="zh-CN" sz="3200" spc="-1" strike="noStrike">
                <a:solidFill>
                  <a:srgbClr val="ff3300"/>
                </a:solidFill>
                <a:latin typeface="Arial Black"/>
              </a:rPr>
              <a:t>一个公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超级市场"/>
          <p:cNvPicPr/>
          <p:nvPr/>
        </p:nvPicPr>
        <p:blipFill>
          <a:blip r:embed="rId1"/>
          <a:srcRect l="0" t="0" r="0" b="15375"/>
          <a:stretch/>
        </p:blipFill>
        <p:spPr>
          <a:xfrm>
            <a:off x="1692360" y="2855880"/>
            <a:ext cx="7451640" cy="39308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250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a supermarket </a:t>
            </a:r>
            <a:r>
              <a:rPr b="0" lang="zh-CN" sz="3200" spc="-1" strike="noStrike">
                <a:solidFill>
                  <a:srgbClr val="ff3300"/>
                </a:solidFill>
                <a:latin typeface="Arial Black"/>
              </a:rPr>
              <a:t>一个超级市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1" name="Picture 6" descr="超级市场b"/>
          <p:cNvPicPr/>
          <p:nvPr/>
        </p:nvPicPr>
        <p:blipFill>
          <a:blip r:embed="rId2"/>
          <a:srcRect l="0" t="7969" r="0" b="9359"/>
          <a:stretch/>
        </p:blipFill>
        <p:spPr>
          <a:xfrm>
            <a:off x="1643040" y="2214720"/>
            <a:ext cx="7488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沙滩2"/>
          <p:cNvPicPr/>
          <p:nvPr/>
        </p:nvPicPr>
        <p:blipFill>
          <a:blip r:embed="rId1"/>
          <a:stretch/>
        </p:blipFill>
        <p:spPr>
          <a:xfrm>
            <a:off x="2843280" y="0"/>
            <a:ext cx="645804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524880" y="5493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 beach</a:t>
            </a:r>
            <a:r>
              <a:rPr b="0" lang="zh-CN" sz="2400" spc="-1" strike="noStrike">
                <a:solidFill>
                  <a:srgbClr val="ff3300"/>
                </a:solidFill>
                <a:latin typeface="Arial Black"/>
              </a:rPr>
              <a:t>一个海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4" name="Picture 7" descr="海滩"/>
          <p:cNvPicPr/>
          <p:nvPr/>
        </p:nvPicPr>
        <p:blipFill>
          <a:blip r:embed="rId2"/>
          <a:srcRect l="0" t="0" r="0" b="6878"/>
          <a:stretch/>
        </p:blipFill>
        <p:spPr>
          <a:xfrm>
            <a:off x="1000080" y="2017800"/>
            <a:ext cx="8317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看谁记忆好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an remember bes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250920" y="1989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a movie the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5003640" y="1916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一个电影院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250920" y="3068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a supermarke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4427640" y="321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 Black"/>
              </a:rPr>
              <a:t>一个超级市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250920" y="4005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a swimming po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4427640" y="422100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 Black"/>
              </a:rPr>
              <a:t>一个游泳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179280" y="5084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a      ban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4284720" y="508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 Black"/>
              </a:rPr>
              <a:t>一间银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2268360" y="602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a hospit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4859280" y="595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一家医院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7"/>
          <p:cNvSpPr/>
          <p:nvPr/>
        </p:nvSpPr>
        <p:spPr>
          <a:xfrm>
            <a:off x="2629080" y="1515960"/>
            <a:ext cx="453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8" descr="电影院2"/>
          <p:cNvPicPr/>
          <p:nvPr/>
        </p:nvPicPr>
        <p:blipFill>
          <a:blip r:embed="rId1"/>
          <a:stretch/>
        </p:blipFill>
        <p:spPr>
          <a:xfrm>
            <a:off x="0" y="0"/>
            <a:ext cx="6877080" cy="45799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580536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 movie theater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个电影院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5" descr=""/>
          <p:cNvPicPr/>
          <p:nvPr/>
        </p:nvPicPr>
        <p:blipFill>
          <a:blip r:embed="rId1"/>
          <a:srcRect l="20689" t="8894" r="21299" b="42882"/>
          <a:stretch/>
        </p:blipFill>
        <p:spPr>
          <a:xfrm rot="1188000">
            <a:off x="7740360" y="498636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电影院"/>
          <p:cNvPicPr/>
          <p:nvPr/>
        </p:nvPicPr>
        <p:blipFill>
          <a:blip r:embed="rId2"/>
          <a:srcRect l="0" t="0" r="0" b="5516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0"/>
          <p:cNvSpPr/>
          <p:nvPr/>
        </p:nvSpPr>
        <p:spPr>
          <a:xfrm>
            <a:off x="179280" y="5516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big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vie theat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一个大的电影院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泳池"/>
          <p:cNvPicPr/>
          <p:nvPr/>
        </p:nvPicPr>
        <p:blipFill>
          <a:blip r:embed="rId1"/>
          <a:srcRect l="0" t="5296" r="0" b="0"/>
          <a:stretch/>
        </p:blipFill>
        <p:spPr>
          <a:xfrm>
            <a:off x="2266920" y="0"/>
            <a:ext cx="6877080" cy="510696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2411280" y="57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swimming pool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游泳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泳池2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539640" y="5059440"/>
            <a:ext cx="73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hat  are they do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y‘r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wimming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in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wimming poo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医院2"/>
          <p:cNvPicPr/>
          <p:nvPr/>
        </p:nvPicPr>
        <p:blipFill>
          <a:blip r:embed="rId1"/>
          <a:srcRect l="0" t="0" r="0" b="5313"/>
          <a:stretch/>
        </p:blipFill>
        <p:spPr>
          <a:xfrm>
            <a:off x="0" y="0"/>
            <a:ext cx="8459640" cy="542916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5"/>
          <p:cNvSpPr/>
          <p:nvPr/>
        </p:nvSpPr>
        <p:spPr>
          <a:xfrm>
            <a:off x="2556000" y="580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  hospital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家医院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Picture 6" descr="医院"/>
          <p:cNvPicPr/>
          <p:nvPr/>
        </p:nvPicPr>
        <p:blipFill>
          <a:blip r:embed="rId2"/>
          <a:srcRect l="0" t="0" r="0" b="22399"/>
          <a:stretch/>
        </p:blipFill>
        <p:spPr>
          <a:xfrm>
            <a:off x="0" y="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6" descr="银行"/>
          <p:cNvPicPr/>
          <p:nvPr/>
        </p:nvPicPr>
        <p:blipFill>
          <a:blip r:embed="rId1"/>
          <a:srcRect l="0" t="0" r="0" b="4895"/>
          <a:stretch/>
        </p:blipFill>
        <p:spPr>
          <a:xfrm>
            <a:off x="250920" y="0"/>
            <a:ext cx="8713800" cy="54291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3419640" y="5950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    bank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间银行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0" name="Picture 9" descr="银行2"/>
          <p:cNvPicPr/>
          <p:nvPr/>
        </p:nvPicPr>
        <p:blipFill>
          <a:blip r:embed="rId2"/>
          <a:srcRect l="0" t="0" r="0" b="4436"/>
          <a:stretch/>
        </p:blipFill>
        <p:spPr>
          <a:xfrm>
            <a:off x="1332000" y="0"/>
            <a:ext cx="7812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Miss Lao say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I like bank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?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（为什么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cause there  is much money in a bank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（因为银行里面有很多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money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）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3" name="Picture 6" descr="数钱"/>
          <p:cNvPicPr/>
          <p:nvPr/>
        </p:nvPicPr>
        <p:blipFill>
          <a:blip r:embed="rId1"/>
          <a:stretch/>
        </p:blipFill>
        <p:spPr>
          <a:xfrm>
            <a:off x="6516720" y="450864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钱"/>
          <p:cNvPicPr/>
          <p:nvPr/>
        </p:nvPicPr>
        <p:blipFill>
          <a:blip r:embed="rId2"/>
          <a:stretch/>
        </p:blipFill>
        <p:spPr>
          <a:xfrm>
            <a:off x="1258920" y="4221000"/>
            <a:ext cx="4392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购物中心2"/>
          <p:cNvPicPr/>
          <p:nvPr/>
        </p:nvPicPr>
        <p:blipFill>
          <a:blip r:embed="rId1"/>
          <a:stretch/>
        </p:blipFill>
        <p:spPr>
          <a:xfrm>
            <a:off x="1654200" y="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购物中心"/>
          <p:cNvPicPr/>
          <p:nvPr/>
        </p:nvPicPr>
        <p:blipFill>
          <a:blip r:embed="rId2"/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971640" y="602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a shopping mall  </a:t>
            </a:r>
            <a:r>
              <a:rPr b="0" lang="zh-CN" sz="3600" spc="-1" strike="noStrike">
                <a:solidFill>
                  <a:srgbClr val="ff3300"/>
                </a:solidFill>
                <a:latin typeface="Arial Black"/>
              </a:rPr>
              <a:t>一个购物中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02:17Z</dcterms:created>
  <dc:creator/>
  <dc:description/>
  <dc:language>en-US</dc:language>
  <cp:lastModifiedBy/>
  <dcterms:modified xsi:type="dcterms:W3CDTF">2016-12-28T01:02:19Z</dcterms:modified>
  <cp:revision>1</cp:revision>
  <dc:subject/>
  <dc:title/>
</cp:coreProperties>
</file>